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7780000" cy="1333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567-CAFA-4BCD-A99A-F4AEEEA5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EEA-0823-4E96-83E9-E764809F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72A-2DF5-41E9-B2B4-52F5EBBB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9928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0936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884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29928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70936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F8A-BC7C-420E-B415-AFB4E3E8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AEB-8EDD-4C8E-B1F9-9A95B910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C50-18DE-4992-84E5-65CB953F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18F-C111-4840-A6E1-18186ACA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031-3C68-4A76-943F-3F1E7B1B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840" y="533160"/>
            <a:ext cx="16002000" cy="103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A53-F72D-41AE-889C-73AEC15A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BB0-32CD-4CF6-9128-AFAA24CD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5AA-8001-4BEE-8598-D729886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421-646A-4AA8-87A5-231DB47C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8480" y="12142440"/>
            <a:ext cx="4148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5000" y="12142440"/>
            <a:ext cx="5629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742920" y="12142440"/>
            <a:ext cx="41479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6276-77D5-45A1-A286-CCAE81C1A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00:25:46Z</dcterms:created>
  <dc:creator> </dc:creator>
  <dc:description/>
  <dc:language>en-US</dc:language>
  <cp:lastModifiedBy> </cp:lastModifiedBy>
  <dcterms:modified xsi:type="dcterms:W3CDTF">2007-12-31T00:25:56Z</dcterms:modified>
  <cp:revision>1</cp:revision>
  <dc:subject/>
  <dc:title>Slide 1</dc:title>
</cp:coreProperties>
</file>