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7780000" cy="1333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576-E6B7-4D13-9E7B-EFB1E0BB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8840" y="77086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729-D830-4FA0-8587-50759B2D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08856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0FB-454B-4C45-A20F-F766971E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9928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0936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884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29928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70936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DCC-20C1-47E7-BC05-52F449C3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7AF-17A5-4ED8-9ECF-DDCA5522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072-6D70-4432-994C-228A5274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305-4FE9-4860-8DE2-7750F2BD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138-8059-4DE4-8286-C02984A6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8840" y="533160"/>
            <a:ext cx="16002000" cy="103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BF4-90FF-4AD9-9A9A-B6B371B1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E2E-4822-421B-8CF6-D9A23BEA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8856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37E3-710C-4451-ACEE-97DE69EB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EA82-522D-4582-B9CA-5FB9311A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8480" y="12142440"/>
            <a:ext cx="41482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75000" y="12142440"/>
            <a:ext cx="5629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742920" y="12142440"/>
            <a:ext cx="41479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D601-959C-4199-948C-09B404199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00:25:46Z</dcterms:created>
  <dc:creator> </dc:creator>
  <dc:description/>
  <dc:language>en-US</dc:language>
  <cp:lastModifiedBy> </cp:lastModifiedBy>
  <dcterms:modified xsi:type="dcterms:W3CDTF">2007-12-31T00:25:56Z</dcterms:modified>
  <cp:revision>1</cp:revision>
  <dc:subject/>
  <dc:title>Slide 1</dc:title>
</cp:coreProperties>
</file>