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7780000" cy="1333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411-A62D-4D76-9329-16A37F97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88A-F208-4F85-9856-77AE6D45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173-D443-4E15-9A87-DAC93E6D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9928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936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9928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70936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747-73CE-4BF8-9C89-6DD7DBF7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4C9-2A9A-4213-97BF-B05DDD79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A4F-2A3A-4276-80F3-AD3AE0E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BA4-CBDB-4FC2-B557-6D90AB70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B12-FDF8-4E88-B9E6-58621FE5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160"/>
            <a:ext cx="16002000" cy="103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440-CDF7-4065-8A3B-E345F13E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6A4-3D45-4C87-92A4-6FECC2E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8AB-E17E-46BB-AFC7-280B5DC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05F-5EB6-43FD-AB06-1E51E9A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8480" y="12142440"/>
            <a:ext cx="4148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5000" y="12142440"/>
            <a:ext cx="5629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742920" y="12142440"/>
            <a:ext cx="4147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D4D0-1132-4E77-A414-8846ABA4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0:25:46Z</dcterms:created>
  <dc:creator> </dc:creator>
  <dc:description/>
  <dc:language>en-US</dc:language>
  <cp:lastModifiedBy> </cp:lastModifiedBy>
  <dcterms:modified xsi:type="dcterms:W3CDTF">2007-12-31T00:25:56Z</dcterms:modified>
  <cp:revision>1</cp:revision>
  <dc:subject/>
  <dc:title>Slide 1</dc:title>
</cp:coreProperties>
</file>