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7780000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803-5CA9-40F2-993B-106CD1D5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FC9-FC1D-4983-A754-D05C2817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DE9-5BEA-4C9E-9433-DD65DDBA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9928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936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9928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70936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76B-693D-4354-8988-E265A96C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5F9-C9CA-42B2-B761-FA88438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C35-4E3C-4C65-BD23-D69BB96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AD4-0904-4F21-A1BE-DCEA472A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EAA-818A-4628-9DF3-5FCF9FFF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160"/>
            <a:ext cx="16002000" cy="10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71C-237B-4AE3-9A5B-BC10D27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22A-600A-453E-999C-E1347FC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4F4-AC5B-4945-A199-5F7747B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78A-7259-43F4-BB08-EE1B22D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8480" y="12142440"/>
            <a:ext cx="4148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5000" y="12142440"/>
            <a:ext cx="5629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742920" y="12142440"/>
            <a:ext cx="4147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ECA5-8601-4C64-BE83-048054D5E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0:25:46Z</dcterms:created>
  <dc:creator> </dc:creator>
  <dc:description/>
  <dc:language>en-US</dc:language>
  <cp:lastModifiedBy> </cp:lastModifiedBy>
  <dcterms:modified xsi:type="dcterms:W3CDTF">2007-12-31T00:25:56Z</dcterms:modified>
  <cp:revision>1</cp:revision>
  <dc:subject/>
  <dc:title>Slide 1</dc:title>
</cp:coreProperties>
</file>