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17780000" cy="13335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9D7D-086B-4A2E-9A08-483D50318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88840" y="533160"/>
            <a:ext cx="16002000" cy="222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88840" y="3111480"/>
            <a:ext cx="16002000" cy="41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88840" y="7708680"/>
            <a:ext cx="16002000" cy="41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2BA1-42D3-48D6-AB30-80777E279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88840" y="533160"/>
            <a:ext cx="16002000" cy="222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88840" y="3111480"/>
            <a:ext cx="7808760" cy="41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088560" y="3111480"/>
            <a:ext cx="7808760" cy="41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88840" y="7708680"/>
            <a:ext cx="7808760" cy="41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9088560" y="7708680"/>
            <a:ext cx="7808760" cy="41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AD17-BD93-4E91-96D9-BC7E10971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88840" y="533160"/>
            <a:ext cx="16002000" cy="222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88840" y="3111480"/>
            <a:ext cx="5152320" cy="41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299280" y="3111480"/>
            <a:ext cx="5152320" cy="41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1709360" y="3111480"/>
            <a:ext cx="5152320" cy="41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88840" y="7708680"/>
            <a:ext cx="5152320" cy="41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6299280" y="7708680"/>
            <a:ext cx="5152320" cy="41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1709360" y="7708680"/>
            <a:ext cx="5152320" cy="41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41B6-EDA5-4988-9EF0-C06FC7770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88840" y="533160"/>
            <a:ext cx="16002000" cy="222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88840" y="3111480"/>
            <a:ext cx="16002000" cy="880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D6B3-B6AF-47B2-9AC3-DD259E74D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88840" y="533160"/>
            <a:ext cx="16002000" cy="222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88840" y="3111480"/>
            <a:ext cx="16002000" cy="88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113E-C3C2-48D5-AEB6-534061BCD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88840" y="533160"/>
            <a:ext cx="16002000" cy="222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88840" y="3111480"/>
            <a:ext cx="7808760" cy="88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9088560" y="3111480"/>
            <a:ext cx="7808760" cy="88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E1E9-CAC8-424B-99AF-4E533C538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88840" y="533160"/>
            <a:ext cx="16002000" cy="222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AD65-EC73-4D8C-AE44-5CB95DA06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88840" y="533160"/>
            <a:ext cx="16002000" cy="1030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A1A6-F867-452B-A427-A8F873E1D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88840" y="533160"/>
            <a:ext cx="16002000" cy="222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88840" y="3111480"/>
            <a:ext cx="7808760" cy="41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9088560" y="3111480"/>
            <a:ext cx="7808760" cy="88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88840" y="7708680"/>
            <a:ext cx="7808760" cy="41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CCEF-981F-4063-A5FB-F1AEDAC2E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88840" y="533160"/>
            <a:ext cx="16002000" cy="222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88840" y="3111480"/>
            <a:ext cx="7808760" cy="88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9088560" y="3111480"/>
            <a:ext cx="7808760" cy="41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088560" y="7708680"/>
            <a:ext cx="7808760" cy="41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B34A-12A0-4D3D-A1E5-63C763E66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88840" y="533160"/>
            <a:ext cx="16002000" cy="222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88840" y="3111480"/>
            <a:ext cx="7808760" cy="41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9088560" y="3111480"/>
            <a:ext cx="7808760" cy="41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88840" y="7708680"/>
            <a:ext cx="16002000" cy="41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EFB6-B81A-49A5-B48A-1DCA3B3D1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88840" y="533160"/>
            <a:ext cx="16002000" cy="222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88840" y="3111480"/>
            <a:ext cx="16002000" cy="88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88480" y="12142440"/>
            <a:ext cx="414828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75000" y="12142440"/>
            <a:ext cx="56293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2742920" y="12142440"/>
            <a:ext cx="41479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423F6-B27F-41AF-91B4-104D8F0F84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780040" cy="133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780040" cy="133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780040" cy="133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780040" cy="133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780040" cy="133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780040" cy="133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780040" cy="133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780040" cy="133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780040" cy="133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780040" cy="133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780040" cy="133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780040" cy="133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780040" cy="133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780040" cy="133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780040" cy="133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780040" cy="133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780040" cy="133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780040" cy="133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780040" cy="133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780040" cy="133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780040" cy="133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780040" cy="133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780040" cy="133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780040" cy="133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780040" cy="133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780040" cy="133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31T00:25:46Z</dcterms:created>
  <dc:creator> </dc:creator>
  <dc:description/>
  <dc:language>en-US</dc:language>
  <cp:lastModifiedBy> </cp:lastModifiedBy>
  <dcterms:modified xsi:type="dcterms:W3CDTF">2007-12-31T00:25:56Z</dcterms:modified>
  <cp:revision>1</cp:revision>
  <dc:subject/>
  <dc:title>Slide 1</dc:title>
</cp:coreProperties>
</file>