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7780000" cy="1333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E13-752C-4970-B4FB-29297F9A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8840" y="77086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1C9-1DB7-4542-BB5E-FA0602E8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08856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22A-15EE-43DD-93B2-1461F51D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9928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09360" y="31114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884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29928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709360" y="7708680"/>
            <a:ext cx="515232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0D5C-3A5A-4D15-9BC0-5F31D283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CA2-B3CA-49D4-A303-E8958C2A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5DC-2E4F-476E-9B89-219CCAC9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80C-2F27-4D8F-9B48-5F40951E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56F-0FCE-4B40-AD29-C05A8996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8840" y="533160"/>
            <a:ext cx="16002000" cy="103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E6B-5159-4A8E-AF8B-440FEEE3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59E-5144-4F20-93ED-A4A100C3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88560" y="77086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7E7-29A3-459C-B780-EDC55B79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884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088560" y="3111480"/>
            <a:ext cx="780876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8840" y="7708680"/>
            <a:ext cx="16002000" cy="41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1AE-8B24-404B-8337-B62F7DE1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533160"/>
            <a:ext cx="160020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111480"/>
            <a:ext cx="16002000" cy="88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88480" y="12142440"/>
            <a:ext cx="41482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75000" y="12142440"/>
            <a:ext cx="5629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742920" y="12142440"/>
            <a:ext cx="41479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BEEA-CDA9-4890-B397-49F9E0615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80040" cy="133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00:25:46Z</dcterms:created>
  <dc:creator> </dc:creator>
  <dc:description/>
  <dc:language>en-US</dc:language>
  <cp:lastModifiedBy> </cp:lastModifiedBy>
  <dcterms:modified xsi:type="dcterms:W3CDTF">2007-12-31T00:25:56Z</dcterms:modified>
  <cp:revision>1</cp:revision>
  <dc:subject/>
  <dc:title>Slide 1</dc:title>
</cp:coreProperties>
</file>