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04D5-6965-4EED-ABC1-CB404BF8A2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292A-127A-48F6-86C1-DB4915800B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demand, capitalism, entrepreneurship, triangles, alliterations, vertebrates or invertebrates, etc. Include illustrations wherever possibl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lace to log review information for important concepts throughout the year, prior to taking the “high stakes” test, AP test, or final exam. Students add to it throughout the year and even from year to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udents post KWL entries and continue adding questions that occur to them as the unit progresses. As other students add their “answers,” the wiki will evolve into a student-created guide to the topic.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82FA-7146-4CF3-9DA1-29675F6916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explorers or state history – to be continued and added to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mination of a unit of study: Our (non) trip to the Capital and what we (wish) we s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8338-00C5-4E5D-8AB1-B695126849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great way to see the different approaches to the sa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rite about and illustrate places where they actually used math to solve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explain the steps to a mathematical procedure, such as factoring a polynomial or converting a decimal to a f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AC19-5AEA-43E9-A4AF-13484D34A2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iginal digital photos or those from other online Creative Commons sources, such as Flickr). Linking to separate pages with detailed information would allow the main glossary list to remain reasonably sh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water-testing in local streams, weather observations from across your state, or bird counts during migratory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8F38-6E98-4902-9541-20C5AEC70A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a bill becomes a law,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ose in your community who served in the military. Interview them and photograph them, including both their accounts and your students’ documentation and personal reflections on the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1EC6-2DC7-4C03-A76E-6D99954731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xt students to come to your middle or high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rticles on consumer issues and warnings, including the local mall, area businesses, even cell phone plans. This is great for middle schoolers learning about consumer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 on good/bad places to work and wh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0D0CB-E601-409C-B9E3-1CFE700BF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672AE-84A8-4E6F-BE0C-E3EA32154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4BC6D-4109-4BF9-8C3A-E68736061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AD1E6-DF27-4EF1-AC07-FAA7E8714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45E84-9376-4383-925C-193CE9288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A7217-5D31-42BD-ACD8-F366B8222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1CF41-6223-40A3-8956-90AA12FDA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BBE92-E493-4D2B-B38C-0F58AF45E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3CE58-C5C0-4796-9277-684BDECEB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A33AC-2244-4659-B575-9882EB243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81A2E-5297-4088-BA48-BA74E410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70E41-E835-4CDA-B893-BEFDE4B3B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BF3D1-B835-4CF5-A5CD-B79ED1BCD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D9E13-783D-49CE-A419-C256DBD90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4F490-5397-4F92-8CB9-21BA92D1D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729A3-4C8D-4014-BA33-514CD1E17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2EAED-C48B-4322-9F20-68F5A2D77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5CAC-22A6-4D32-BFC9-34E331AE3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13F9-B000-4B29-926C-20BBACFE4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07CE3-7182-4EF8-8AB5-519AFB83A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AE1D3-4DFE-467F-8DBA-55AD09C51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AB10-ECFC-4ED2-9B79-E9208AA2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9A2C-7181-4FA3-99FB-154CA34C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60F6-0EA8-4028-A306-A5504EEC0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1A86-3367-4160-ACA9-887BAD6C3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EFA7-A774-441E-942B-84CCEACCA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achersfirst.com/content/wiki/wikiideas1.cf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haranbanjo.com/kidzblog" TargetMode="External"/><Relationship Id="rId2" Type="http://schemas.openxmlformats.org/officeDocument/2006/relationships/hyperlink" Target="http://thingamablog.sourceforge.ne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 Althof ~ balthof@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ndy Zuber ~ wzuber@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Keesport Area School Distric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Recent Changes</a:t>
            </a:r>
            <a:endParaRPr b="0" lang="en-US" sz="4400" spc="-1" strike="noStrike">
              <a:solidFill>
                <a:srgbClr val="221304"/>
              </a:solidFill>
              <a:latin typeface="Times New Roman"/>
            </a:endParaRPr>
          </a:p>
        </p:txBody>
      </p:sp>
      <p:pic>
        <p:nvPicPr>
          <p:cNvPr id="116"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Membership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543800" cy="1219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can be removed and blocked from the site with the click of a button.</a:t>
            </a:r>
            <a:endParaRPr b="0" lang="en-US" sz="2800" spc="-1" strike="noStrike">
              <a:solidFill>
                <a:srgbClr val="000000"/>
              </a:solidFill>
              <a:latin typeface="Times New Roman"/>
            </a:endParaRPr>
          </a:p>
        </p:txBody>
      </p:sp>
      <p:pic>
        <p:nvPicPr>
          <p:cNvPr id="119" name="Picture 4" descr=""/>
          <p:cNvPicPr/>
          <p:nvPr/>
        </p:nvPicPr>
        <p:blipFill>
          <a:blip r:embed="rId1"/>
          <a:stretch/>
        </p:blipFill>
        <p:spPr>
          <a:xfrm>
            <a:off x="1066680" y="2666880"/>
            <a:ext cx="76964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room Use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ttp://www.teachersfirst.com/content/wiki/wikiideas1.cf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ll Subjects</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guides made by student groups for themselves and peers:</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lists and examples of the words in use.</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collection of EXAMPLES from the non-school world for anything. </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Think Will Be on the Test</a:t>
            </a:r>
            <a:endParaRPr b="0" lang="en-US" sz="3200" spc="-1" strike="noStrike">
              <a:solidFill>
                <a:srgbClr val="000000"/>
              </a:solidFill>
              <a:latin typeface="Times New Roman"/>
            </a:endParaRPr>
          </a:p>
          <a:p>
            <a:pPr marL="318960" indent="-318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FAQ (or NSFAQ- Not So Frequently Asked Questions) wiki on your current unit top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lementary</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virtual libra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ary class “encyclopedia” on a special topi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velogue from a field trip or NON- field trip that the class would have liked to tak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ki “fan club” for you favorite auth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th</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culus wiki for those wicked-long problems so the class can collaborate on how to solv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eometry wiki for students to share and rewrite proof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d math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cienc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made glossary of scientific terms with illustrations and definitions added by the clas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xonomy of living things with information about each branch as you study Biology over a full year.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of experiments (and resulting lab reports) for a chemistry class.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 from field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cial Studies</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llection of propaganda examples during a propaganda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nd illustrated descriptions of governmental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history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the-veteran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s</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irtual art gallery with ongoing criticism and responses regarding art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musical styles or musical instru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of recipes for a home ec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nutrition wiki with ideas for ways to eat healthy at local restau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eneral</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ientation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job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Wiki</a:t>
            </a:r>
            <a:endParaRPr b="0" lang="en-US" sz="4400" spc="-1" strike="noStrike">
              <a:solidFill>
                <a:srgbClr val="221304"/>
              </a:solidFill>
              <a:latin typeface="Times New Roman"/>
            </a:endParaRPr>
          </a:p>
        </p:txBody>
      </p:sp>
      <p:pic>
        <p:nvPicPr>
          <p:cNvPr id="100" name="Picture 4" descr=""/>
          <p:cNvPicPr/>
          <p:nvPr/>
        </p:nvPicPr>
        <p:blipFill>
          <a:blip r:embed="rId1"/>
          <a:stretch/>
        </p:blipFill>
        <p:spPr>
          <a:xfrm>
            <a:off x="1600200" y="3429000"/>
            <a:ext cx="6553080" cy="20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ference Docu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dictionary / glo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word /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sentences using the wo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eam Collabo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nstruct poems / speeches / other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interpre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comments and edits to classmates’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tes / Study Guid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checking notebooks, students place notes on wiki page.  This is much easier to ch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create study gu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an be easily monitored during creation to ensure key points are h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can choose which study guide to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credit? for “best” (most used) study gu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Start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udent begins a story – 10 min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then click onto a different story and continue or comple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practicing reading for meaning and writing for an au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Continu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novel, students write additional chap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ollaborate with each other’s chapter(s) for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ildren’s Stori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elementary scho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School students write a children’s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ary students read stories and create illust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ustrations are scanned and added to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es can be printed and even brought to middle school for “book sig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vel Uni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 include ima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Journal – collaborative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Po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Trai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comments directly on wik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questions – link to blo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21304"/>
                </a:solidFill>
                <a:latin typeface="Times New Roman"/>
              </a:rPr>
              <a:t>“</a:t>
            </a:r>
            <a:r>
              <a:rPr b="0" lang="en-US" sz="4000" spc="-1" strike="noStrike">
                <a:solidFill>
                  <a:srgbClr val="221304"/>
                </a:solidFill>
                <a:latin typeface="Times New Roman"/>
              </a:rPr>
              <a:t>Education is about communication.”</a:t>
            </a:r>
            <a:br>
              <a:rPr sz="4000"/>
            </a:br>
            <a:r>
              <a:rPr b="0" lang="en-U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5, a software engineer in Hawaii needed a quick way for a small group of people to collaborate in building a web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called it the Wiki Wiki Web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ki Wiki</a:t>
            </a:r>
            <a:r>
              <a:rPr b="0" lang="en-US" sz="3200" spc="-1" strike="noStrike">
                <a:solidFill>
                  <a:srgbClr val="000000"/>
                </a:solidFill>
                <a:latin typeface="Times New Roman"/>
              </a:rPr>
              <a:t> is Hawaiian for </a:t>
            </a:r>
            <a:r>
              <a:rPr b="0" i="1" lang="en-US" sz="3200" spc="-1" strike="noStrike">
                <a:solidFill>
                  <a:srgbClr val="000000"/>
                </a:solidFill>
                <a:latin typeface="Times New Roman"/>
              </a:rPr>
              <a:t>qu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8" name="PigmanTrailer_0001.wmv" descr=""/>
          <p:cNvPicPr/>
          <p:nvPr/>
        </p:nvPicPr>
        <p:blipFill>
          <a:blip r:embed="rId1"/>
          <a:stretch/>
        </p:blipFill>
        <p:spPr>
          <a:xfrm>
            <a:off x="1752480" y="131436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6232"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8"/>
                    </p:tgtEl>
                  </p:cond>
                </p:stCondLst>
                <p:childTnLst>
                  <p:par>
                    <p:cTn id="8" fill="hold">
                      <p:stCondLst>
                        <p:cond evt="onClick">
                          <p:tgtEl>
                            <p:spTgt spid="1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licies/Rules/Acceptable Use</a:t>
            </a:r>
            <a:endParaRPr b="0" lang="en-US" sz="4400" spc="-1" strike="noStrike">
              <a:solidFill>
                <a:srgbClr val="221304"/>
              </a:solidFill>
              <a:latin typeface="Times New Roman"/>
            </a:endParaRPr>
          </a:p>
        </p:txBody>
      </p:sp>
      <p:pic>
        <p:nvPicPr>
          <p:cNvPr id="160"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pic>
        <p:nvPicPr>
          <p:cNvPr id="162" name="Picture 4" descr="550379161_dfc16615c2"/>
          <p:cNvPicPr/>
          <p:nvPr/>
        </p:nvPicPr>
        <p:blipFill>
          <a:blip r:embed="rId1"/>
          <a:stretch/>
        </p:blipFill>
        <p:spPr>
          <a:xfrm>
            <a:off x="3462480" y="1219320"/>
            <a:ext cx="2744640" cy="5029200"/>
          </a:xfrm>
          <a:prstGeom prst="rect">
            <a:avLst/>
          </a:prstGeom>
          <a:ln w="0">
            <a:noFill/>
          </a:ln>
        </p:spPr>
      </p:pic>
      <p:sp>
        <p:nvSpPr>
          <p:cNvPr id="163" name="Text Box 6"/>
          <p:cNvSpPr/>
          <p:nvPr/>
        </p:nvSpPr>
        <p:spPr>
          <a:xfrm>
            <a:off x="1295280" y="6172200"/>
            <a:ext cx="744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nionblend.uniblogs.org/2007/06/15/wikis-and-blogs-whats-the-differ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Blog</a:t>
            </a:r>
            <a:endParaRPr b="0" lang="en-US" sz="4400" spc="-1" strike="noStrike">
              <a:solidFill>
                <a:srgbClr val="221304"/>
              </a:solidFill>
              <a:latin typeface="Times New Roman"/>
            </a:endParaRPr>
          </a:p>
        </p:txBody>
      </p:sp>
      <p:sp>
        <p:nvSpPr>
          <p:cNvPr id="165"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weblog" was coined by Jorn Barger on December 17, 1997.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rt form, "blog," was coined by Peter Merholz, who jokingly broke the word </a:t>
            </a:r>
            <a:r>
              <a:rPr b="0" i="1" lang="en-US" sz="3200" spc="-1" strike="noStrike">
                <a:solidFill>
                  <a:srgbClr val="000000"/>
                </a:solidFill>
                <a:latin typeface="Times New Roman"/>
              </a:rPr>
              <a:t>web-log</a:t>
            </a:r>
            <a:r>
              <a:rPr b="0" lang="en-US" sz="3200" spc="-1" strike="noStrike">
                <a:solidFill>
                  <a:srgbClr val="000000"/>
                </a:solidFill>
                <a:latin typeface="Times New Roman"/>
              </a:rPr>
              <a:t> into the phrase </a:t>
            </a:r>
            <a:r>
              <a:rPr b="0" i="1" lang="en-US" sz="3200" spc="-1" strike="noStrike">
                <a:solidFill>
                  <a:srgbClr val="000000"/>
                </a:solidFill>
                <a:latin typeface="Times New Roman"/>
              </a:rPr>
              <a:t>we blog</a:t>
            </a:r>
            <a:r>
              <a:rPr b="0" lang="en-US" sz="3200" spc="-1" strike="noStrike">
                <a:solidFill>
                  <a:srgbClr val="000000"/>
                </a:solidFill>
                <a:latin typeface="Times New Roman"/>
              </a:rPr>
              <a:t> in the sidebar of his blog Peterme.com in April or May of 199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pedia</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example is Wikipedia, an online encyclopedia that owes all of its content to people who voluntarily add and edit 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ern blog evolved from the online diary, where people would keep a running account of their personal liv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Blo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log is a web-publishing concept that enables anyone to publish information on the interne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a journalistic tool to publish news, ideas, rants, announcements, and ponderings very quickl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highly effective ways to help students to become better wri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Blog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can be grouped according to genre: political blogs, fashion blogs, educational blogs, travel blogs,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p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sp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Use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g can be private, as in most cases, or it can be for business purpo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re used internally to enhance the </a:t>
            </a:r>
            <a:r>
              <a:rPr b="0" i="1" lang="en-US" sz="3200" spc="-1" strike="noStrike">
                <a:solidFill>
                  <a:srgbClr val="000000"/>
                </a:solidFill>
                <a:latin typeface="Times New Roman"/>
              </a:rPr>
              <a:t>communication and culture </a:t>
            </a:r>
            <a:r>
              <a:rPr b="0" lang="en-US" sz="3200" spc="-1" strike="noStrike">
                <a:solidFill>
                  <a:srgbClr val="000000"/>
                </a:solidFill>
                <a:latin typeface="Times New Roman"/>
              </a:rPr>
              <a:t>in an organiz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 Education</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achers by teac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Blogs in the Classroom </a:t>
            </a:r>
            <a:br>
              <a:rPr sz="4000"/>
            </a:br>
            <a:r>
              <a:rPr b="0" lang="en-US" sz="4000" spc="-1" strike="noStrike">
                <a:solidFill>
                  <a:srgbClr val="221304"/>
                </a:solidFill>
                <a:latin typeface="Times New Roman"/>
              </a:rPr>
              <a:t>Teacher Directed</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Rationale (describing what, how, and why students will be learning wee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 Diaries (teachers and students sharing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structional Application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er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 Po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Ref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Writings (Past / Fu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Development (Reports as Rough Draf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teracy Development</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 </a:t>
            </a:r>
            <a:r>
              <a:rPr b="0" lang="en-US" sz="3200" spc="-1" strike="noStrike">
                <a:solidFill>
                  <a:srgbClr val="000000"/>
                </a:solidFill>
                <a:latin typeface="Times New Roman"/>
              </a:rPr>
              <a:t>	</a:t>
            </a:r>
            <a:r>
              <a:rPr b="0" lang="en-US" sz="3200" spc="-1" strike="noStrike">
                <a:solidFill>
                  <a:srgbClr val="000000"/>
                </a:solidFill>
                <a:latin typeface="Times New Roman"/>
              </a:rPr>
              <a:t>         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Literac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nes of Communication</a:t>
            </a:r>
            <a:endParaRPr b="0" lang="en-US" sz="4400" spc="-1" strike="noStrike">
              <a:solidFill>
                <a:srgbClr val="221304"/>
              </a:solidFill>
              <a:latin typeface="Times New Roman"/>
            </a:endParaRPr>
          </a:p>
        </p:txBody>
      </p:sp>
      <p:pic>
        <p:nvPicPr>
          <p:cNvPr id="185" name="Picture 4" descr=""/>
          <p:cNvPicPr/>
          <p:nvPr/>
        </p:nvPicPr>
        <p:blipFill>
          <a:blip r:embed="rId1"/>
          <a:stretch/>
        </p:blipFill>
        <p:spPr>
          <a:xfrm>
            <a:off x="1752480" y="2152800"/>
            <a:ext cx="6248520" cy="3314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re to Start Your Own Blog</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blogmeister.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Kidz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Thingama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Journal.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in Plain English</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Teacher Tube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AFETY</a:t>
            </a:r>
            <a:endParaRPr b="0" lang="en-US" sz="44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AUP (Acceptable Use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Wiki / Blogging tools that are password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Instructor) have ultimate contr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blog is to read, think, and write, and then read, think, and write aga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David Warlic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Class Blog Examp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lassblogmeister.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ditional Blogging Resources</a:t>
            </a: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Rub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Bas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bsites</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Blogs</a:t>
            </a:r>
            <a:endParaRPr b="0" lang="en-US" sz="4400" spc="-1" strike="noStrike">
              <a:solidFill>
                <a:srgbClr val="221304"/>
              </a:solidFill>
              <a:latin typeface="Times New Roman"/>
            </a:endParaRPr>
          </a:p>
        </p:txBody>
      </p:sp>
      <p:graphicFrame>
        <p:nvGraphicFramePr>
          <p:cNvPr id="195" name=""/>
          <p:cNvGraphicFramePr/>
          <p:nvPr/>
        </p:nvGraphicFramePr>
        <p:xfrm>
          <a:off x="1066680" y="1752480"/>
          <a:ext cx="7391520" cy="4430880"/>
        </p:xfrm>
        <a:graphic>
          <a:graphicData uri="http://schemas.openxmlformats.org/drawingml/2006/table">
            <a:tbl>
              <a:tblPr/>
              <a:tblGrid>
                <a:gridCol w="3695760"/>
                <a:gridCol w="3695760"/>
              </a:tblGrid>
              <a:tr h="90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r>
                        <a:rPr b="0" lang="en-US" sz="2000" spc="-1" strike="noStrike">
                          <a:solidFill>
                            <a:srgbClr val="000000"/>
                          </a:solidFill>
                          <a:latin typeface="Times New Roman"/>
                        </a:rPr>
                        <a:t> - For the most part websites stay the sam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r>
                        <a:rPr b="0" lang="en-US" sz="2000" spc="-1" strike="noStrike">
                          <a:solidFill>
                            <a:srgbClr val="000000"/>
                          </a:solidFill>
                          <a:latin typeface="Times New Roman"/>
                        </a:rPr>
                        <a:t> - Updated several times a week if not more oft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a bit of </a:t>
                      </a:r>
                      <a:r>
                        <a:rPr b="1" lang="en-US" sz="2000" spc="-1" strike="noStrike">
                          <a:solidFill>
                            <a:srgbClr val="000000"/>
                          </a:solidFill>
                          <a:latin typeface="Times New Roman"/>
                        </a:rPr>
                        <a:t>technical knowledge in co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coding knowledge necess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site pages are broken up by Static Pages and Categories</a:t>
                      </a:r>
                      <a:r>
                        <a:rPr b="0" lang="en-US" sz="2000" spc="-1" strike="noStrike">
                          <a:solidFill>
                            <a:srgbClr val="000000"/>
                          </a:solidFill>
                          <a:latin typeface="Times New Roman"/>
                        </a:rPr>
                        <a:t>…. Products, prices, articles, pictures, etc…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written more like a journal </a:t>
                      </a:r>
                      <a:r>
                        <a:rPr b="0" lang="en-US" sz="2000" spc="-1" strike="noStrike">
                          <a:solidFill>
                            <a:srgbClr val="000000"/>
                          </a:solidFill>
                          <a:latin typeface="Times New Roman"/>
                        </a:rPr>
                        <a:t>that is broken up by dates. Usually the most recent entry is on to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a:t>
                      </a:r>
                      <a:r>
                        <a:rPr b="1" lang="en-US" sz="2000" spc="-1" strike="noStrike">
                          <a:solidFill>
                            <a:srgbClr val="000000"/>
                          </a:solidFill>
                          <a:latin typeface="Times New Roman"/>
                        </a:rPr>
                        <a:t>Website is updated there is usually no feature that automatically notifies your readers of the up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usually setup with a RSS feed</a:t>
                      </a:r>
                      <a:r>
                        <a:rPr b="0" lang="en-US" sz="2000" spc="-1" strike="noStrike">
                          <a:solidFill>
                            <a:srgbClr val="000000"/>
                          </a:solidFill>
                          <a:latin typeface="Times New Roman"/>
                        </a:rPr>
                        <a:t> for viewers to subscribe t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6" name="Picture 32" descr="feed-icon16x16"/>
          <p:cNvPicPr/>
          <p:nvPr/>
        </p:nvPicPr>
        <p:blipFill>
          <a:blip r:embed="rId1"/>
          <a:stretch/>
        </p:blipFill>
        <p:spPr>
          <a:xfrm>
            <a:off x="5867280" y="5562720"/>
            <a:ext cx="571680" cy="57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21304"/>
                </a:solidFill>
                <a:latin typeface="Times New Roman"/>
              </a:rPr>
              <a:t>Similarities between Wikis vs. Blogs</a:t>
            </a:r>
            <a:endParaRPr b="0" lang="en-US" sz="4000" spc="-1" strike="noStrike">
              <a:solidFill>
                <a:srgbClr val="221304"/>
              </a:solidFill>
              <a:latin typeface="Times New Roman"/>
            </a:endParaRPr>
          </a:p>
        </p:txBody>
      </p:sp>
      <p:sp>
        <p:nvSpPr>
          <p:cNvPr id="1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web publishing fast and eas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written text, but also facilitate easy publishing of pictures, movies, and animation as wel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perspective: both wikis and blogs are often used as platforms for authors to interact, negotiate, and hopefully, form communities that learn and build knowledge toget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21304"/>
                </a:solidFill>
                <a:latin typeface="Times New Roman"/>
              </a:rPr>
              <a:t>Wikis        </a:t>
            </a:r>
            <a:r>
              <a:rPr b="1" i="1" lang="en-US" sz="1800" spc="-1" strike="noStrike">
                <a:solidFill>
                  <a:srgbClr val="221304"/>
                </a:solidFill>
                <a:latin typeface="Times New Roman"/>
              </a:rPr>
              <a:t>differences</a:t>
            </a:r>
            <a:r>
              <a:rPr b="1" i="1" lang="en-US" sz="3600" spc="-1" strike="noStrike">
                <a:solidFill>
                  <a:srgbClr val="221304"/>
                </a:solidFill>
                <a:latin typeface="Times New Roman"/>
              </a:rPr>
              <a:t>      Blogs</a:t>
            </a:r>
            <a:r>
              <a:rPr b="0" lang="en-US" sz="4400" spc="-1" strike="noStrike">
                <a:solidFill>
                  <a:srgbClr val="221304"/>
                </a:solidFill>
                <a:latin typeface="Times New Roman"/>
              </a:rPr>
              <a:t> </a:t>
            </a:r>
            <a:br>
              <a:rPr sz="4400"/>
            </a:br>
            <a:r>
              <a:rPr b="0" lang="en-US" sz="1200" spc="-1" strike="noStrike">
                <a:solidFill>
                  <a:srgbClr val="221304"/>
                </a:solidFill>
                <a:latin typeface="Times New Roman"/>
              </a:rPr>
              <a:t>http://ferret.bemidjistate.edu/~morgan/cgi-bin/blogsandwiki.pl?WikiAndBlog</a:t>
            </a:r>
            <a:endParaRPr b="0" lang="en-US" sz="1200" spc="-1" strike="noStrike">
              <a:solidFill>
                <a:srgbClr val="221304"/>
              </a:solidFill>
              <a:latin typeface="Times New Roman"/>
            </a:endParaRPr>
          </a:p>
        </p:txBody>
      </p:sp>
      <p:sp>
        <p:nvSpPr>
          <p:cNvPr id="200"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1" name=""/>
          <p:cNvGraphicFramePr/>
          <p:nvPr/>
        </p:nvGraphicFramePr>
        <p:xfrm>
          <a:off x="1447920" y="1371600"/>
          <a:ext cx="6858000" cy="5216400"/>
        </p:xfrm>
        <a:graphic>
          <a:graphicData uri="http://schemas.openxmlformats.org/drawingml/2006/table">
            <a:tbl>
              <a:tblPr/>
              <a:tblGrid>
                <a:gridCol w="3429000"/>
                <a:gridCol w="3429000"/>
              </a:tblGrid>
              <a:tr h="744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personal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onal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4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o collaboration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s collaborativ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vism – dependent relationship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logue with Audience Commentary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becomes webbed: situated, contextualized bu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static but contextual: situated</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ephemeral: it changes, can be changed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minantly chronological - but essays are possibl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ted: written in the topic, of the topic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written in the moment, written of the momen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Up Wiki vs. Blo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ources</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spaces.com / www.balthof.wikispaces.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lickr.com (need Yahoo i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ww.flickr.com/balthof</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ickr toy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bighugelabs.com/flick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s Movie Make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youtube.com / www.teachertube.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pedia.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Blogging by David Warlic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lassblogmeister.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Wikis</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Web Sites</a:t>
            </a:r>
            <a:endParaRPr b="0" lang="en-US" sz="4400" spc="-1" strike="noStrike">
              <a:solidFill>
                <a:srgbClr val="221304"/>
              </a:solidFill>
              <a:latin typeface="Times New Roman"/>
            </a:endParaRPr>
          </a:p>
        </p:txBody>
      </p:sp>
      <p:graphicFrame>
        <p:nvGraphicFramePr>
          <p:cNvPr id="108" name=""/>
          <p:cNvGraphicFramePr/>
          <p:nvPr/>
        </p:nvGraphicFramePr>
        <p:xfrm>
          <a:off x="1066680" y="1752480"/>
          <a:ext cx="7620120" cy="3932280"/>
        </p:xfrm>
        <a:graphic>
          <a:graphicData uri="http://schemas.openxmlformats.org/drawingml/2006/table">
            <a:tbl>
              <a:tblPr/>
              <a:tblGrid>
                <a:gridCol w="3810240"/>
                <a:gridCol w="3809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Edi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dit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Formatting Language, WYSIWY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Java, PHP</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stored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not stored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reate new pag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create new pag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tho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utho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al, Collabora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z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in Prog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Finish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Educational Theory Applying to Wikis</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vism:</a:t>
            </a:r>
            <a:r>
              <a:rPr b="0" lang="en-US" sz="3200" spc="-1" strike="noStrike">
                <a:solidFill>
                  <a:srgbClr val="000000"/>
                </a:solidFill>
                <a:latin typeface="Times New Roman"/>
              </a:rPr>
              <a:t> sees learning as a dynamic process in which learners construct new ideas or concepts on their current/past knowledge and in response to the instructional situation. Constructivism implies the notion that learners do not passively absorb information but construct it themsel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ww.wikispaces.com</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ly create and edit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hyper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 media – video / 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RSS f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Security</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dits can be tra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cent Changes” button allows you to see who is editing what page and wh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ould prefer an earlier version of a page, simply revert back to the previous ver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11-14T23:31:51Z</dcterms:modified>
  <cp:revision>13</cp:revision>
  <dc:subject/>
  <dc:title>Slide 1</dc:title>
</cp:coreProperties>
</file>