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5F28-1656-4308-8D28-F6B9E525B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2856-75F0-42A6-BEF2-79792B54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4C9C-B1E7-40E0-B3F7-E4EAE79D7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7833-6C57-4E90-8315-3B82B9774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0359-73DA-4C0F-B537-1C263B3E2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78F7-BACA-4136-B5C8-071F9D44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88CF9-78AA-45B0-A4AA-13C2934F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84A5-CBD8-4C2E-A215-C0E211EB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6924C-BA71-411B-8EA8-DCC0641E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C488-2BE7-4AFC-8246-A4F04055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40EB-AA80-4750-B98B-56A2BD42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3096-DA40-40E1-ADC8-B0F6DBCE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0E11-B578-4275-B616-1A6E3822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E3C1C-FC52-4857-B71D-998532B0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26BD-159C-48F3-8546-025FE19D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5DF9-A6ED-4C6C-9742-48C92911B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B59EE-D411-4E6C-9FE4-962383DC6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46ED-5698-42A8-A11F-DCA9D06A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B986-2831-4C8E-B66D-4688B1EB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897B-DD6D-4F3B-95E3-B38C267C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A028-EF54-4502-A66D-D1C4A60E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F11E-B0CA-428D-B200-857F2D7B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F4DC-B42C-4EA3-9BFC-9286CF82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6000-77CC-498F-8614-ED01370E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3FBF-DF83-4888-97CE-512F1BD27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F0C4-5FE1-404D-A6E5-626C53E7F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wikispaces.com/" TargetMode="External"/><Relationship Id="rId2" Type="http://schemas.openxmlformats.org/officeDocument/2006/relationships/hyperlink" Target="http://www.balthof.wikispaces.com/" TargetMode="External"/><Relationship Id="rId3" Type="http://schemas.openxmlformats.org/officeDocument/2006/relationships/hyperlink" Target="http://www.flickr.com/" TargetMode="External"/><Relationship Id="rId4" Type="http://schemas.openxmlformats.org/officeDocument/2006/relationships/hyperlink" Target="http://www.flickr.com/balthof" TargetMode="External"/><Relationship Id="rId5" Type="http://schemas.openxmlformats.org/officeDocument/2006/relationships/hyperlink" Target="http://bighugelabs.com/flickr/" TargetMode="External"/><Relationship Id="rId6" Type="http://schemas.openxmlformats.org/officeDocument/2006/relationships/hyperlink" Target="http://www.youtube.com/" TargetMode="External"/><Relationship Id="rId7" Type="http://schemas.openxmlformats.org/officeDocument/2006/relationships/hyperlink" Target="http://www.teachertube.com/" TargetMode="Externa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Using a Wik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assroom U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hildren’s S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ct elementary sch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ddle School students write a children’s s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ary students read stories and create illust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ustrations are scanned and added to s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ies can be printed and even brought to middle school for “book signing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assroom U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vel Un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cabulary – include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 Journal – collaborat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ie Po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ie Trai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ion – comments directly on wi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ion – questions – link to blo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1676520" y="-762120"/>
            <a:ext cx="12192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6232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Education is about communication.”</a:t>
            </a:r>
            <a:br>
              <a:rPr sz="4000"/>
            </a:b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995, a software engineer in Hawaii needed a quick way for a small group of people to collaborate in building a web docu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called it the Wiki Wiki We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iki Wik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Hawaiian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u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Resour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www.wikispaces.c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en-US" sz="20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www.balthof.wikispaces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0066"/>
                </a:solidFill>
                <a:uFillTx/>
                <a:latin typeface="Times New Roman"/>
                <a:hlinkClick r:id="rId3"/>
              </a:rPr>
              <a:t>www.flickr.c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need Yahoo 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0066"/>
                </a:solidFill>
                <a:uFillTx/>
                <a:latin typeface="Times New Roman"/>
                <a:hlinkClick r:id="rId4"/>
              </a:rPr>
              <a:t>www.flickr.com/balth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ckr to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0066"/>
                </a:solidFill>
                <a:uFillTx/>
                <a:latin typeface="Times New Roman"/>
                <a:hlinkClick r:id="rId5"/>
              </a:rPr>
              <a:t>http://bighugelabs.com/flickr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ows Movie Ma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0066"/>
                </a:solidFill>
                <a:uFillTx/>
                <a:latin typeface="Times New Roman"/>
                <a:hlinkClick r:id="rId6"/>
              </a:rPr>
              <a:t>www.youtube.c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en-US" sz="2000" spc="-1" strike="noStrike" u="sng">
                <a:solidFill>
                  <a:srgbClr val="660066"/>
                </a:solidFill>
                <a:uFillTx/>
                <a:latin typeface="Times New Roman"/>
                <a:hlinkClick r:id="rId7"/>
              </a:rPr>
              <a:t>www.teachertub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ikipedi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st popular example is Wikipedia, an online encyclopedia that owes all of its content to people who voluntarily add and edit artic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ww.wikispaces.co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aboratively create and edit 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 i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 hyperli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bed media – video / au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 RSS f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assroom U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ference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cabulary dictionary / gloss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word / defi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turns adding sentences using the wo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assroom u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eam Collabo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onstruct poems / speeches / other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turns adding interpret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 comments and edits to classmates’ interpre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assroom U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es / Study Gu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checking notebooks, students place notes on wiki page.  This is much easier to che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ms create study gu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can be easily monitored during creation to ensure key points are h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can choose which study guide to 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 credit? for “best” (most used) study gu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assroom U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tory St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student begins a story – 10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then click onto a different story and continue or complete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are practicing reading for meaning and writing for an aud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assroom U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tory Continu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reading novel, students write additional chapter(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collaborate with each other’s chapter(s) for improv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8T19:19:39Z</dcterms:created>
  <dc:creator>masd</dc:creator>
  <dc:description/>
  <dc:language>en-US</dc:language>
  <cp:lastModifiedBy>masd</cp:lastModifiedBy>
  <dcterms:modified xsi:type="dcterms:W3CDTF">2007-08-21T02:49:20Z</dcterms:modified>
  <cp:revision>6</cp:revision>
  <dc:subject/>
  <dc:title>Slide 1</dc:title>
</cp:coreProperties>
</file>