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631-17B7-4282-83D4-2CA6F38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A4C-DA65-4F93-913A-DAE3A794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0DC-12F7-48FA-A86B-660AE940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F9D-E51B-4E1C-BDEC-5B344444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E39E-FE99-4996-8316-2EF7AC00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05DA-9C0D-443D-BEFC-81FAEFC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3AB2-798C-46BF-99B2-FBA03C40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D21-29AE-4602-BDB2-1563D226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4940-C12C-407B-AE28-6467A89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C59-BEC0-4260-A4EA-7CFE762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6EE4-81AB-4950-BA29-420C202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22A-8721-4585-9CDF-00084E7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390C-18B8-4839-9C8F-E22DFB65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54BB-BF6B-4295-A298-C85D4D9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4F18-A1C2-4DB0-BF03-8A3D3A43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FC7-558D-400B-AADC-2BBF6AC0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5341-ABF7-4D8B-BBB6-19A889B9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02E-5ACF-4E01-9460-5827611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C89-CCEF-4091-87CD-C9321FB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241-5A34-4989-B421-8D0ECF8C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2D0-CB5D-441B-BE56-F5FD73D7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717-590F-4EA5-8C6F-DCBEB72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D5B-8925-42A7-B060-F857490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C97-5335-4C0C-9340-83BEEAC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F139-0C36-4A28-9437-E03412ADA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72B3-C892-4DF7-9FA3-3DCD01477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balthof.wikispaces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flickr.com/balthof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hyperlink" Target="http://www.youtube.com/" TargetMode="External"/><Relationship Id="rId7" Type="http://schemas.openxmlformats.org/officeDocument/2006/relationships/hyperlink" Target="http://www.teachertube.com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Using a Wik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ildren’s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elementary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School students write a children’s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 students read stories and create illus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ustrations are scanned and added to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es can be printed and even brought to middle school for “book sign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e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ulary – include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Journal – collabo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P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Tra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comments directly on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 – questions – link to b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676520" y="-762120"/>
            <a:ext cx="12192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Education is about communication.”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5, a software engineer in Hawaii needed a quick way for a small group of people to collaborate in building a web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called it the Wiki Wiki W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ki Wi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Hawaiia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www.wikispaces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balthof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www.flickr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eed Yahoo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www.flickr.com/balth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ckr to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http://bighugelabs.com/flick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Movie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www.youtub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www.teachertub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ikiped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pular example is Wikipedia, an online encyclopedia that owes all of its content to people who voluntarily add and edit art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ww.wikispaces.co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ly create and edit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hyper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media – video /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RSS f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dictionary / glo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word /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sentences using th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am Collab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poems / speeches / other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urns adding interpre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comments and edits to classmates’ interpre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es / Study Gu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checking notebooks, students place notes on wiki page.  This is much easier to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s create study gu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be easily monitored during creation to ensure key points are h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can choose which study guide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credit? for “best” (most used) study gu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St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udent begins a story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then click onto a different story and continue or complet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are practicing reading for meaning and writing for an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assroom 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Contin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reading novel, students write additional chapter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llaborate with each other’s chapter(s) for impro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9:39Z</dcterms:created>
  <dc:creator>masd</dc:creator>
  <dc:description/>
  <dc:language>en-US</dc:language>
  <cp:lastModifiedBy>masd</cp:lastModifiedBy>
  <dcterms:modified xsi:type="dcterms:W3CDTF">2007-08-21T02:49:20Z</dcterms:modified>
  <cp:revision>6</cp:revision>
  <dc:subject/>
  <dc:title>Slide 1</dc:title>
</cp:coreProperties>
</file>