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98EA-DC05-457A-B674-356C6415A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6B4B-5556-4A29-9341-F1EA0BFA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4D3C-B341-4F68-92E9-DF68CC2B4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A8D3-CA73-4082-AD6C-735B7A582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90DC-F2FF-4703-A1FA-960C5143F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B98B-565D-43CD-8BD9-A1FDEEE9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1409-0B1D-4B94-99B7-A56C388D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402FD-EBC1-44E7-9B0C-6BC81C42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17DE-8987-4EC2-A2E7-A4F05CFF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7060-33D0-46A4-8FA8-4A5E3C7D3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2A96-C8BB-4EED-AEC1-76C2E1C1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3EA9-699C-440F-B11C-2242265C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8A04-DFA1-4E02-903C-45CDA848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2E79-1ADF-4E1F-B46B-7BBAC3EE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3FC08-71FA-4DEE-B2EB-8A57026F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C420-1C87-43E2-A705-7A1133C95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F8A0-2FF1-4EA9-ADC9-216B98D0C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AD7D-AAEB-4C92-A5F1-FB48B3BF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2C30-6638-4F5E-A450-94D2D07B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2C9C-F93A-4551-9F6B-9258CF51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4619-0F98-4D38-BC3D-3B0CEC4E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5010-A62A-41DF-8CA9-1118C780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41FB-B7A9-49AC-B677-72620C5D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30DD-2D73-4758-A2EF-EB929642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6312-1859-49AE-A3CB-BE0A5D83D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0D73-2C70-4739-9049-054A47CFD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wikispaces.com/" TargetMode="External"/><Relationship Id="rId2" Type="http://schemas.openxmlformats.org/officeDocument/2006/relationships/hyperlink" Target="http://www.balthof.wikispaces.com/" TargetMode="External"/><Relationship Id="rId3" Type="http://schemas.openxmlformats.org/officeDocument/2006/relationships/hyperlink" Target="http://www.flickr.com/" TargetMode="External"/><Relationship Id="rId4" Type="http://schemas.openxmlformats.org/officeDocument/2006/relationships/hyperlink" Target="http://www.flickr.com/balthof" TargetMode="External"/><Relationship Id="rId5" Type="http://schemas.openxmlformats.org/officeDocument/2006/relationships/hyperlink" Target="http://bighugelabs.com/flickr/" TargetMode="External"/><Relationship Id="rId6" Type="http://schemas.openxmlformats.org/officeDocument/2006/relationships/hyperlink" Target="http://www.youtube.com/" TargetMode="External"/><Relationship Id="rId7" Type="http://schemas.openxmlformats.org/officeDocument/2006/relationships/hyperlink" Target="http://www.teachertube.com/" TargetMode="Externa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Using a Wik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assroom U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hildren’s S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ct elementary sch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ddle School students write a children’s s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ary students read stories and create illust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ustrations are scanned and added to s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ies can be printed and even brought to middle school for “book signing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assroom U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vel Un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cabulary – include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 Journal – collaborat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ie Po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ie Trai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ion – comments directly on wi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ion – questions – link to blo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1676520" y="-762120"/>
            <a:ext cx="12192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6232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Education is about communication.”</a:t>
            </a:r>
            <a:br>
              <a:rPr sz="4000"/>
            </a:b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995, a software engineer in Hawaii needed a quick way for a small group of people to collaborate in building a web docu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called it the Wiki Wiki We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iki Wik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Hawaiian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u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Resour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www.wikispaces.c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en-US" sz="20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www.balthof.wikispaces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0066"/>
                </a:solidFill>
                <a:uFillTx/>
                <a:latin typeface="Times New Roman"/>
                <a:hlinkClick r:id="rId3"/>
              </a:rPr>
              <a:t>www.flickr.c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need Yahoo 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0066"/>
                </a:solidFill>
                <a:uFillTx/>
                <a:latin typeface="Times New Roman"/>
                <a:hlinkClick r:id="rId4"/>
              </a:rPr>
              <a:t>www.flickr.com/balth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ckr to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0066"/>
                </a:solidFill>
                <a:uFillTx/>
                <a:latin typeface="Times New Roman"/>
                <a:hlinkClick r:id="rId5"/>
              </a:rPr>
              <a:t>http://bighugelabs.com/flickr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ows Movie Ma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0066"/>
                </a:solidFill>
                <a:uFillTx/>
                <a:latin typeface="Times New Roman"/>
                <a:hlinkClick r:id="rId6"/>
              </a:rPr>
              <a:t>www.youtube.c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en-US" sz="2000" spc="-1" strike="noStrike" u="sng">
                <a:solidFill>
                  <a:srgbClr val="660066"/>
                </a:solidFill>
                <a:uFillTx/>
                <a:latin typeface="Times New Roman"/>
                <a:hlinkClick r:id="rId7"/>
              </a:rPr>
              <a:t>www.teachertub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ikipedi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st popular example is Wikipedia, an online encyclopedia that owes all of its content to people who voluntarily add and edit artic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ww.wikispaces.co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aboratively create and edit 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 i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 hyperli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bed media – video / au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 RSS f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assroom U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ference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cabulary dictionary / gloss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word / defi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turns adding sentences using the wo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assroom u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eam Collabo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onstruct poems / speeches / other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turns adding interpret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 comments and edits to classmates’ interpre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assroom U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es / Study Gu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checking notebooks, students place notes on wiki page.  This is much easier to che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ms create study gu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can be easily monitored during creation to ensure key points are h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can choose which study guide to 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 credit? for “best” (most used) study gu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assroom U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tory St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student begins a story – 10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then click onto a different story and continue or complete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are practicing reading for meaning and writing for an aud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assroom U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tory Continu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reading novel, students write additional chapter(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collaborate with each other’s chapter(s) for improv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8T19:19:39Z</dcterms:created>
  <dc:creator>masd</dc:creator>
  <dc:description/>
  <dc:language>en-US</dc:language>
  <cp:lastModifiedBy>masd</cp:lastModifiedBy>
  <dcterms:modified xsi:type="dcterms:W3CDTF">2007-08-21T02:49:20Z</dcterms:modified>
  <cp:revision>6</cp:revision>
  <dc:subject/>
  <dc:title>Slide 1</dc:title>
</cp:coreProperties>
</file>