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C89-2A25-418B-886E-6D6CB5A7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B2E-8485-4F54-BB4A-39E8AD92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397-FE6C-4B9A-9B7D-A88F3F2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4C7-8B1D-432A-A3C1-EDBF5EE3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9F05-2B1E-4977-999E-B86DF7F1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C11-2683-44AF-9564-EF474914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3F6-6117-466D-AA81-7C3C8D8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69B6-CAC4-4DC9-BF42-71EF75DB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6F7C-E8E9-43F4-A36D-E1AEEEB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A2F3-4987-4CEB-B069-073D326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FB35-6BC2-4209-99FB-6E9EA55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52F-DBBE-4CCE-8C0D-27207803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3AA-6426-45DB-8DDE-1BB8C49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D13-288B-4066-A0D8-A03D339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9CDA-E003-416B-A857-20098DC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6708-9BA7-48E9-A38F-6721721A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E24-16EA-49C6-A31C-78944EBA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516-A896-45D8-B296-2D4FE12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229-9FD7-4FC2-8641-6B13657B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FAF-A9B6-4680-B57E-060D2B5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A6B-9CC1-41B1-B2AA-9FCDC36C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0E3-D3AC-4839-B0FA-32BF804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19A-62E3-4D86-A155-A050501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DB3-69FB-423A-A2AC-B6C5004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B7D-E5AD-4A8F-8520-D3EE39BE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3BE-3057-4CBC-8884-CB27D2DC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balthof.wikispaces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flickr.com/balthof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hyperlink" Target="http://www.youtube.com/" TargetMode="External"/><Relationship Id="rId7" Type="http://schemas.openxmlformats.org/officeDocument/2006/relationships/hyperlink" Target="http://www.teachertube.com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Wik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element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School students write a children’s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 students read stories and create illus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tions are scanned and added to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es can be printed and even brought to middle school for “book sig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e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ulary – includ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Journal – collabo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r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comments directly on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questions – link to b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76520" y="-76212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ducation is about communication.”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5, a software engineer in Hawaii needed a quick way for a small group of people to collaborate in building a web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called it the Wiki Wiki W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ki Wi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Hawaiia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wikispaces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balthof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www.flickr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eed Yahoo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www.flickr.com/balth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ckr t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http://bighugelabs.com/flic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vie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www.youtub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www.teachertub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pular example is Wikipedia, an online encyclopedia that owes all of its content to people who voluntarily add and edit 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w.wikispaces.c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reate and edit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media – video /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RSS 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dictionary / glo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ord /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sentences using th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am 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poems / speeches / othe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comments and edits to classmates’ interpre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/ Study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checking notebooks, students place notes on wiki page.  This is much easier to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s create study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be easily monitored during creation to ensure key points are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choose which study guide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credit? for “best” (most used) study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St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udent begins a story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then click onto a different story and continue or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practicing reading for meaning and writing for an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Contin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reading novel, students write additional chapter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llaborate with each other’s chapter(s) for impr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9:39Z</dcterms:created>
  <dc:creator>masd</dc:creator>
  <dc:description/>
  <dc:language>en-US</dc:language>
  <cp:lastModifiedBy>masd</cp:lastModifiedBy>
  <dcterms:modified xsi:type="dcterms:W3CDTF">2007-08-21T02:49:20Z</dcterms:modified>
  <cp:revision>6</cp:revision>
  <dc:subject/>
  <dc:title>Slide 1</dc:title>
</cp:coreProperties>
</file>