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6CF-62C9-4DF3-9FEE-248A13AB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904-B7B8-4027-82D5-45BE550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2C3-0C4D-4455-8476-4251B2A6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035-0627-4344-BE58-5EF58F12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893-F28F-4660-8900-CF7A72EC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984-BEE5-48AC-8CC3-1F2F64B4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4E5-5BA9-4CEC-8041-DE858167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64C-87B0-4BC5-BB14-CADAB94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F46-4C1F-4B30-A984-3DD1011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57B-3715-4A0C-A714-1D590F47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2EE-6F8E-455D-88C2-679D5A1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151-B8B0-4396-B149-9BA4749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6E12-2E61-467C-ACF5-2592257BB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de.state.pa.us/a_and_t/lib/a_and_t/2007-2008Gr8ReadingItemSampler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68640" y="1984320"/>
            <a:ext cx="4894200" cy="97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Arial"/>
              </a:rPr>
              <a:t>The Pizz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>
            <a:hlinkClick r:id="rId2"/>
          </p:cNvPr>
          <p:cNvSpPr/>
          <p:nvPr/>
        </p:nvSpPr>
        <p:spPr>
          <a:xfrm>
            <a:off x="1098720" y="4576680"/>
            <a:ext cx="1150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de.state.pa.us/a_and_t/lib/a_and_t/2007-2008Gr8ReadingItemSampl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01.tiff"/>
          <p:cNvPicPr/>
          <p:nvPr/>
        </p:nvPicPr>
        <p:blipFill>
          <a:blip r:embed="rId1"/>
          <a:stretch/>
        </p:blipFill>
        <p:spPr>
          <a:xfrm>
            <a:off x="2262240" y="1521000"/>
            <a:ext cx="8004240" cy="726264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254400" y="5767560"/>
            <a:ext cx="463680" cy="463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103480" y="1666800"/>
            <a:ext cx="9088560" cy="64422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2"/>
          <p:cNvSpPr/>
          <p:nvPr/>
        </p:nvSpPr>
        <p:spPr>
          <a:xfrm>
            <a:off x="3321000" y="633744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237960"/>
            <a:ext cx="6429600" cy="83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29040" y="4048200"/>
            <a:ext cx="642924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What grade would you give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41.tiff"/>
          <p:cNvPicPr/>
          <p:nvPr/>
        </p:nvPicPr>
        <p:blipFill>
          <a:blip r:embed="rId1"/>
          <a:stretch/>
        </p:blipFill>
        <p:spPr>
          <a:xfrm>
            <a:off x="2328840" y="965160"/>
            <a:ext cx="8042400" cy="801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55360" y="554364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1349280" y="3214800"/>
            <a:ext cx="102268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61.tiff"/>
          <p:cNvPicPr/>
          <p:nvPr/>
        </p:nvPicPr>
        <p:blipFill>
          <a:blip r:embed="rId1"/>
          <a:stretch/>
        </p:blipFill>
        <p:spPr>
          <a:xfrm>
            <a:off x="2289240" y="2606760"/>
            <a:ext cx="8466120" cy="4351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755360" y="502776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1138320" y="3294000"/>
            <a:ext cx="10556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81.tiff"/>
          <p:cNvPicPr/>
          <p:nvPr/>
        </p:nvPicPr>
        <p:blipFill>
          <a:blip r:embed="rId1"/>
          <a:stretch/>
        </p:blipFill>
        <p:spPr>
          <a:xfrm>
            <a:off x="1349280" y="1123920"/>
            <a:ext cx="10159920" cy="592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258640" y="4869000"/>
            <a:ext cx="4618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1733400" y="3440160"/>
            <a:ext cx="10265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727200" y="503280"/>
            <a:ext cx="10147320" cy="88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01.tiff"/>
          <p:cNvPicPr/>
          <p:nvPr/>
        </p:nvPicPr>
        <p:blipFill>
          <a:blip r:embed="rId1"/>
          <a:stretch/>
        </p:blipFill>
        <p:spPr>
          <a:xfrm>
            <a:off x="992160" y="1309680"/>
            <a:ext cx="10041120" cy="5861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12480" y="40212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211.tiff"/>
          <p:cNvPicPr/>
          <p:nvPr/>
        </p:nvPicPr>
        <p:blipFill>
          <a:blip r:embed="rId1"/>
          <a:stretch/>
        </p:blipFill>
        <p:spPr>
          <a:xfrm>
            <a:off x="1428840" y="3413160"/>
            <a:ext cx="1049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221.tiff"/>
          <p:cNvPicPr/>
          <p:nvPr/>
        </p:nvPicPr>
        <p:blipFill>
          <a:blip r:embed="rId1"/>
          <a:stretch/>
        </p:blipFill>
        <p:spPr>
          <a:xfrm>
            <a:off x="1282680" y="1666800"/>
            <a:ext cx="103060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993320" y="6045120"/>
            <a:ext cx="463680" cy="58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31.tiff"/>
          <p:cNvPicPr/>
          <p:nvPr/>
        </p:nvPicPr>
        <p:blipFill>
          <a:blip r:embed="rId1"/>
          <a:stretch/>
        </p:blipFill>
        <p:spPr>
          <a:xfrm>
            <a:off x="1071720" y="3241800"/>
            <a:ext cx="11005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empimage241.tiff"/>
          <p:cNvPicPr/>
          <p:nvPr/>
        </p:nvPicPr>
        <p:blipFill>
          <a:blip r:embed="rId1"/>
          <a:stretch/>
        </p:blipFill>
        <p:spPr>
          <a:xfrm>
            <a:off x="965160" y="1362240"/>
            <a:ext cx="9644040" cy="2871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299520" y="56484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empimage251.tiff"/>
          <p:cNvPicPr/>
          <p:nvPr/>
        </p:nvPicPr>
        <p:blipFill>
          <a:blip r:embed="rId1"/>
          <a:stretch/>
        </p:blipFill>
        <p:spPr>
          <a:xfrm>
            <a:off x="1733400" y="3174840"/>
            <a:ext cx="102650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1362240" y="662040"/>
            <a:ext cx="9631080" cy="88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542880"/>
            <a:ext cx="858492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076480" y="1481040"/>
            <a:ext cx="7991280" cy="50943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2"/>
          <p:cNvSpPr/>
          <p:nvPr/>
        </p:nvSpPr>
        <p:spPr>
          <a:xfrm>
            <a:off x="3122640" y="4710240"/>
            <a:ext cx="79200" cy="183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2328840" y="1495440"/>
            <a:ext cx="8478720" cy="5727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"/>
          <p:cNvSpPr/>
          <p:nvPr/>
        </p:nvSpPr>
        <p:spPr>
          <a:xfrm>
            <a:off x="3782880" y="4551480"/>
            <a:ext cx="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71.tiff"/>
          <p:cNvPicPr/>
          <p:nvPr/>
        </p:nvPicPr>
        <p:blipFill>
          <a:blip r:embed="rId1"/>
          <a:stretch/>
        </p:blipFill>
        <p:spPr>
          <a:xfrm>
            <a:off x="1996920" y="1614600"/>
            <a:ext cx="9088560" cy="472284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095640" y="3876840"/>
            <a:ext cx="463680" cy="46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81.tiff"/>
          <p:cNvPicPr/>
          <p:nvPr/>
        </p:nvPicPr>
        <p:blipFill>
          <a:blip r:embed="rId1"/>
          <a:stretch/>
        </p:blipFill>
        <p:spPr>
          <a:xfrm>
            <a:off x="2130480" y="1693800"/>
            <a:ext cx="8188200" cy="547704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3187800" y="3294000"/>
            <a:ext cx="46332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91.tiff"/>
          <p:cNvPicPr/>
          <p:nvPr/>
        </p:nvPicPr>
        <p:blipFill>
          <a:blip r:embed="rId1"/>
          <a:stretch/>
        </p:blipFill>
        <p:spPr>
          <a:xfrm>
            <a:off x="1785960" y="1481040"/>
            <a:ext cx="980280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3135240" y="4894200"/>
            <a:ext cx="46368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45:05Z</dcterms:created>
  <dc:creator> </dc:creator>
  <dc:description/>
  <dc:language>en-US</dc:language>
  <cp:lastModifiedBy> </cp:lastModifiedBy>
  <dcterms:modified xsi:type="dcterms:W3CDTF">2009-02-17T23:45:10Z</dcterms:modified>
  <cp:revision>1</cp:revision>
  <dc:subject/>
  <dc:title>Slide 1</dc:title>
</cp:coreProperties>
</file>