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9E5-DA39-4A34-A4B4-340B0A87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8E0-E7C4-4616-A39F-0A355F1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278-FD90-4511-BD96-03284750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D5E-1B9F-4B15-A58A-06FC4A94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8B1-2DEB-4ED9-9FFE-48459A66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5E9-B448-43ED-ADE7-C4B7E35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F88-7B51-4DA4-BBA7-992C56C7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3C9-DEF9-4149-96A6-9E3D0B16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511-1AAD-435C-B22C-2EB875EA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97F-9B56-4531-897F-8F3F83B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13A-82C4-4F14-BD34-2F0E1446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FEF-2795-4E30-8EDB-100A8C8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DDC1-6E63-47AE-BBCA-E1495BF4F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05240" y="3581280"/>
            <a:ext cx="4241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iz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1582000">
            <a:off x="368280" y="177840"/>
            <a:ext cx="12014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POLICE OFFICER: FIRST LINE OF DEFENS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In the United States, police forces are the first line of defense against crime. Today there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,000 town, city, and state police departments, ranging from rural areas patrolled by only a f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s to large cities protected by more than 40,000 police officers. There are more than 650,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ormed police officers in this country today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Big city or small town, most police officers carry out patrol duties on one of three eight-h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fts. Some police officers are on foot patrol, walking an assigned beat. Others patrol on bicycles,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s, and even on horseback. In some big cities, police also patrol in helicopters to keep watch o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areas. Police officers are usually the first to arrive at a crime scene. They keep curi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ookers away and preserve the evidence for detectives and other crime scene investigato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patrolling and protec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me scenes are just two of a police force's many duties. For example, officers may assist l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and help couples peacefully resolve disputes. An important part of police work toda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involved members of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ies, staying on the same beat for years rather than being transferred from one distric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Every police officer will tell you that the job is dangerous. Officers must defend themselv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 others by force. Each year, between 140 and 160 officers are killed in the line of du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wide, according to the National Law Enforcement Officers Memorial Fund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2440" y="1003320"/>
            <a:ext cx="11366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ecoming a crime-fighter is a calling. Many police officers knew their calling at a young 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Jeff Spaulding, head of the Westminster (Md.) Police Department, told a Baltimore S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er that he knew at age 8 that he would become a cop, after reading stories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Bureau of Investigation (FBI) and the Hardy Boys mystery books. As a teenag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ulding remembers "thinking how I wanted to go out and fight crime and work the stree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 Chris Hill, a police officer in Houston, Texas, also knew he wanted to be a police officer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ly age. "From about the time I was in middle school, there was never a doubt in my mi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anted to go into law enforcement as a career," says Hill, now 28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) Hill loves his job, despite its dangers. He has been out on "deep night" patrol. That's the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10:30 p.m. and 6:30 a.m., the most dangerous time of the day for police. Hill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, "You have to keep in mind what your family has to lose if you aren't professional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and make sure that everyone stays safe: you, other officers, the people you're trying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, even the people you're trying to arres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) Officer Hill doubts that he will stay on deep night patrol for the rest of his career, though. "I'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to be a detective one day," says Hill. "I think everyone should try that because I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ing what the detectives need and what investigations require makes you a bet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7440" y="990720"/>
            <a:ext cx="8636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of these i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720" y="1765440"/>
            <a:ext cx="10642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.  Today, there are more than 40,000 police departments with 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50,000 uniformed officers throughout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3009960"/>
            <a:ext cx="10807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.  Police work eight-hour shifts, and they protect the community on foo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 bikes, on horseback, and in helicop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5040" y="4229280"/>
            <a:ext cx="1098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.  Most police officers have known that they wanted to join the for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they learned about crime fighters in the community as young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7320" y="5715000"/>
            <a:ext cx="1087128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. Although crime-fighting can be very dangerous, more than 650,0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ice officers in this country have chosen the profession, and many viet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a their cal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5040" y="1168560"/>
            <a:ext cx="10503000" cy="24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olling and protecting crime scenes are just two of a police force's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ies. For example, officers may assist lost children and help cou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fully resolve disputes. An important part of police work toda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members of their communities, staying on the same beat for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being transferred from one district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3873600"/>
            <a:ext cx="10325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sentence gives the BEST summary of paragrap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5480" y="4749840"/>
            <a:ext cx="1083312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Police officers assist lost children in the community and help couples resolve domes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Many police officers today are highly visible in the community in which they work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 times l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olice officers not only prevent crime and arrest criminals, but also serve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izencs as active members of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 Police officers are no longer frequently transferred from one district to another, so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more meaningful relationshi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480" y="1041480"/>
            <a:ext cx="1117584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T’S ACADEMIC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Are you the type who can't hold back a comment (or six) in class discussions? 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s tend to have small classes where it's easier to participate actively. There's no hi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back row in a class with only a dozen students! And your professors are more likely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o know you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At Ursinus College in Collegeville, Pa. (1,500 students), students and faculty can ge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each other well. "Small colleges are uniquely positioned to provide intensive mentoring,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ys Richard DiFeliciantonio, vice president for enrollment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For Katherine Northup, Ursinus's 2004 co-valedictorian, support from her profess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ed her to discover and develop a love for classics, which became her major along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and computer science. "Because my teachers got to know me during my first year,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e able to recognize my skills and weaknesses and advise me accordingly," Northup note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Who will do well at a small school? Hodge says the best matches are "students who enjo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contact among members of the school community, an environment that foster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student confidence, small class sizes that encourage participation of all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, and discussion-style classes rather than lectures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ig lecture classes, especially for first- or second-year students, are common at 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s. You might sit among 200 other students, all scribbling notes about Homer's Odysse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lasses may be taught by graduate teaching assistants rather than professors, w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usy teaching and advising graduate students and conducting research of their own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431640"/>
            <a:ext cx="1187460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have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're looking for. "Just about any program a student would want is available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ool of our size and complexity," says Mabel G. Freeman, assistant vice presi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ergraduate admissions at Ohio State University in Columbus, which offers 1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s to 45,000 undergraduates. Many internship and research opportunities o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it undergraduates at big schools. "Any of these additional experiences can re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a student's career options after graduation," Freeman say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) Freeman feels "students who do best at large universities are comfortable as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and taking some of the initiative needed on a large campus. [They]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fortable making choices, since there are always many options to consider." Ho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big schools for "self-directed students who seek more independ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, great range and variety of courses, more choice of activities, and a hig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competition in intercollegiate athletics.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1360" y="1092240"/>
            <a:ext cx="1182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sentence provide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9160" y="2006640"/>
            <a:ext cx="108838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Small colleges offer small, discussion-style classes that foster particip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omote self-confidence, whereas big universities offer a variety of l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, different activities, and competitive athletic programs; however,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deal depending on a student's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Small colleges are better than large universities because they promot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 of community and foster student confidence; therefore, students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small schools get more individualized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Although large universities have lecture-style classes with large numb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offer students a wide variety of majors from which to choose; furtherm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s, they offer students a wide variety of majors from whic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; furthermore, large universities offer many different extracurr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and competitive athletic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Students tend to get lost in the extremely large populations of b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; thus, students feel more comfortable at small universities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encouraged to particpate in class and befriend class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546120"/>
            <a:ext cx="115315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just what you're looking for. "Just about any program a student would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at a school of our size and complexity," says Mabel G.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 vice president of undergraduate admissions at Ohio State Univers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, which offers 174 majors to 45,000 undergraduates. Many intern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earch opportunities often await undergraduates at big schools. "An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dditional experiences can really enhance a student's career options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ion," Freeman s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2760" y="3835440"/>
            <a:ext cx="1002024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ummarize paragrap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560" y="4902120"/>
            <a:ext cx="107442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A large university will provide you with many different majors from which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Large universities offer you a variety of different majors, along with intern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esearch opport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  Large universities have very large class sizes that are frequently lecture-sty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over 200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 There are many research opportunities in any area of study that are offer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t a large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55Z</dcterms:created>
  <dc:creator>schottw</dc:creator>
  <dc:description/>
  <dc:language>en-US</dc:language>
  <cp:lastModifiedBy>schottw</cp:lastModifiedBy>
  <dcterms:modified xsi:type="dcterms:W3CDTF">2008-03-18T20:25:11Z</dcterms:modified>
  <cp:revision>1</cp:revision>
  <dc:subject/>
  <dc:title>Slide 1</dc:title>
</cp:coreProperties>
</file>