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1A6-B472-49B5-8DAC-06669F03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4B6-3C1B-44C7-B312-04D433A3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AC1-9122-4FC4-B28C-BF253FA0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505-B53F-4DE2-B0B4-4F5F829A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B2F-311E-4047-A256-46222180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587-27C9-46E8-96F4-EE1C9F68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42A-6D1F-4946-854A-C6FD86E8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B66-0FE9-4BA9-AFF4-D6ACF855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A25-9F0E-448F-B4E2-58F264DF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663-5A85-4501-81AC-17A4DDA0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839-5763-4626-8B48-BC111AA6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85F-BDAE-4CB8-82E4-5AF1A40F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B5A2-5308-44FB-8B50-E09879BCA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05240" y="3581280"/>
            <a:ext cx="4241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iz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21582000">
            <a:off x="368280" y="177840"/>
            <a:ext cx="1201428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POLICE OFFICER: FIRST LINE OF DEFENS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In the United States, police forces are the first line of defense against crime. Today there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,000 town, city, and state police departments, ranging from rural areas patrolled by only a f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rs to large cities protected by more than 40,000 police officers. There are more than 650,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ormed police officers in this country today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Big city or small town, most police officers carry out patrol duties on one of three eight-h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fts. Some police officers are on foot patrol, walking an assigned beat. Others patrol on bicycles,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s, and even on horseback. In some big cities, police also patrol in helicopters to keep watch o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areas. Police officers are usually the first to arrive at a crime scene. They keep curi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ookers away and preserve the evidence for detectives and other crime scene investigato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Anyone who has seen the TV show Cops can tell you, however, that patrolling and protec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me scenes are just two of a police force's many duties. For example, officers may assist l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and help couples peacefully resolve disputes. An important part of police work toda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-based policing, in which police officers are highly visible, involved members of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ies, staying on the same beat for years rather than being transferred from one district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Every police officer will tell you that the job is dangerous. Officers must defend themselv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 others by force. Each year, between 140 and 160 officers are killed in the line of du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wide, according to the National Law Enforcement Officers Memorial Fund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22440" y="1003320"/>
            <a:ext cx="113662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Becoming a crime-fighter is a calling. Many police officers knew their calling at a young 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ef Jeff Spaulding, head of the Westminster (Md.) Police Department, told a Baltimore S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er that he knew at age 8 that he would become a cop, after reading stories abou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deral Bureau of Investigation (FBI) and the Hardy Boys mystery books. As a teenag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ulding remembers "thinking how I wanted to go out and fight crime and work the street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 Chris Hill, a police officer in Houston, Texas, also knew he wanted to be a police officer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arly age. "From about the time I was in middle school, there was never a doubt in my mi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 wanted to go into law enforcement as a career," says Hill, now 28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) Hill loves his job, despite its dangers. He has been out on "deep night" patrol. That's the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10:30 p.m. and 6:30 a.m., the most dangerous time of the day for police. Hill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, "You have to keep in mind what your family has to lose if you aren't professional abou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and make sure that everyone stays safe: you, other officers, the people you're trying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, even the people you're trying to arrest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8) Officer Hill doubts that he will stay on deep night patrol for the rest of his career, though. "I'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to be a detective one day," says Hill. "I think everyone should try that because I th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ing what the detectives need and what investigations require makes you a bet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r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7440" y="990720"/>
            <a:ext cx="8636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of these is the BEST summary of this passa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720" y="1765440"/>
            <a:ext cx="10642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.  Today, there are more than 40,000 police departments with 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50,000 uniformed officers throughout the 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680" y="3009960"/>
            <a:ext cx="10807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.  Police work eight-hour shifts, and they protect the community on foo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 bikes, on horseback, and in helicop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5040" y="4229280"/>
            <a:ext cx="1098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.  Most police officers have known that they wanted to join the for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ce they learned about crime fighters in the community as young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7320" y="5715000"/>
            <a:ext cx="10871280" cy="12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. Although crime-fighting can be very dangerous, more than 650,0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ice officers in this country have chosen the profession, and many viet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a their cal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5040" y="1168560"/>
            <a:ext cx="10503000" cy="24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Anyone who has seen the TV show Cops can tell you, however,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olling and protecting crime scenes are just two of a police force's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ies. For example, officers may assist lost children and help cou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fully resolve disputes. An important part of police work today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-based policing, in which police officers are highly visi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d members of their communities, staying on the same beat for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being transferred from one district to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3873600"/>
            <a:ext cx="10325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sentence gives the BEST summary of paragraph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is pass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5480" y="4749840"/>
            <a:ext cx="1083312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 Police officers assist lost children in the community and help couples resolve domes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 Many police officers today are highly visible in the community in which they work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ten times l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Police officers not only prevent crime and arrest criminals, but also serve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izencs as active members of the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 Police officers are no longer frequently transferred from one district to another, so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more meaningful relationship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480" y="1041480"/>
            <a:ext cx="11175840" cy="73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IT’S ACADEMIC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Are you the type who can't hold back a comment (or six) in class discussions? S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es tend to have small classes where it's easier to participate actively. There's no hi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back row in a class with only a dozen students! And your professors are more likely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to know you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At Ursinus College in Collegeville, Pa. (1,500 students), students and faculty can get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each other well. "Small colleges are uniquely positioned to provide intensive mentoring,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ys Richard DiFeliciantonio, vice president for enrollment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For Katherine Northup, Ursinus's 2004 co-valedictorian, support from her profess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ed her to discover and develop a love for classics, which became her major along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 and computer science. "Because my teachers got to know me during my first year,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re able to recognize my skills and weaknesses and advise me accordingly," Northup note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Who will do well at a small school? Hodge says the best matches are "students who enjo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contact among members of the school community, an environment that fosters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student confidence, small class sizes that encourage participation of all 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, and discussion-style classes rather than lectures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Big lecture classes, especially for first- or second-year students, are common at 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s. You might sit among 200 other students, all scribbling notes about Homer's Odysse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lasses may be taught by graduate teaching assistants rather than professors, w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busy teaching and advising graduate students and conducting research of their own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431640"/>
            <a:ext cx="1187460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 If you want to pursue a specific major, however, a large university may have j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you're looking for. "Just about any program a student would want is available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ool of our size and complexity," says Mabel G. Freeman, assistant vice presi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ergraduate admissions at Ohio State University in Columbus, which offers 1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s to 45,000 undergraduates. Many internship and research opportunities of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it undergraduates at big schools. "Any of these additional experiences can re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a student's career options after graduation," Freeman say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) Freeman feels "students who do best at large universities are comfortable as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and taking some of the initiative needed on a large campus. [They]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fortable making choices, since there are always many options to consider." Ho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s big schools for "self-directed students who seek more independ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ty, great range and variety of courses, more choice of activities, and a hig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 competition in intercollegiate athletics."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1360" y="1092240"/>
            <a:ext cx="1182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sentence provides the BEST summary of this passa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9160" y="2006640"/>
            <a:ext cx="1088388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Small colleges offer small, discussion-style classes that foster particip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romote self-confidence, whereas big universities offer a variety of la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s, different activities, and competitive athletic programs; however, bo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deal depending on a student's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Small colleges are better than large universities because they promot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e of community and foster student confidence; therefore, students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small schools get more individualized att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Although large universities have lecture-style classes with large numb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offer students a wide variety of majors from which to choose; furtherm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umbers, they offer students a wide variety of majors from whic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; furthermore, large universities offer many different extracurr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ies and competitive athletic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Students tend to get lost in the extremely large populations of b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; thus, students feel more comfortable at small universities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encouraged to particpate in class and befriend class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546120"/>
            <a:ext cx="1153152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 If you want to pursue a specific major, however, a large university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just what you're looking for. "Just about any program a student would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at a school of our size and complexity," says Mabel G.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 vice president of undergraduate admissions at Ohio State Universi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us, which offers 174 majors to 45,000 undergraduates. Many intern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search opportunities often await undergraduates at big schools. "An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dditional experiences can really enhance a student's career options 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ion," Freeman s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2760" y="3835440"/>
            <a:ext cx="1002024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summarize paragrap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is pa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560" y="4902120"/>
            <a:ext cx="107442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A large university will provide you with many different majors from which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Large universities offer you a variety of different majors, along with internshi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esearch opportun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.  Large universities have very large class sizes that are frequently lecture-sty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over 200 stu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  There are many research opportunities in any area of study that are offered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at a large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55Z</dcterms:created>
  <dc:creator>schottw</dc:creator>
  <dc:description/>
  <dc:language>en-US</dc:language>
  <cp:lastModifiedBy>schottw</cp:lastModifiedBy>
  <dcterms:modified xsi:type="dcterms:W3CDTF">2008-03-18T20:25:11Z</dcterms:modified>
  <cp:revision>1</cp:revision>
  <dc:subject/>
  <dc:title>Slide 1</dc:title>
</cp:coreProperties>
</file>