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052D-6B11-442C-970A-96466BA44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ED5A-F138-4BDA-B94A-B4F078B9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E759-107B-4E22-8427-3D6FFF40E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2CC9-EA19-4289-8A50-31201BE63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0207-CB8E-42FB-BBE0-4B7BAC5E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7C92-22FA-461B-A739-63C159A6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2EFC-87A0-4411-A4B1-22D1743A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7557-1B6F-49A2-8E6D-A08496F3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2A99-4FBE-427C-9281-8358682A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A0EE-F0F0-4B79-86CC-1A0DBA30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9CE9-F9CF-4A0C-B376-7835DAC8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BA9A-49AC-4C0A-B777-176A2E8D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9E90-3888-41AF-A53B-C115CEECA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305240" y="3581280"/>
            <a:ext cx="42418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ummariz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rot="21582000">
            <a:off x="368280" y="177840"/>
            <a:ext cx="12014280" cy="76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 POLICE OFFICER: FIRST LINE OF DEFENSE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) In the United States, police forces are the first line of defense against crime. Today there a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,000 town, city, and state police departments, ranging from rural areas patrolled by only a fe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icers to large cities protected by more than 40,000 police officers. There are more than 650,00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formed police officers in this country today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) Big city or small town, most police officers carry out patrol duties on one of three eight-h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ifts. Some police officers are on foot patrol, walking an assigned beat. Others patrol on bicycles,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s, and even on horseback. In some big cities, police also patrol in helicopters to keep watch o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 areas. Police officers are usually the first to arrive at a crime scene. They keep curio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ookers away and preserve the evidence for detectives and other crime scene investigators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ine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) Anyone who has seen the TV show Cops can tell you, however, that patrolling and protec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ime scenes are just two of a police force's many duties. For example, officers may assist l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ren and help couples peacefully resolve disputes. An important part of police work today 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ty-based policing, in which police officers are highly visible, involved members of the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ties, staying on the same beat for years rather than being transferred from one district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4) Every police officer will tell you that the job is dangerous. Officers must defend themselves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ect others by force. Each year, between 140 and 160 officers are killed in the line of du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tionwide, according to the National Law Enforcement Officers Memorial Fund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22440" y="1003320"/>
            <a:ext cx="1136628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5) Becoming a crime-fighter is a calling. Many police officers knew their calling at a young ag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ef Jeff Spaulding, head of the Westminster (Md.) Police Department, told a Baltimore Su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orter that he knew at age 8 that he would become a cop, after reading stories about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deral Bureau of Investigation (FBI) and the Hardy Boys mystery books. As a teenage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ulding remembers "thinking how I wanted to go out and fight crime and work the street."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) Chris Hill, a police officer in Houston, Texas, also knew he wanted to be a police officer 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early age. "From about the time I was in middle school, there was never a doubt in my mi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t I wanted to go into law enforcement as a career," says Hill, now 28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7) Hill loves his job, despite its dangers. He has been out on "deep night" patrol. That's the ti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tween 10:30 p.m. and 6:30 a.m., the most dangerous time of the day for police. Hill poi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, "You have to keep in mind what your family has to lose if you aren't professional about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and make sure that everyone stays safe: you, other officers, the people you're trying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p, even the people you're trying to arrest."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8) Officer Hill doubts that he will stay on deep night patrol for the rest of his career, though. "I'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ke to be a detective one day," says Hill. "I think everyone should try that because I thin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derstanding what the detectives need and what investigations require makes you a bet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icer.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17440" y="990720"/>
            <a:ext cx="8636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ich of these is the BEST summary of this passag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8720" y="1765440"/>
            <a:ext cx="106426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.  Today, there are more than 40,000 police departments with ov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50,000 uniformed officers throughout the United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1680" y="3009960"/>
            <a:ext cx="1080756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.  Police work eight-hour shifts, and they protect the community on foot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 bikes, on horseback, and in helicopt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5040" y="4229280"/>
            <a:ext cx="109854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.  Most police officers have known that they wanted to join the for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ce they learned about crime fighters in the community as young childr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7320" y="5715000"/>
            <a:ext cx="10871280" cy="125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. Although crime-fighting can be very dangerous, more than 650,00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lice officers in this country have chosen the profession, and many viet i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 a their call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35040" y="1168560"/>
            <a:ext cx="10503000" cy="247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Anyone who has seen the TV show Cops can tell you, however,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rolling and protecting crime scenes are just two of a police force's m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ties. For example, officers may assist lost children and help coup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acefully resolve disputes. An important part of police work today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ty-based policing, in which police officers are highly visib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lved members of their communities, staying on the same beat for yea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her than being transferred from one district to an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3873600"/>
            <a:ext cx="103251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ch sentence gives the BEST summary of paragraph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r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is passag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5480" y="4749840"/>
            <a:ext cx="1083312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 Police officers assist lost children in the community and help couples resolve domest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u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 Many police officers today are highly visible in the community in which they work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ten times l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. Police officers not only prevent crime and arrest criminals, but also serve oth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tizencs as active members of the commun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.  Police officers are no longer frequently transferred from one district to another, so the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 more meaningful relationship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4480" y="1041480"/>
            <a:ext cx="11175840" cy="73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 IT’S ACADEMIC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) Are you the type who can't hold back a comment (or six) in class discussions? Sm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es tend to have small classes where it's easier to participate actively. There's no hid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back row in a class with only a dozen students! And your professors are more likely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to know you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) At Ursinus College in Collegeville, Pa. (1,500 students), students and faculty can get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 each other well. "Small colleges are uniquely positioned to provide intensive mentoring,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ys Richard DiFeliciantonio, vice president for enrollment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) For Katherine Northup, Ursinus's 2004 co-valedictorian, support from her profess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ped her to discover and develop a love for classics, which became her major along wi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h and computer science. "Because my teachers got to know me during my first year, the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re able to recognize my skills and weaknesses and advise me accordingly," Northup notes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4) Who will do well at a small school? Hodge says the best matches are "students who enjo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 contact among members of the school community, an environment that fosters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of student confidence, small class sizes that encourage participation of all cla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bers, and discussion-style classes rather than lectures."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5) Big lecture classes, especially for first- or second-year students, are common at lar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ools. You might sit among 200 other students, all scribbling notes about Homer's Odysse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classes may be taught by graduate teaching assistants rather than professors, wh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busy teaching and advising graduate students and conducting research of their own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431640"/>
            <a:ext cx="11874600" cy="55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6) If you want to pursue a specific major, however, a large university may have ju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you're looking for. "Just about any program a student would want is available 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chool of our size and complexity," says Mabel G. Freeman, assistant vice presid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undergraduate admissions at Ohio State University in Columbus, which offers 17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s to 45,000 undergraduates. Many internship and research opportunities of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wait undergraduates at big schools. "Any of these additional experiences can rea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 a student's career options after graduation," Freeman says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7) Freeman feels "students who do best at large universities are comfortable as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and taking some of the initiative needed on a large campus. [They]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fortable making choices, since there are always many options to consider." Hod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ggests big schools for "self-directed students who seek more independenc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nymity, great range and variety of courses, more choice of activities, and a hig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of competition in intercollegiate athletics."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11360" y="1092240"/>
            <a:ext cx="1182348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sentence provides the BEST summary of this passag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9160" y="2006640"/>
            <a:ext cx="10883880" cy="617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 Small colleges offer small, discussion-style classes that foster particip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promote self-confidence, whereas big universities offer a variety of lar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es, different activities, and competitive athletic programs; however, bo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ideal depending on a student's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 Small colleges are better than large universities because they promote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se of community and foster student confidence; therefore, students w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small schools get more individualized atten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 Although large universities have lecture-style classes with large numbe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offer students a wide variety of majors from which to choose; furthermo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numbers, they offer students a wide variety of majors from which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; furthermore, large universities offer many different extracurricu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ties and competitive athletic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 Students tend to get lost in the extremely large populations of b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ies; thus, students feel more comfortable at small universities si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are encouraged to particpate in class and befriend classm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8600" y="546120"/>
            <a:ext cx="11531520" cy="281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6) If you want to pursue a specific major, however, a large university m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just what you're looking for. "Just about any program a student would w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vailable at a school of our size and complexity," says Mabel G. Freem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ant vice president of undergraduate admissions at Ohio State University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bus, which offers 174 majors to 45,000 undergraduates. Many internshi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research opportunities often await undergraduates at big schools. "Any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dditional experiences can really enhance a student's career options af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uation," Freeman s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2760" y="3835440"/>
            <a:ext cx="10020240" cy="4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ould you summarize paragrap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i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is pass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0560" y="4902120"/>
            <a:ext cx="10744200" cy="335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.  A large university will provide you with many different majors from which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.  Large universities offer you a variety of different majors, along with internshi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research opportun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.  Large universities have very large class sizes that are frequently lecture-sty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over 200 stud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.  There are many research opportunities in any area of study that are offered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 at a large univers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4:55Z</dcterms:created>
  <dc:creator>schottw</dc:creator>
  <dc:description/>
  <dc:language>en-US</dc:language>
  <cp:lastModifiedBy>schottw</cp:lastModifiedBy>
  <dcterms:modified xsi:type="dcterms:W3CDTF">2008-03-18T20:25:11Z</dcterms:modified>
  <cp:revision>1</cp:revision>
  <dc:subject/>
  <dc:title>Slide 1</dc:title>
</cp:coreProperties>
</file>