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61A-D6A9-479E-B065-B04AF709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3BD-C9EE-44B4-8E43-7B031421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82B-6967-4895-B2C6-E7D76868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CFB-114E-4098-A7AE-64587674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AF4-D30E-4BC2-A389-144171DD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FBD-C112-436A-84D8-62BDDDFB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89C-1020-4B6A-B7D5-70C2E47D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26E-5B11-4C4F-AF32-8B95AFDD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6F6-A612-4B60-8E66-5BF01361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2F0-1C15-4B1F-A685-D2A8044F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06C-4712-428F-96F1-1D60983F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EC0-5994-4938-A165-9F3D75B5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9C0D-1DCE-4A0E-81DF-5F59B1D11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thing about your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each sentence.  Underline the simple subject once and the simple predicate tw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candles decorated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name is 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teachers assign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team lost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beard stretched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irteen pink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d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o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sa’s birthday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is collie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y Moo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o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mework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 boys’ socc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one game this s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is bus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etc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his wai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Daffodils swayed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Jefferson Middle School has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boy plays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book dis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games give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Subjects and Simple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. Daffodi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way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brisk bre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. Jefferson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new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That tall blo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ombone in the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My librar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sappe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Compu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many hours of fun and entertai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sentences, the subject comes before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shington Ir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d New York in his s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begin with part or all of the predicate.  The subject comes next, followed by the rest of th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ill reading his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cate the subject of a question, rearrange the words to from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ite many funny sto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write many funny st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dicate also comes before the subject in sentences with inverted order and in declarative sentences that begin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re is, Here are, There is, and There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ver the paper ra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re i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ving’s manu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mperative sentences, the subject is usually not stated.  The predicate is the entire sentence.  The wo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nderstood to be th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ok for the author’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your brother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the mail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The Beatles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ine the complete subject.  Write (You) before any sentence with an understood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o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r bro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iver the morn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Into the tall grass craw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little garter sn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Call me this afternoon at thre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a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ma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ri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Beat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roduced many popular so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A personal computer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rules for this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the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Her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famous painting by Gran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From the bottom of the sea ro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hideous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Define the words numerator and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personal compu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useful tool for a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re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les for this ga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subject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all the words in the predicate of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es Dickens’s nov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e still pop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y English teac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an art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te Subjec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let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a noun or prono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you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rles Dick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s a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main word or word group in the complet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e pred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ways a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oung Charles Dicken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ro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ny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ach sentence.  Underline the complete subject once and the complete predicate tw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The purple mountains 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Emilio cheered for his sister’s team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 big raccoon crawled out of th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Ms. Hayashida is our math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urple mountai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ppeared misty in the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il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eered for his sister’s teammat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big racco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rawled out of the h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s. Hayashi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s our math teac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I like strawberry shortcake with c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The Snake River 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You seem sa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This dictionary has 1,559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The young detective 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The fresh yellow butter me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lete Subjects and Complete Predica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ke strawberry shortcake with cre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nake Ri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lows through souther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em sad tod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s diction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s 1,559 p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young detec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arched the room for c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resh yellow but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l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09:08Z</dcterms:created>
  <dc:creator>althofb</dc:creator>
  <dc:description/>
  <dc:language>en-US</dc:language>
  <cp:lastModifiedBy>AlthofB</cp:lastModifiedBy>
  <dcterms:modified xsi:type="dcterms:W3CDTF">2007-08-23T14:39:51Z</dcterms:modified>
  <cp:revision>4</cp:revision>
  <dc:subject/>
  <dc:title>Subjects and Predicates</dc:title>
</cp:coreProperties>
</file>