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68C-23F9-494D-838A-2AB0CD11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C2F-DD40-4272-A6D3-2B463149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7C1-8683-4239-B721-9F8B1824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8BB-6AF6-452B-8675-CB008E77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AAF-62EC-4330-8D6B-2A717FCD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082-0316-4B39-BC04-30B8E57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785-FDA4-4300-86F7-A46E87CF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431-C158-4F8D-9AE9-A98AFF72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E0F-E5A0-4834-B51A-8BF207BB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E9B-5CD6-47CF-BC64-28CA0260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2A4-08A0-49FE-88A1-FAE554BA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987-EEFC-4BB9-822E-A215565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530D-63EB-4C6C-A4A7-48636DBD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each sentence.  Underline the simple subject once and the simple predicate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candles decorated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name is 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teachers assign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team lost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beard stretched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d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o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et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affodils swayed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Jefferson Middle School has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boy plays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book dis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games give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. Daffodi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wa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. Jefferson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sappe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sentences, the subject comes before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shington I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d New York in his s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begin with part or all of the predicate.  The subject comes next, followed by the rest of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ill reading his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the subject of a question, rearrange the words to from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ite many funny s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write many funny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dicate also comes before the subject in sentences with inverted order and in declarative sentences that begin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re is, Here are, There is, and Ther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er the paper ra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re 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manu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mperative sentences, the subject is usually not stated.  The predicate is the entire sentence.  The wo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nderstood to be th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for the author’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your brother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the mail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he Beatles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r bro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eat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A personal computer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rules for this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personal compu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les for this g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subject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predicate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es Dickens’s no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 still pop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English 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a noun or pro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you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rles Dick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ways a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ung Charles Dicke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o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ach sentence.  Underline the complete subject once and the complete predicate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The purple mountains 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Emilio cheered for his sister’s team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 big raccoon crawled out of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s. Hayashida is our mat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rple mountai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il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eered for his sister’s teamma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big racco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awled out of the h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s. Hayash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 our math teac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 like strawberry shortcake with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The Snake River 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You seem sa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This dictionary has 1,559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The young detective 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 fresh yellow butter me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 strawberry shortcake with cre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nake Ri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em sad tod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s diction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s 1,559 p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young dete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resh yellow but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l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09:08Z</dcterms:created>
  <dc:creator>althofb</dc:creator>
  <dc:description/>
  <dc:language>en-US</dc:language>
  <cp:lastModifiedBy>AlthofB</cp:lastModifiedBy>
  <dcterms:modified xsi:type="dcterms:W3CDTF">2007-08-23T14:39:51Z</dcterms:modified>
  <cp:revision>4</cp:revision>
  <dc:subject/>
  <dc:title>Subjects and Predicates</dc:title>
</cp:coreProperties>
</file>