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5365-89E8-461C-AC58-EAFC4841D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77C2-B1B6-4BBD-A65F-709332B8E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BAB9-4DDB-4203-9F59-4480C243F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F226-E17E-4D23-BED3-753DE142A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C8AF-D4E8-4D2D-A556-4F5707AED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F7CB-EBED-4502-A471-0FB7BBCCD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AB08-407E-4C74-9ED1-E7332C4DD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5B83-96B4-4ADF-9470-6864C6EC4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EC46-3B53-4376-8232-9E0F3F63A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060D-8BE2-442B-8E88-79DC94CB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EC98-4C91-47F2-9363-97DF580B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4CC0-1A0F-4F27-AABE-DB2E923F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611F9-6413-4C04-9430-33925C109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ur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your favorite thing about yoursel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your least favorite thing about yoursel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ple Subjects and Simple Predic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each sentence.  Underline the simple subject once and the simple predicate tw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Thirteen pink candles decorated Lisa’s birthday ca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his collie’s name is Misty Moonl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Some teachers assign homework every 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The boys’ soccer team lost only one game this sea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His bushy beard stretched to his waist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ple Subjects and Simple Predic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Thirteen pink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and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ecor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sa’s birthday ca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his collie’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ty Moonl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Som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each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ssig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mework every 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The boys’ socce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ea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lo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ly one game this sea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His bushy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ea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tretch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his waist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ple Subjects and Simple Predic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Daffodils swayed in the brisk bree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Jefferson Middle School has a new princip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That tall blond boy plays a trombone in the b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 My library book disappea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Computer games give me many hours of fun and entertai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ple Subjects and Simple Predic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6. Daffodi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way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 brisk bree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7. Jefferson Middle Schoo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new princip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That tall blon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o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lay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trombone in the b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 My library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oo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disappear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Computer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a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 many hours of fun and entertai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ing the Sub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most sentences, the subject comes before the predic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ashington Irv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escribed New York in his sto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redic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ing the Sub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 begin with part or all of the predicate.  The subject comes next, followed by the rest of the predic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eop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till reading his stor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ing the Sub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locate the subject of a question, rearrange the words to from a stat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D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rv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rite many funny stor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rv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did write many funny stor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ing the Sub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edicate also comes before the subject in sentences with inverted order and in declarative sentences that begin wi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ere is, Here are, There is, and There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Over the paper rac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rving’s p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ere is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rving’s manuscrip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ing the Sub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imperative sentences, the subject is usually not stated.  The predicate is the entire sentence.  The wor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understood to be the su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ook for the author’s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the subjec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line the complete subject.  Write (You) before any sentence with an understood su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Does your brother deliver the morning pap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Into the tall grass crawled the little garter sna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Call me this afternoon at three o’clo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Has the mail arriv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The Beatles introduced many popular so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jects and Predic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ing the sub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line the complete subject.  Write (You) before any sentence with an understood su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Does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your broth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eliver the morning pap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Into the tall grass crawle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 little garter sna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(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Yo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Call me this afternoon at three o’clo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Has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 mai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rriv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 Beatl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troduced many popular so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the subjec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 Here is a famous painting by Grant W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 From the bottom of the sea rose a hideous mon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. Define the words numerator and denomina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. A personal computer is a useful tool for a wri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.  There are rules for this g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ing the sub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 Here i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 famous painting by Grant W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 From the bottom of the sea ros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 hideous mon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. (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You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Define the words numerator and denomina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 personal comput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a useful tool for a wri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.  There ar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ules for this gam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jects and Predic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mplete subj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cludes all the words in the subject of a sen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omplete predic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cludes all the words in the predicate of a sen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arles Dickens’s nove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re still popul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y English teac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rote an artic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mplete Subject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omplete Predic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jects and Predic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imple subj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main word or word group in the complete su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imple subj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usually a noun or prono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you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harles Dicke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rote many artic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jects and Predic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mple predic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main word or word group in the complete predic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mple predic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lways a ver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young Charles Dickens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rot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many artic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Complete Subjects and Complete Predicat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each sentence.  Underline the complete subject once and the complete predicate tw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 The purple mountains appeared misty in the dist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 Emilio cheered for his sister’s teamm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 A big raccoon crawled out of the h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 Ms. Hayashida is our math teac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Complete Subjects and Complete Predicat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purple mountain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ppeared misty in the dist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mili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heered for his sister’s teammat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 big racco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rawled out of the hol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s. Hayashid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s our math teach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Complete Subjects and Complete Predicat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I like strawberry shortcake with cre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 The Snake River flows through southern Idah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 You seem sad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. This dictionary has 1,559 p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. The young detective searched the room for cl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.  The fresh yellow butter mel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Complete Subjects and Complete Predicat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ike strawberry shortcake with crea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Snake Riv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lows through southern Idah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You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em sad toda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is dictionar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as 1,559 pag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young detectiv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arched the room for cl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.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fresh yellow butt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elte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9T16:09:08Z</dcterms:created>
  <dc:creator>althofb</dc:creator>
  <dc:description/>
  <dc:language>en-US</dc:language>
  <cp:lastModifiedBy>AlthofB</cp:lastModifiedBy>
  <dcterms:modified xsi:type="dcterms:W3CDTF">2007-08-23T14:39:51Z</dcterms:modified>
  <cp:revision>4</cp:revision>
  <dc:subject/>
  <dc:title>Subjects and Predicates</dc:title>
</cp:coreProperties>
</file>