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0B1-1730-4874-858B-6C107768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39C-A621-487B-85B3-D2F81EB0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217-8F85-4A1C-90FE-4C44FBCF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2BA-6125-4949-9805-5E7D7032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41B-98FA-4777-BEAC-E89EE6B0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ACE-5CAC-48AA-813A-084B6D0C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81E-AAD1-4848-A211-8EAC758A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B82-FA31-4855-97DE-93BA5E9D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7C3-4530-4234-8DB8-66304D7E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9DB-3B1A-4C1D-A24B-CD4B18C9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FAA-1E62-46B6-BF0F-A102F47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51D-35F9-477E-A1D8-97400048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806F-3294-4B3D-8F80-9820B59B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each sentence.  Underline the simple subject once and the simple predicate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candles decorated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name is 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teachers assign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team lost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beard stretched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d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o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et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Daffodils swayed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Jefferson Middle School has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boy plays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book dis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games give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. Daffodi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wa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. Jefferson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sappe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sentences, the subject comes before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shington I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d New York in his s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begin with part or all of the predicate.  The subject comes next, followed by the rest of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ill reading his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the subject of a question, rearrange the words to from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ite many funny s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write many funny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dicate also comes before the subject in sentences with inverted order and in declarative sentences that begin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re is, Here are, There is, and There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ver the paper ra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re 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manu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mperative sentences, the subject is usually not stated.  The predicate is the entire sentence.  The wo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nderstood to be th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ok for the author’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your brother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the mail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he Beatles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r bro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m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Beat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A personal computer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rules for this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personal compu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les for this g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subject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predicate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es Dickens’s no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 still pop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 English 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an 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a noun or prono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you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rles Dick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ways a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ung Charles Dicke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ro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ach sentence.  Underline the complete subject once and the complete predicate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The purple mountains 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Emilio cheered for his sister’s team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 big raccoon crawled out of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s. Hayashida is our mat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urple mountai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il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eered for his sister’s teamma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big racco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awled out of the h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s. Hayash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s our math teac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 like strawberry shortcake with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The Snake River 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You seem sa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This dictionary has 1,559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The young detective 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 fresh yellow butter me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ke strawberry shortcake with cre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nake Ri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em sad tod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s diction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s 1,559 p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young dete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resh yellow but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l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09:08Z</dcterms:created>
  <dc:creator>althofb</dc:creator>
  <dc:description/>
  <dc:language>en-US</dc:language>
  <cp:lastModifiedBy>AlthofB</cp:lastModifiedBy>
  <dcterms:modified xsi:type="dcterms:W3CDTF">2007-08-23T14:39:51Z</dcterms:modified>
  <cp:revision>4</cp:revision>
  <dc:subject/>
  <dc:title>Subjects and Predicates</dc:title>
</cp:coreProperties>
</file>