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71A-24C7-480F-805D-176E47E4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6BA-8B5D-43B4-97BD-C4AB81D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8A3-45F5-4B64-80DE-0BA5967C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AC0-91DE-4B70-A239-46D8D0F0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18D0-63FF-43F6-89A1-4F11B3B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FD83-5BE4-4342-8468-E02C5C7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6FDD-5E67-4555-A10C-5950AB3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D1C-F25E-432A-AF49-DE5903F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9CE2-930F-4A90-82A8-3C47406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1E7B-1EDD-41C7-8E91-CAF5C79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9254-3B50-4296-A49E-09053B7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03F-F8A2-4F4F-98A6-1331976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B7DF-65CE-47CC-B976-EFF4C35B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2055-1D36-4070-9B2D-DA3FE59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F03D-0752-4137-8A26-E3E3B4E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23D-DF6A-4A64-B2D9-D6F55AF3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2B3D-FD4D-44E2-A413-90B68DAB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64C-C232-479D-93A4-3857048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EAA-45C0-4133-ADF6-481B6D2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D65-529F-4959-BF5A-372B15E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C23-54EB-4AAA-92F5-914BD29B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CFD-C983-410B-BCE1-8DAA71E2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7B3-0969-4925-873F-61EA300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4EA-C360-4723-9E79-64B0F6F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51E-B66F-4830-8B9F-E2389CEF8AB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461-F25F-45A7-B264-48C74383E2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Solving Equations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Lesson 2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7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0+5z=60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8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2b-7=11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9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4a+4=16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-3/20 + h = 7/10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/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17/20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1. Laura writes this equation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4b-3=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need to isolate the variable so the first thing I do is add three to each side giving me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b=8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Next, I must divide each side by 4 giving me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b=2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I can check my answer by substituting 2 in the equation.    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4(2)-3=5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8-3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                                         </a:t>
            </a:r>
            <a:r>
              <a:rPr b="0" lang="en-US" sz="2600" spc="-1" strike="noStrike">
                <a:solidFill>
                  <a:srgbClr val="99ff33"/>
                </a:solidFill>
                <a:latin typeface="Verdana"/>
              </a:rPr>
              <a:t>5=5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Solving One-Step Equations</a:t>
            </a:r>
            <a:br>
              <a:rPr sz="5000"/>
            </a:b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n-6=1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solate the variable 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1: Identify any numbers on the same side  of the equation as the variab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6 is on the same side of the equ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2:Remove 6 from the left side by adding it to each side.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6+6=15+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3: Simplify.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-0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n=2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EP 4: Check your answer by substitut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21-6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15=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wo-Step Equatio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h-0.9=1.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RATEGY: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Isolate the variable h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1: Add or subtract firs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-0.9+0.9=1.5+0.9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=2.4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2: Multiply or divide next.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2h/2 = 2.4/2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h=1.2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STEP 3: Check.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 x 1.2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(2.4)-0.9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                              </a:t>
            </a:r>
            <a:r>
              <a:rPr b="0" lang="en-US" sz="3000" spc="-1" strike="noStrike">
                <a:solidFill>
                  <a:srgbClr val="99ff33"/>
                </a:solidFill>
                <a:latin typeface="Verdana"/>
              </a:rPr>
              <a:t>1.5=1.5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mple Test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1. 4X=1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64</a:t>
            </a: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0.9+m=5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-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5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12=3h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1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24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36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k- ½ =4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½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4½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8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d/3 = 9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1/3 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3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12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27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D</a:t>
            </a:r>
            <a:endParaRPr b="0" lang="en-US" sz="7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  </a:t>
            </a:r>
            <a:r>
              <a:rPr b="0" lang="en-US" sz="6500" spc="-1" strike="noStrike">
                <a:solidFill>
                  <a:srgbClr val="ffffcc"/>
                </a:solidFill>
                <a:latin typeface="Arial"/>
              </a:rPr>
              <a:t>p+1.3=2.2</a:t>
            </a:r>
            <a:endParaRPr b="0" lang="en-US" sz="6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A  -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B  0.9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C  3.5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D  4.1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nswer is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7500" spc="-1" strike="noStrike">
                <a:solidFill>
                  <a:srgbClr val="eaeaea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7:15:27Z</dcterms:created>
  <dc:creator>KASTRONISA</dc:creator>
  <dc:description/>
  <dc:language>en-US</dc:language>
  <cp:lastModifiedBy>Kastronis Family</cp:lastModifiedBy>
  <dcterms:modified xsi:type="dcterms:W3CDTF">2008-03-18T19:19:32Z</dcterms:modified>
  <cp:revision>12</cp:revision>
  <dc:subject/>
  <dc:title>Solving Equations</dc:title>
</cp:coreProperties>
</file>