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0CC7-BBE4-4726-834F-0D83FEECE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BB8E-6A95-40C2-9D86-09E031A9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0806-AA0C-4130-A36E-6C9511065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545A-DBF8-41A6-9F11-ADC7E83CB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69432-C94D-46DF-80B3-2727999CB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ED61-117F-42C2-A7BD-6B628EA0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DAB01-0700-4C6C-95FE-5345E27A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DF00-EF54-4FCE-9125-EFD05EEC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BB12-B87C-4A66-B4BD-D05DB435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D2A2-578C-4911-926F-9CB34E13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6BF43-DC9A-4B48-A9B5-ED45EEDA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7BAF-553A-4C32-9928-69FACE92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9E98-31D3-46F1-9E54-DB45A75A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FCE3-03E8-4A4C-9358-1C839320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4875-BA2E-4CA6-980F-C2FA236A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1CBD-4D0E-4ADE-B8A3-41BE7D9AF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34DF9-E4D3-4881-B040-DEDB603DA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01B3-71AA-4A42-83C5-18DDC235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53F5-B740-4BAD-A64F-A0FFA230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778B-1EAD-4859-A955-ED78DECA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F103-A5EF-458A-8A3A-3E18979B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E464-11C4-48C7-8A53-D26045CF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C810-86D6-48A8-9BE9-15776CD8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00FF-7566-4017-A3DF-C2ABA6FE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6A0B-9516-4A93-B446-759D02F6180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1F42-3786-4C7F-9F58-97FF7B92A63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ffffcc"/>
                </a:solidFill>
                <a:latin typeface="Arial"/>
              </a:rPr>
              <a:t>Solving Equations</a:t>
            </a:r>
            <a:endParaRPr b="0" lang="en-US" sz="6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Lesson 23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7.   </a:t>
            </a:r>
            <a:r>
              <a:rPr b="0" lang="en-US" sz="6500" spc="-1" strike="noStrike">
                <a:solidFill>
                  <a:srgbClr val="ffffcc"/>
                </a:solidFill>
                <a:latin typeface="Arial"/>
              </a:rPr>
              <a:t>20+5z=60</a:t>
            </a:r>
            <a:endParaRPr b="0" lang="en-US" sz="6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A  4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B  8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C  16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D  20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nswer is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B</a:t>
            </a:r>
            <a:endParaRPr b="0" lang="en-US" sz="75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8.   </a:t>
            </a:r>
            <a:r>
              <a:rPr b="0" lang="en-US" sz="6500" spc="-1" strike="noStrike">
                <a:solidFill>
                  <a:srgbClr val="ffffcc"/>
                </a:solidFill>
                <a:latin typeface="Arial"/>
              </a:rPr>
              <a:t>2b-7=11</a:t>
            </a:r>
            <a:endParaRPr b="0" lang="en-US" sz="6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A  -1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B  2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C  4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D  9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nswer is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D</a:t>
            </a:r>
            <a:endParaRPr b="0" lang="en-US" sz="75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9.   </a:t>
            </a:r>
            <a:r>
              <a:rPr b="0" lang="en-US" sz="6500" spc="-1" strike="noStrike">
                <a:solidFill>
                  <a:srgbClr val="ffffcc"/>
                </a:solidFill>
                <a:latin typeface="Arial"/>
              </a:rPr>
              <a:t>4a+4=16</a:t>
            </a:r>
            <a:endParaRPr b="0" lang="en-US" sz="6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A  -3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B  3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C  12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D  16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nswer is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B</a:t>
            </a:r>
            <a:endParaRPr b="0" lang="en-US" sz="75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10.   </a:t>
            </a:r>
            <a:r>
              <a:rPr b="0" lang="en-US" sz="6500" spc="-1" strike="noStrike">
                <a:solidFill>
                  <a:srgbClr val="ffffcc"/>
                </a:solidFill>
                <a:latin typeface="Arial"/>
              </a:rPr>
              <a:t>-3/20 + h = 7/10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A  -17/20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B  -1/3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C  1/3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D  17/20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nswer is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D</a:t>
            </a:r>
            <a:endParaRPr b="0" lang="en-US" sz="75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11. Laura writes this equation: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4b-3=5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I need to isolate the variable so the first thing I do is add three to each side giving me   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99ff33"/>
                </a:solidFill>
                <a:latin typeface="Verdana"/>
              </a:rPr>
              <a:t>4b=8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Next, I must divide each side by 4 giving me    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99ff33"/>
                </a:solidFill>
                <a:latin typeface="Verdana"/>
              </a:rPr>
              <a:t>b=2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I can check my answer by substituting 2 in the equation.    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2600" spc="-1" strike="noStrike">
                <a:solidFill>
                  <a:srgbClr val="99ff33"/>
                </a:solidFill>
                <a:latin typeface="Verdana"/>
              </a:rPr>
              <a:t>4(2)-3=5 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ff33"/>
                </a:solidFill>
                <a:latin typeface="Verdana"/>
              </a:rPr>
              <a:t>                                      </a:t>
            </a:r>
            <a:r>
              <a:rPr b="0" lang="en-US" sz="2600" spc="-1" strike="noStrike">
                <a:solidFill>
                  <a:srgbClr val="99ff33"/>
                </a:solidFill>
                <a:latin typeface="Verdana"/>
              </a:rPr>
              <a:t>8-3=5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ff33"/>
                </a:solidFill>
                <a:latin typeface="Verdana"/>
              </a:rPr>
              <a:t>                                         </a:t>
            </a:r>
            <a:r>
              <a:rPr b="0" lang="en-US" sz="2600" spc="-1" strike="noStrike">
                <a:solidFill>
                  <a:srgbClr val="99ff33"/>
                </a:solidFill>
                <a:latin typeface="Verdana"/>
              </a:rPr>
              <a:t>5=5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Solving One-Step Equations</a:t>
            </a:r>
            <a:br>
              <a:rPr sz="5000"/>
            </a:b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n-6=15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TRATEGY: 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Isolate the variable 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TEP 1: Identify any numbers on the same side  of the equation as the variabl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        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6 is on the same side of the equatio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TEP 2:Remove 6 from the left side by adding it to each side.       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n-6+6=15+6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TEP 3: Simplify.     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n-0=21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         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n=21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TEP 4: Check your answer by substituting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21-6=15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                                    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15=15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olving Two-Step Equations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2h-0.9=1.5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STRATEGY: </a:t>
            </a: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Isolate the variable h.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STEP 1: Add or subtract first.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05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                    </a:t>
            </a: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2h-0.9+0.9=1.5+0.9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05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                     </a:t>
            </a: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2h=2.4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STEP 2: Multiply or divide next.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05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                    </a:t>
            </a: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2h/2 = 2.4/2</a:t>
            </a: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05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                     </a:t>
            </a: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h=1.2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STEP 3: Check.  </a:t>
            </a: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(2 x 1.2)-0.9=1.5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05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                             </a:t>
            </a: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(2.4)-0.9=1.5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05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                              </a:t>
            </a: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1.5=1.5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ample Test Ques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562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1. 4X=16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A  2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B  4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C  8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D  64</a:t>
            </a: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nswer is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        </a:t>
            </a: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B</a:t>
            </a:r>
            <a:endParaRPr b="0" lang="en-US" sz="75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2.     </a:t>
            </a:r>
            <a:r>
              <a:rPr b="0" lang="en-US" sz="6500" spc="-1" strike="noStrike">
                <a:solidFill>
                  <a:srgbClr val="ffffcc"/>
                </a:solidFill>
                <a:latin typeface="Arial"/>
              </a:rPr>
              <a:t>0.9+m=5</a:t>
            </a:r>
            <a:endParaRPr b="0" lang="en-US" sz="6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A  -5.9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B  -4.1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C  4.1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D  5.9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nswer is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C</a:t>
            </a:r>
            <a:endParaRPr b="0" lang="en-US" sz="75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3.     </a:t>
            </a:r>
            <a:r>
              <a:rPr b="0" lang="en-US" sz="6500" spc="-1" strike="noStrike">
                <a:solidFill>
                  <a:srgbClr val="ffffcc"/>
                </a:solidFill>
                <a:latin typeface="Arial"/>
              </a:rPr>
              <a:t>12=3h</a:t>
            </a:r>
            <a:endParaRPr b="0" lang="en-US" sz="6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A  4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B  15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C  24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D  36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nswer is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         </a:t>
            </a: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A</a:t>
            </a:r>
            <a:endParaRPr b="0" lang="en-US" sz="75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4.   </a:t>
            </a:r>
            <a:r>
              <a:rPr b="0" lang="en-US" sz="6500" spc="-1" strike="noStrike">
                <a:solidFill>
                  <a:srgbClr val="ffffcc"/>
                </a:solidFill>
                <a:latin typeface="Arial"/>
              </a:rPr>
              <a:t>k- ½ =4</a:t>
            </a:r>
            <a:endParaRPr b="0" lang="en-US" sz="6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A  2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B  3½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c  4½ 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D  8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nswer is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        </a:t>
            </a: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C</a:t>
            </a:r>
            <a:endParaRPr b="0" lang="en-US" sz="75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5.    </a:t>
            </a:r>
            <a:r>
              <a:rPr b="0" lang="en-US" sz="6500" spc="-1" strike="noStrike">
                <a:solidFill>
                  <a:srgbClr val="ffffcc"/>
                </a:solidFill>
                <a:latin typeface="Arial"/>
              </a:rPr>
              <a:t>d/3 = 9</a:t>
            </a:r>
            <a:endParaRPr b="0" lang="en-US" sz="6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A  1/3 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B  3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C  12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D  27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nswer is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D</a:t>
            </a:r>
            <a:endParaRPr b="0" lang="en-US" sz="75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6.   </a:t>
            </a:r>
            <a:r>
              <a:rPr b="0" lang="en-US" sz="6500" spc="-1" strike="noStrike">
                <a:solidFill>
                  <a:srgbClr val="ffffcc"/>
                </a:solidFill>
                <a:latin typeface="Arial"/>
              </a:rPr>
              <a:t>p+1.3=2.2</a:t>
            </a:r>
            <a:endParaRPr b="0" lang="en-US" sz="6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A  -3.5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B  0.9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C  3.5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D  4.1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nswer is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B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7:15:27Z</dcterms:created>
  <dc:creator>KASTRONISA</dc:creator>
  <dc:description/>
  <dc:language>en-US</dc:language>
  <cp:lastModifiedBy>Kastronis Family</cp:lastModifiedBy>
  <dcterms:modified xsi:type="dcterms:W3CDTF">2008-03-18T19:19:32Z</dcterms:modified>
  <cp:revision>12</cp:revision>
  <dc:subject/>
  <dc:title>Solving Equations</dc:title>
</cp:coreProperties>
</file>