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6C5-4C85-4B82-82E7-04767A67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099-9F09-4C37-8CEA-9FA28B7F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26A-4041-4EAF-BE3B-3FA00F14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C33-E9CB-457C-A6DB-6CA6F34F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0953-D1DB-4687-BDBC-D48139DF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7AA2-E794-4E09-9FA4-910A1B92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6CF4-B88E-4B55-9C31-B3D52675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E8F6-8E1E-42C5-8B0C-85156886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2E54-EA6F-4849-BEB8-908AA485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F16C-192E-4843-A7CE-A3F5FD7B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C314-97C2-4B51-A0B3-F551786B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842-A778-48A7-BD3D-1BE89048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13B6-C790-4951-B03A-76E2A223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3AF8-0727-456D-8B94-479BD5C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E8FB-FAF9-4E8C-AFE8-43791DEF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D9F1-BB11-44BE-BEB7-A5E54559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EF33-C7DC-47AA-B3D7-F151FDA4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BB9-FB15-419A-ABE2-477171B9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725-FD72-470B-A372-ACFCB1D6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3A5-8839-4F14-82F3-C4F23B07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504-CFB0-48AF-B6F8-C3AFB8D0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64B-F3D3-41A0-BE44-8BE5F1D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FDB-79CA-4700-9E15-2A29F097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6F4-63B3-4176-A5B3-669CF559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4839-E06D-4CC9-A84E-CA2E9BCF7A2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C468-C404-451A-9278-F9CC5233B93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Solving Equations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Lesson 2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7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0+5z=60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8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b-7=11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9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4a+4=16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0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-3/20 + h = 7/10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1. Laura writes this equation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4b-3=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need to isolate the variable so the first thing I do is add three to each side giving me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b=8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Next, I must divide each side by 4 giving me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b=2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can check my answer by substituting 2 in the equation.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(2)-3=5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8-3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5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Solving One-Step Equations</a:t>
            </a:r>
            <a:br>
              <a:rPr sz="5000"/>
            </a:b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n-6=1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Isolate the variable 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1: Identify any numbers on the same side  of the equation as the variab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6 is on the same side of the equ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2:Remove 6 from the left side by adding it to each side.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6+6=15+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3: Simplify.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0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4: Check your answer by substituti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21-6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15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lving Two-Step Equation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h-0.9=1.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Isolate the variable h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1: Add or subtract firs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-0.9+0.9=1.5+0.9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=2.4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2: Multiply or divide nex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/2 = 2.4/2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h=1.2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3: Check.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 x 1.2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.4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1.5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mple Test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1. 4X=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64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0.9+m=5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12=3h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1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2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3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A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k- ½ =4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½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½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5.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d/3 = 9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1/3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7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6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p+1.3=2.2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0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7:15:27Z</dcterms:created>
  <dc:creator>KASTRONISA</dc:creator>
  <dc:description/>
  <dc:language>en-US</dc:language>
  <cp:lastModifiedBy>Kastronis Family</cp:lastModifiedBy>
  <dcterms:modified xsi:type="dcterms:W3CDTF">2008-03-18T19:19:32Z</dcterms:modified>
  <cp:revision>12</cp:revision>
  <dc:subject/>
  <dc:title>Solving Equations</dc:title>
</cp:coreProperties>
</file>