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E8A-88D3-4E0C-A8AD-7FE75E61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06B-0502-4A8B-B14C-6DA2FF8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5F6-DFAB-42D9-A6A8-00D50136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B65-8491-4475-BE9E-7C29C685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65B-89D9-4DE4-9051-2FF08B53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C39-BB0C-4008-B311-4311AC48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25F-C6B9-467A-B5D6-7F232FE5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0FD-7EBA-4293-AC7A-115D1A2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63E-0E41-4AD4-BB8A-EB39FDE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916-8B5D-450D-BDED-D1A7B4A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4E2-8168-4E5D-B653-68DE867F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C6A-7EFB-4EF7-B05F-F0A0788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541-6D3A-44FF-9A74-654E9A0C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3873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 and Meta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12600" cy="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466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6-9 are example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3078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1752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845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"Soft as lamb's wool, fleecy snow / a l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awl of new-fallen snow" contain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387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1803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1752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1307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840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24-26 would be metaphors if they did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 the w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444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850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5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38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7302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is poem, what is a clich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2946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ffective po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412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verused, stale 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0162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fferent kinds of si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430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ype of extreme laz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920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is poem, the poet is saying that metaphor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4952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included in all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5753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only necessary in some po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4699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ever used by lazy po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6197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fresh and vivid to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32Z</dcterms:created>
  <dc:creator>schottw</dc:creator>
  <dc:description/>
  <dc:language>en-US</dc:language>
  <cp:lastModifiedBy>schottw</cp:lastModifiedBy>
  <dcterms:modified xsi:type="dcterms:W3CDTF">2008-03-18T20:24:35Z</dcterms:modified>
  <cp:revision>1</cp:revision>
  <dc:subject/>
  <dc:title>Slide 1</dc:title>
</cp:coreProperties>
</file>