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D18-FCAF-4569-AC73-28C8DD45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C50-B662-4574-B24F-5FFC879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2AA-847A-4B58-BCA5-46E3FA6C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B72-B543-4E57-B675-F53A450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3D9-4B76-4465-831C-96F9772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4FC-2A35-431C-8A99-3BF37D4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02A-F81E-49B1-B16E-2235D52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AA1-DEB0-48B1-A3AC-C0471821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5A0-69B4-4C4F-858E-B0304CBC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2BD-80F4-463D-91DA-D1275F3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ACF-78E8-46C2-93D3-1529FF3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DDD-4DDC-495C-8939-7644240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BC3C-8C86-4ACA-BB20-8E2293A3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3873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 and Meta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466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6-9 are example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3078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1752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845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"Soft as lamb's wool, fleecy snow / a l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wl of new-fallen snow" contain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387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752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307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840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24-26 would be metaphors if they did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 the w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444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850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5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38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7302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is poem, what is a clich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946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ffective po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412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verused, stale 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0162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fferent kinds of si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30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ype of extreme laz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920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is poem, the poet is saying that metaphor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4952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included in all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5753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only necessary in some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4699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ever used by lazy po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619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fresh and vivid to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32Z</dcterms:created>
  <dc:creator>schottw</dc:creator>
  <dc:description/>
  <dc:language>en-US</dc:language>
  <cp:lastModifiedBy>schottw</cp:lastModifiedBy>
  <dcterms:modified xsi:type="dcterms:W3CDTF">2008-03-18T20:24:35Z</dcterms:modified>
  <cp:revision>1</cp:revision>
  <dc:subject/>
  <dc:title>Slide 1</dc:title>
</cp:coreProperties>
</file>