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2386-5B7A-4A64-BF4F-DD3605F9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6030-E97B-4FA0-B936-AEFA7009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7903-08FA-4BF6-8382-33483281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0C39-E24D-4D7F-B756-907217CA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B22E-26CA-4BAC-B43B-C45CDD9E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5936-175D-4206-B2C6-C3BE21A0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0210-8A52-4B0E-B372-C660DE75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932B-66A5-40D0-9984-B227F6D6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793A-3F94-4E3F-8306-06B6204B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6A5F-30DB-489C-9B2A-88CE397B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1637-7A2D-450C-81BD-A8A6A7CE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384-94B2-409F-A085-A7535995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0E4E-C782-4282-A24B-46CF5D480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27280" y="1193760"/>
            <a:ext cx="3873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e and Meta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27280" y="2540160"/>
            <a:ext cx="12600" cy="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35040" y="888840"/>
            <a:ext cx="4660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es 6-9 are examples of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816200"/>
            <a:ext cx="1803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aph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87600" y="2768760"/>
            <a:ext cx="2450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87600" y="3720960"/>
            <a:ext cx="13078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87600" y="4673520"/>
            <a:ext cx="17524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1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35040" y="888840"/>
            <a:ext cx="8458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es "Soft as lamb's wool, fleecy snow / a lac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awl of new-fallen snow" contains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87600" y="1816200"/>
            <a:ext cx="2387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rhy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87600" y="2768760"/>
            <a:ext cx="1803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aph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87600" y="3720960"/>
            <a:ext cx="17524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7600" y="4673520"/>
            <a:ext cx="1307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2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5040" y="888840"/>
            <a:ext cx="840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es 24-26 would be metaphors if they did no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ain the wor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87600" y="1816200"/>
            <a:ext cx="444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87600" y="2768760"/>
            <a:ext cx="8506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7600" y="3720960"/>
            <a:ext cx="2538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87600" y="4673520"/>
            <a:ext cx="380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3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35040" y="888840"/>
            <a:ext cx="7302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ording to this poem, what is a clich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87600" y="1816200"/>
            <a:ext cx="2946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ffective po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87600" y="2768760"/>
            <a:ext cx="4127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overused, stale sim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7600" y="3720960"/>
            <a:ext cx="50162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different kinds of sim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87600" y="4673520"/>
            <a:ext cx="4305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ype of extreme lazi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4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35040" y="888840"/>
            <a:ext cx="920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this poem, the poet is saying that metaphors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87600" y="1816200"/>
            <a:ext cx="4952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be included in all po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87600" y="2768760"/>
            <a:ext cx="5753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only necessary in some po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87600" y="3720960"/>
            <a:ext cx="46990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never used by lazy po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87600" y="4673520"/>
            <a:ext cx="6197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be fresh and vivid to be eff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5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4:32Z</dcterms:created>
  <dc:creator>schottw</dc:creator>
  <dc:description/>
  <dc:language>en-US</dc:language>
  <cp:lastModifiedBy>schottw</cp:lastModifiedBy>
  <dcterms:modified xsi:type="dcterms:W3CDTF">2008-03-18T20:24:35Z</dcterms:modified>
  <cp:revision>1</cp:revision>
  <dc:subject/>
  <dc:title>Slide 1</dc:title>
</cp:coreProperties>
</file>