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18E-074F-4270-8B4D-EC83A76E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7A9-553E-4591-8919-0D0A1E7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20D-0615-400C-B396-6C5A6D46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A43-19B0-4124-9BC5-0C345326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6A2-A498-47A5-A2B1-92F0408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D11-1BFB-4DB0-AA85-1A86A0C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B50-DA53-454F-BC16-B7B0F35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1CF-605F-4837-8656-967AD9FE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18B-5E19-4207-BD3A-C33B409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49C-59C5-4D3D-B51C-A3E9B71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D5D-30B8-4D74-84D5-F3EBA1F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EE2-0F55-4B39-8CB2-3FEB484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5F4-70D9-4F83-B81D-A40DC6CC5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3873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 and Meta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466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6-9 are example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3078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1752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845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"Soft as lamb's wool, fleecy snow / a l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wl of new-fallen snow" contain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387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75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307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840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24-26 would be metaphors if they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w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444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850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5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38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7302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is poem, what is a clich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946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ffective po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412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verused, stale 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0162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fferent kinds of si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30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extreme laz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920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poem, the poet is saying that metaphor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4952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included in all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5753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only necessary in some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4699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ever used by lazy po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619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fresh and vivid to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32Z</dcterms:created>
  <dc:creator>schottw</dc:creator>
  <dc:description/>
  <dc:language>en-US</dc:language>
  <cp:lastModifiedBy>schottw</cp:lastModifiedBy>
  <dcterms:modified xsi:type="dcterms:W3CDTF">2008-03-18T20:24:35Z</dcterms:modified>
  <cp:revision>1</cp:revision>
  <dc:subject/>
  <dc:title>Slide 1</dc:title>
</cp:coreProperties>
</file>