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7C0A-D78E-4CCA-BF54-086B39C40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6C96-6D5B-45AF-A94A-0CFDF393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BBC-6456-4DD1-830E-2C9F7D6F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D45-04A1-4CC3-84E0-EBB4485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907-98AB-4F89-AB50-DF7C2FE3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2D3-2ADA-45AB-8D70-06AB5EA4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DBE5-3AE0-4C33-A56C-11BD4395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5CB4-3997-4135-ACF9-B6BE87E4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F1C1-65FF-4A22-ABC4-1A47E1B6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1BD-E089-4E7A-B45F-C384DB4C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730C-2172-42C2-AB51-ADA9167B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2394-6FBE-4DB4-A5A7-2ABFDC94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A0E0-C17C-44B3-AB32-62C8821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27C-4EC2-42E7-9C38-B666F1DB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F741-DAE8-4178-8CAA-B1135546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3FA9-0F74-4A8C-89F3-D8F6652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FAA8-8336-42E2-8A2A-E759040D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890-8EFC-4F86-9743-251CFE8E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E505-A563-4859-AE5E-1657987E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89B-61C8-49F0-A399-F011BBB4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C17-29B2-47D4-9DAF-E3ED28D5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FF0-B972-4ACC-8F95-8A3DAB7A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A39-2AE1-47B4-A4A2-5C911A08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443-10A1-4220-90D1-0CDFB46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92C-9C0A-4F2A-9B33-F472CE4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16-1F08-4ABC-93D4-29ACD00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7908-40EF-4D22-B3E1-918329C4FE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8FD-048D-4430-8C88-66FC206B03A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son 2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te of Chang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ience – Grade 7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ek of March 17 – 2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#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trina rode a bus that traveled 17 miles every 20 minutes. The bus stayed at a constant speed for the entire tr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r far does the bus travel in 1 hour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w far will the bus travel in 1 ½ hours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ch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51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76.5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Che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next two numbers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2, 1.9, 2.6, 3.3, 4.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2, 4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2, 5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missing number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, 58, 56, 54, ___, 5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x:   8x = 7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solution of this equa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8 = 5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5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mberly writes 6 pages every 2 hours. At this rate, how many pages can Kimberly writ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mathematical expression that models this word express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less than the quotient of a number and f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n ÷ 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+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4/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J:   4J = 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79080" y="1600200"/>
            <a:ext cx="634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 wrote the pattern below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, 15, 20, 25, 30, ___, 4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hat is the rule for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What is the missing number i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The seventh term in the patter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40. What are the eighth a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nth term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ple Test Ques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ctoria’s family drove 672 miles in 14 hours.  What was the average rate of speed for the trip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2640" y="129528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lmi wrote the following word expression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ve less than a number is equal to sev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 a mathematical sentence that models the word sentence above. (let n represent the numbe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Solve Kalmi’s mathematical sentence. Show your wor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Sayeed’s pl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Chart 3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984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 How much does the plant grow in 1 wee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B How tall will the plant be after 10 weeks?  Explain your reason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5640" y="190512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984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, 5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133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+ 5   + 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=  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Straight Connector 4"/>
          <p:cNvSpPr/>
          <p:nvPr/>
        </p:nvSpPr>
        <p:spPr>
          <a:xfrm flipH="1">
            <a:off x="4191120" y="1905120"/>
            <a:ext cx="1440" cy="2895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24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c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lant will be over 5 cm tall after 10 weeks.  The growth is ½ cm per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5998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enneth’s school, tickets for a concert were sold at a rate of 40 tickets per half hour. How many tickets will be sol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 P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4920" y="14475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number of pies produced at a bakery as a function of time. What is the rate of pie produc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ssa made 18 gift baskets in 3 hours. How many gift baskets can she mak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owth of Martha’s Pla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00200"/>
            <a:ext cx="52578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9480" y="190512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a plant in Martha’s window box. What is the rate of growth of Martha’s plan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 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la read 90 pages of her novel in 2 hours. How many pages can she rea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55:50Z</dcterms:created>
  <dc:creator> </dc:creator>
  <dc:description/>
  <cp:keywords/>
  <dc:language>en-US</dc:language>
  <cp:lastModifiedBy> </cp:lastModifiedBy>
  <dcterms:modified xsi:type="dcterms:W3CDTF">2008-03-19T20:48:22Z</dcterms:modified>
  <cp:revision>13</cp:revision>
  <dc:subject/>
  <dc:title>Lesson 23 Rate of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