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5211-837E-46AE-ACA7-6459AC063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8007-B9BE-4977-BBFE-3E8496CCC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095B-CEEF-47ED-AF93-210326CF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F350-B647-4FD1-96B4-16CEB6B2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7410-4D08-42D1-ADAC-DE09B1E0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91A0-FD26-4550-AE2D-10E0B668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1720-9B46-446B-B8AD-C71B2CB5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79D2-7437-4369-BFC4-3DAD48E1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CCAF-9B84-4DA5-BA21-341803BC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7678-E625-447F-84AA-CBC0792B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2031-958F-4DE4-AE77-D8A1CD73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68D6-0714-48BD-A70D-6B42B277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927F-BA1D-4A47-9580-A9167429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15AA-D3FF-4249-A623-94793C49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F76B-DCEC-4515-96D3-84F7C710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20EE-DD01-4B05-B212-92C799A3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E738-C9B5-41F9-A05C-3AB71457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8284-4853-4AD2-80C8-1628AA79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68C5-C003-4B20-A6F3-EFAB28CF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8A39-625E-4EFB-B3EC-AD8A07E6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5801-A421-4E90-BF39-542C62ED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2C52-1A6A-439C-8AA6-5DA8B92B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A8A1-2789-4FE0-BC3B-28DF748A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62AE-0D01-4CA8-AA6F-3003C562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B303-6459-4674-9FBE-85C0A758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34E6-7854-4820-8531-63A0C737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D176-6CDE-411E-9DFF-C50EA710401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F45B-B138-4081-94E1-634859AEDA6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sson 23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ate of Chang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5256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cience – Grade 7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ek of March 17 – 28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ssion # 5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7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atrina rode a bus that traveled 17 miles every 20 minutes. The bus stayed at a constant speed for the entire trip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ur far does the bus travel in 1 hour? _____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w far will the bus travel in 1 ½ hours? _____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8 MP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6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 pies per hou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inch per wee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1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. 51 mil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 76.5 mil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gress Check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are the next two numbers in this patter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2, 1.9, 2.6, 3.3, 4.0, 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2, 4.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7, 5.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7, 5.7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2, 5.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2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missing number in this patter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0, 58, 56, 54, ___, 50, 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3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for x:   8x = 7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4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the solution of this equatio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– 8 = 55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4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47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58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6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5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imberly writes 6 pages every 2 hours. At this rate, how many pages can Kimberly write in 5 hour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6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79080" y="159984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 the mathematical expression that models this word expression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 less than the quotient of a number and fou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 – n ÷ 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/4 + 6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/4 – 6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 – 4/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7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294920" y="20574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for J:   4J = 36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8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79080" y="1600200"/>
            <a:ext cx="634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k wrote the pattern below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, 15, 20, 25, 30, ___, 40, 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What is the rule for this patter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What is the missing number i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atter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The seventh term in the pattern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40. What are the eighth an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nth term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ample Test Questio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42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ctoria’s family drove 672 miles in 14 hours.  What was the average rate of speed for the trip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0 mp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8 mp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5 mp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2 mp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9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42640" y="1295280"/>
            <a:ext cx="618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almi wrote the following word expression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ve less than a number is equal to sev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Write a mathematical sentence that models the word sentence above. (let n represent the number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Solve Kalmi’s mathematical sentence. Show your wor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10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294920" y="12952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aph shows the growth of Sayeed’s plan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2" name="Chart 3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60958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599840" y="1523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 A How much does the plant grow in 1 week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 B How tall will the plant be after 10 weeks?  Explain your reasoning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5640" y="1905120"/>
            <a:ext cx="618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7, 5.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6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/4 – 6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99840" y="190512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. A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5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5, 5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94920" y="213372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.A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– 5 = 7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– 5 = 7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+ 5   + 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 =  1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Straight Connector 4"/>
          <p:cNvSpPr/>
          <p:nvPr/>
        </p:nvSpPr>
        <p:spPr>
          <a:xfrm flipH="1">
            <a:off x="4191120" y="1905120"/>
            <a:ext cx="1440" cy="28954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371240" y="23320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 A.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 cm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B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lant will be over 5 cm tall after 10 weeks.  The growth is ½ cm per wee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2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95280" y="1599840"/>
            <a:ext cx="5943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Kenneth’s school, tickets for a concert were sold at a rate of 40 tickets per half hour. How many tickets will be sold in 7 hour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8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7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6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4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ie Production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6" name="Content Placeholder 3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477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3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94920" y="144756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aph shows the number of pies produced at a bakery as a function of time. What is the rate of pie productio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 pies per h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 pies per h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0 pies per h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0 pies per h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4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rissa made 18 gift baskets in 3 hours. How many gift baskets can she make in 5 hour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Growth of Martha’s Plan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2" name="Content Placeholder 3" descr=""/>
          <p:cNvPicPr/>
          <p:nvPr/>
        </p:nvPicPr>
        <p:blipFill>
          <a:blip r:embed="rId1"/>
          <a:stretch/>
        </p:blipFill>
        <p:spPr>
          <a:xfrm>
            <a:off x="1279440" y="1600200"/>
            <a:ext cx="5257800" cy="4525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609480" y="1905120"/>
            <a:ext cx="457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5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79080" y="159984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aph shows the growth of a plant in Martha’s window box. What is the rate of growth of Martha’s plant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 in per wee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in  per wee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in per wee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in per wee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6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la read 90 pages of her novel in 2 hours. How many pages can she read in 7 hours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1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2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3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8:55:50Z</dcterms:created>
  <dc:creator> </dc:creator>
  <dc:description/>
  <cp:keywords/>
  <dc:language>en-US</dc:language>
  <cp:lastModifiedBy> </cp:lastModifiedBy>
  <dcterms:modified xsi:type="dcterms:W3CDTF">2008-03-19T20:48:22Z</dcterms:modified>
  <cp:revision>13</cp:revision>
  <dc:subject/>
  <dc:title>Lesson 23 Rate of Cha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