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1B50-868C-48D9-93F3-24FD90A67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3F01-B1D8-4CE0-A0F2-733BAFF97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148-6AC6-4E48-ABD7-35536EA6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C29-3AF0-475A-8147-CCCF6A37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5F7-D594-4CC2-8CD2-C1EB7CA1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5D0-2B7F-4261-B105-E34A796D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8DF2-52C7-4348-B6AF-E67BC343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62D8-A45E-4CB5-BA99-4DD9B361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F0A7-762A-4465-8408-48D86D36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5CC6-7E4C-42E0-8C5A-F875C0BD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E84D-8602-43A8-9CC7-CF4E8854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3678-599D-44C4-B3F4-7E0A650B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70A4-9D12-4457-9BCB-4729C837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5B7A-696B-43F4-9062-D5F964B5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6A43-A5A0-4832-980D-B8A480AF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BD33-656F-4558-8059-13CCD5E4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D276-6E23-4CFB-A668-C8EC59B4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A375-5D37-4B66-865F-A2F54942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C2A3-1FCD-45F6-87A4-9C054D41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530-8F33-491F-9B00-1F8AA340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F10-533C-4EEF-AC97-B4825152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887-D90B-49E1-875A-6B058B5E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A08-3F04-4CFD-9F35-BC59B2EB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A82-D8CC-4B51-B43A-FC271851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BB0-3CAD-4E94-BD17-8BDD0EB8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A4D-9CD3-428C-A39C-3C4383E6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9D22-5CB6-48CB-B11E-948C73AE587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958D-67E1-4527-BBC1-60BCEC03177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sson 23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ate of Chang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ience – Grade 7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ek of March 17 – 28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ssion #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7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atrina rode a bus that traveled 17 miles every 20 minutes. The bus stayed at a constant speed for the entire trip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ur far does the bus travel in 1 hour? _____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w far will the bus travel in 1 ½ hours? _____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6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 pies per h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inch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51 mil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76.5 mil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gress Check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the next two numbers in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2, 1.9, 2.6, 3.3, 4.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2, 4.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2, 5.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missing number in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, 58, 56, 54, ___, 5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for x:   8x = 7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solution of this equatio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– 8 = 55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4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4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5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6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mberly writes 6 pages every 2 hours. At this rate, how many pages can Kimberly write in 5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7908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the mathematical expression that models this word expressio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 less than the quotient of a number and f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 – n ÷ 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+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–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 – 4/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7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94920" y="20574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for J:   4J = 3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79080" y="1600200"/>
            <a:ext cx="634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 wrote the pattern below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, 15, 20, 25, 30, ___, 4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hat is the rule for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What is the missing number i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The seventh term in the pattern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40. What are the eighth an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nth term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mple Test Ques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2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ctoria’s family drove 672 miles in 14 hours.  What was the average rate of speed for the trip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0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2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9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2640" y="1295280"/>
            <a:ext cx="618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almi wrote the following word expression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ve less than a number is equal to sev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rite a mathematical sentence that models the word sentence above. (let n represent the number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Solve Kalmi’s mathematical sentence. Show your wor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94920" y="12952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growth of Sayeed’s pla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2" name="Chart 3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095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9984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A How much does the plant grow in 1 week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B How tall will the plant be after 10 weeks?  Explain your reasoning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5640" y="1905120"/>
            <a:ext cx="618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6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–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99840" y="19051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. 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5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, 5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94920" y="21337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– 5 = 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– 5 = 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+ 5   + 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 =  1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Straight Connector 4"/>
          <p:cNvSpPr/>
          <p:nvPr/>
        </p:nvSpPr>
        <p:spPr>
          <a:xfrm flipH="1">
            <a:off x="4191120" y="1905120"/>
            <a:ext cx="1440" cy="2895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371240" y="23320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A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 c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lant will be over 5 cm tall after 10 weeks.  The growth is ½ cm per wee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5280" y="15998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Kenneth’s school, tickets for a concert were sold at a rate of 40 tickets per half hour. How many tickets will be sold in 7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8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6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4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e P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Content Placeholder 3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77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94920" y="144756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number of pies produced at a bakery as a function of time. What is the rate of pie productio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rissa made 18 gift baskets in 3 hours. How many gift baskets can she make in 5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owth of Martha’s Plan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Content Placeholder 3" descr=""/>
          <p:cNvPicPr/>
          <p:nvPr/>
        </p:nvPicPr>
        <p:blipFill>
          <a:blip r:embed="rId1"/>
          <a:stretch/>
        </p:blipFill>
        <p:spPr>
          <a:xfrm>
            <a:off x="1279440" y="1600200"/>
            <a:ext cx="525780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609480" y="1905120"/>
            <a:ext cx="45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7908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growth of a plant in Martha’s window box. What is the rate of growth of Martha’s plant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in 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la read 90 pages of her novel in 2 hours. How many pages can she read in 7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2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55:50Z</dcterms:created>
  <dc:creator> </dc:creator>
  <dc:description/>
  <cp:keywords/>
  <dc:language>en-US</dc:language>
  <cp:lastModifiedBy> </cp:lastModifiedBy>
  <dcterms:modified xsi:type="dcterms:W3CDTF">2008-03-19T20:48:22Z</dcterms:modified>
  <cp:revision>13</cp:revision>
  <dc:subject/>
  <dc:title>Lesson 23 Rate of Ch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