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A8A0-6313-4529-A93B-33B51EF14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EF50-F200-4515-8F7A-9D5DA463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903-4C92-476D-80DF-7A62E40F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23B-0FE9-414B-9126-C66685E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E95-6865-40EF-8748-85C65E29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7EF-8D83-4641-B06D-3953C526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2939-C52A-46EA-B89C-FD3E71FE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F68F-536B-44F9-BDA3-CDF85BAA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C523-84B8-4A07-BB1A-116B51F6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94CA-8083-4538-8375-3A789AD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B7E6-444D-4BC1-9F2A-7CB0CBB7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DD0-35FF-471E-947A-0EA7EBE1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EA7B-F6CE-4FD8-986E-1D0440A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C84-778E-45C8-BFED-1D9264D8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FB56-79EC-421A-810A-B1F9401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4671-2A81-4726-AF7A-77F54E21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EAF2-BAEF-4901-92C7-41768C1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C530-686A-4957-9DFA-C39A3232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AB31-46A3-4687-93C5-126A01CB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24B-53BC-43C6-8F2D-5C99C839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676-B1D9-4549-A4E6-CCE07528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63C-3A72-4A1A-8B0D-821020F7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1DB-169A-4D39-93FA-79789F4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EC1-78D0-46CB-8570-BD80BC1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26A-AF99-49AC-8DD1-84B535EC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D9B2-DEAF-4F47-A911-6F29124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CFAD-8E44-4F57-9C1B-89AF46E5B3B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E8D7-3544-4419-8AB1-6E44CFCD29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2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te of Chang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ce – Grade 7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 of March 17 – 2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#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trina rode a bus that traveled 17 miles every 20 minutes. The bus stayed at a constant speed for the entire tr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r far does the bus travel in 1 hour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w far will the bus travel in 1 ½ hours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ch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51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76.5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Ch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next two numbers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, 1.9, 2.6, 3.3, 4.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2, 4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2, 5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missing number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, 58, 56, 54, ___, 5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x:   8x = 7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solution of this equa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8 = 5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mberly writes 6 pages every 2 hours. At this rate, how many pages can Kimberly writ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mathematical expression that models this word express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ess than the quotient of a number and f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n ÷ 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+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4/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J:   4J = 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080" y="1600200"/>
            <a:ext cx="63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wrote the pattern below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 15, 20, 25, 30, ___, 4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hat is the rule for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What is the missing number i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The seventh term in the patter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40. What are the eighth a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nth term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ple Test Ques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ctoria’s family drove 672 miles in 14 hours.  What was the average rate of speed for the trip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2640" y="129528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lmi wrote the following word expressio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ve less than a number is equal to sev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 a mathematical sentence that models the word sentence above. (let n represent the numbe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Solve Kalmi’s mathematical sentence. Show your wor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Sayeed’s pl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984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 How much does the plant grow in 1 wee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B How tall will the plant be after 10 weeks?  Explain your reason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5640" y="190512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984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, 5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133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+ 5   + 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=  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4191120" y="1905120"/>
            <a:ext cx="1440" cy="289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c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lant will be over 5 cm tall after 10 weeks.  The growth is ½ cm per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enneth’s school, tickets for a concert were sold at a rate of 40 tickets per half hour. How many tickets will be sol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 P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4475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number of pies produced at a bakery as a function of time. What is the rate of pie produc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ssa made 18 gift baskets in 3 hours. How many gift baskets can she mak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owth of Martha’s Pla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00200"/>
            <a:ext cx="52578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9480" y="19051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a plant in Martha’s window box. What is the rate of growth of Martha’s plan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 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la read 90 pages of her novel in 2 hours. How many pages can she rea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55:50Z</dcterms:created>
  <dc:creator> </dc:creator>
  <dc:description/>
  <cp:keywords/>
  <dc:language>en-US</dc:language>
  <cp:lastModifiedBy> </cp:lastModifiedBy>
  <dcterms:modified xsi:type="dcterms:W3CDTF">2008-03-19T20:48:22Z</dcterms:modified>
  <cp:revision>13</cp:revision>
  <dc:subject/>
  <dc:title>Lesson 23 Rate of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