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377E-FE10-4C55-A08D-1E90F6B4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F0F0-C4E0-4179-B1C3-0ABF318C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D14-BDA6-4FB4-9194-17B2E098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572-B541-48C2-AADD-D3ECFF0A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118-BB4C-4FE5-8B48-0598EC88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3BB-5659-4BB4-8FA5-128109C3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6CD0-0984-46E2-8E76-FFDD80F1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5E75-3EF0-42EF-97E4-1D00CEBB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983D-04B5-4F69-BAF0-CB4D351D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4732-B5B1-44E2-BE90-B26F3986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E699-CFBF-4C8A-A25F-7B5FBDA8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7984-5CF6-4A5A-BF0E-F30A4B97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423E-73F3-4AE0-B4C5-72A3C932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2D0-E79E-4CE8-89D8-6620B96E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D2FC-DC66-4E4B-B399-557CE15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5613-0337-469D-B948-219FB75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158C-F905-4C19-97CA-C04F2887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FB2B-87BF-4FAB-BEA2-77A7DE87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1B8D-E217-4927-8882-398FA521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35C-E0EB-4487-8A10-4D78B38E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4F6-4783-451C-8AED-0CE3AD69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CE8-F2F0-4C05-90A8-5FD74E2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538-6AEE-4278-9DB6-8D096FCA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434-C2F5-4F5D-A5E8-BDBE90A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E50-3398-4321-A319-B86D9F70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912-1DFB-4137-AF0A-1614C7D0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1C5C-DF68-498D-A8FB-E3A49556339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C79B-4AA6-406B-A139-550C6B9328A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son 2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te of Chang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ience – Grade 7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ek of March 17 – 2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ssion #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trina rode a bus that traveled 17 miles every 20 minutes. The bus stayed at a constant speed for the entire trip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r far does the bus travel in 1 hour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w far will the bus travel in 1 ½ hours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ch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51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76.5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ess Che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next two numbers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2, 1.9, 2.6, 3.3, 4.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2, 4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2, 5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missing number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, 58, 56, 54, ___, 5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x:   8x = 7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solution of this equa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– 8 = 5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5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mberly writes 6 pages every 2 hours. At this rate, how many pages can Kimberly writ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mathematical expression that models this word express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less than the quotient of a number and f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n ÷ 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+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4/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492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J:   4J = 3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79080" y="1600200"/>
            <a:ext cx="634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 wrote the pattern below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, 15, 20, 25, 30, ___, 4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hat is the rule for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What is the missing number i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The seventh term in the patter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40. What are the eighth an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nth term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mple Test Ques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2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ctoria’s family drove 672 miles in 14 hours.  What was the average rate of speed for the trip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2640" y="129528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lmi wrote the following word expression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ve less than a number is equal to sev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rite a mathematical sentence that models the word sentence above. (let n represent the number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Solve Kalmi’s mathematical sentence. Show your wor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492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Sayeed’s pla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Chart 3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9984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 How much does the plant grow in 1 wee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B How tall will the plant be after 10 weeks?  Explain your reason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5640" y="190512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9984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, 5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4920" y="21337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+ 5   + 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=  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Straight Connector 4"/>
          <p:cNvSpPr/>
          <p:nvPr/>
        </p:nvSpPr>
        <p:spPr>
          <a:xfrm flipH="1">
            <a:off x="4191120" y="1905120"/>
            <a:ext cx="1440" cy="2895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240" y="2332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c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lant will be over 5 cm tall after 10 weeks.  The growth is ½ cm per wee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5280" y="15998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Kenneth’s school, tickets for a concert were sold at a rate of 40 tickets per half hour. How many tickets will be sol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e P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4920" y="14475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number of pies produced at a bakery as a function of time. What is the rate of pie produc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ssa made 18 gift baskets in 3 hours. How many gift baskets can she mak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owth of Martha’s Pla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00200"/>
            <a:ext cx="52578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09480" y="190512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a plant in Martha’s window box. What is the rate of growth of Martha’s plant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 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la read 90 pages of her novel in 2 hours. How many pages can she rea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55:50Z</dcterms:created>
  <dc:creator> </dc:creator>
  <dc:description/>
  <cp:keywords/>
  <dc:language>en-US</dc:language>
  <cp:lastModifiedBy> </cp:lastModifiedBy>
  <dcterms:modified xsi:type="dcterms:W3CDTF">2008-03-19T20:48:22Z</dcterms:modified>
  <cp:revision>13</cp:revision>
  <dc:subject/>
  <dc:title>Lesson 23 Rate of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