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ACE2-C295-4AE8-AAA9-81B8F0046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8263-30EE-4FFE-9399-366C96E41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534-31FE-4456-8346-BC363297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6E2-3A13-45F8-A3A0-0951B508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08A-3733-4D09-B80C-138D32F5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9D0-1761-42B5-8682-024E0821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E31C-F1EE-48B2-8D3B-12B965C6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F3B1-C8AF-4A77-B952-D69E250A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2BEB-98FF-4615-B407-063E6C48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564F-D9DB-44CD-8FF9-4D26F3F8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DD0B-79F9-447B-9D3F-6BEBFA2F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AD98-0023-4EEB-9F83-663F199E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2F51-7BC5-439E-87CE-83A91484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35B-18BE-4F51-AC42-DBFC917B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70F7-5EDA-43E4-8E6D-E80BEA56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D410-C6E9-4A63-991B-0358A046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A74E-D049-474A-BA84-A75CCEDF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2203-5DF7-4B32-8291-DE8F8470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DD3C-E827-4CE1-BCB5-9889D337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87A-FE48-4A62-B8C4-A96F24C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932-CD0F-4CDC-B8EB-A8476728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DA3-B1D9-4338-87D1-22DCA66F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023-C5A1-45B1-8030-C5A137F4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811-0AF1-4594-AA7A-5341736F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75F-DB87-4630-9F3D-38F01A1A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9A3-A592-4C88-B71A-80595B92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0AD5-2051-4422-854A-A139B8FB3C4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3256-6361-4001-8946-0946B3CDE48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sson 23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ate of Chang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ience – Grade 7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ek of March 17 – 28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ssion #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atrina rode a bus that traveled 17 miles every 20 minutes. The bus stayed at a constant speed for the entire trip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r far does the bus travel in 1 hour? 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w far will the bus travel in 1 ½ hours? 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pies per h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inch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51 mi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76.5 mi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gress Chec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next two numbers in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2, 1.9, 2.6, 3.3, 4.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2, 4.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2, 5.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missing number in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, 58, 56, 54, ___, 5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x:   8x = 7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solution of this equatio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– 8 = 55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4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4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5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6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mberly writes 6 pages every 2 hours. At this rate, how many pages can Kimberly write in 5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e mathematical expression that models this word express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 less than the quotient of a number and f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– n ÷ 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+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–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– 4/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492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J:   4J = 3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79080" y="1600200"/>
            <a:ext cx="634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 wrote the pattern below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, 15, 20, 25, 30, ___, 4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hat is the rule for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What is the missing number i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The seventh term in the pattern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40. What are the eighth an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nth term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mple Test Ques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2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ctoria’s family drove 672 miles in 14 hours.  What was the average rate of speed for the trip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0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2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9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2640" y="1295280"/>
            <a:ext cx="618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almi wrote the following word expression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ve less than a number is equal to sev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rite a mathematical sentence that models the word sentence above. (let n represent the number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Solve Kalmi’s mathematical sentence. Show your wor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4920" y="12952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growth of Sayeed’s pla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Chart 3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9984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A How much does the plant grow in 1 wee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B How tall will the plant be after 10 weeks?  Explain your reason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5640" y="1905120"/>
            <a:ext cx="618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6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–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9984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. 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5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, 5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94920" y="21337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5 = 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5 = 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+ 5   + 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=  1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Straight Connector 4"/>
          <p:cNvSpPr/>
          <p:nvPr/>
        </p:nvSpPr>
        <p:spPr>
          <a:xfrm flipH="1">
            <a:off x="4191120" y="1905120"/>
            <a:ext cx="1440" cy="2895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71240" y="23320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A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 c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lant will be over 5 cm tall after 10 weeks.  The growth is ½ cm per wee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5280" y="15998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Kenneth’s school, tickets for a concert were sold at a rate of 40 tickets per half hour. How many tickets will be sold in 7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8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4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e P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7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94920" y="144756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number of pies produced at a bakery as a function of time. What is the rate of pie productio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rissa made 18 gift baskets in 3 hours. How many gift baskets can she make in 5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owth of Martha’s Pla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00200"/>
            <a:ext cx="52578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609480" y="1905120"/>
            <a:ext cx="4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growth of a plant in Martha’s window box. What is the rate of growth of Martha’s plant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in 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la read 90 pages of her novel in 2 hours. How many pages can she read in 7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2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55:50Z</dcterms:created>
  <dc:creator> </dc:creator>
  <dc:description/>
  <cp:keywords/>
  <dc:language>en-US</dc:language>
  <cp:lastModifiedBy> </cp:lastModifiedBy>
  <dcterms:modified xsi:type="dcterms:W3CDTF">2008-03-19T20:48:22Z</dcterms:modified>
  <cp:revision>13</cp:revision>
  <dc:subject/>
  <dc:title>Lesson 23 Rate of Ch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