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35D-B33C-4C54-A919-2EEEBEA1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315-CA75-4C16-B562-98E875A0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EB8-8C1B-40FC-8D28-447FAD52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F39-B41E-4240-AC8F-CAF0CC1D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CDB-31B0-4BD5-B347-BF56ACC4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DDD-3CB6-4A1A-B68B-0F33C141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92B-8EC6-41CB-830D-978D6333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8F9-7C71-4512-A5F1-60B804B2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F21-5B60-4696-B716-87AE5541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FF8-03A7-4F8D-B1CD-3C96E52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AA6-2F84-4E10-A94B-993C21D8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B6F-23BB-47FA-8876-7434B078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ED8D-1D14-4128-A6AB-EE2011E41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2959200" y="139680"/>
            <a:ext cx="8800920" cy="196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289320" y="2108160"/>
            <a:ext cx="836928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tempimage101.tiff"/>
          <p:cNvPicPr/>
          <p:nvPr/>
        </p:nvPicPr>
        <p:blipFill>
          <a:blip r:embed="rId1"/>
          <a:stretch/>
        </p:blipFill>
        <p:spPr>
          <a:xfrm>
            <a:off x="2793960" y="254160"/>
            <a:ext cx="10007640" cy="92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400480" y="1104840"/>
            <a:ext cx="11226600" cy="5016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6235560" y="72518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2324160" y="317520"/>
            <a:ext cx="9994680" cy="916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31.tiff"/>
          <p:cNvPicPr/>
          <p:nvPr/>
        </p:nvPicPr>
        <p:blipFill>
          <a:blip r:embed="rId1"/>
          <a:stretch/>
        </p:blipFill>
        <p:spPr>
          <a:xfrm>
            <a:off x="2171880" y="1206360"/>
            <a:ext cx="11315520" cy="5727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070680" y="70740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41.tiff"/>
          <p:cNvPicPr/>
          <p:nvPr/>
        </p:nvPicPr>
        <p:blipFill>
          <a:blip r:embed="rId1"/>
          <a:stretch/>
        </p:blipFill>
        <p:spPr>
          <a:xfrm>
            <a:off x="2502000" y="317520"/>
            <a:ext cx="10655280" cy="94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2247840" y="1282680"/>
            <a:ext cx="11417400" cy="4051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7086600" y="73026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61.tiff"/>
          <p:cNvPicPr/>
          <p:nvPr/>
        </p:nvPicPr>
        <p:blipFill>
          <a:blip r:embed="rId1"/>
          <a:stretch/>
        </p:blipFill>
        <p:spPr>
          <a:xfrm>
            <a:off x="3048120" y="254160"/>
            <a:ext cx="10718640" cy="97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2019240" y="1333440"/>
            <a:ext cx="12966840" cy="4622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070680" y="754380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81.tiff"/>
          <p:cNvPicPr/>
          <p:nvPr/>
        </p:nvPicPr>
        <p:blipFill>
          <a:blip r:embed="rId1"/>
          <a:stretch/>
        </p:blipFill>
        <p:spPr>
          <a:xfrm>
            <a:off x="2616120" y="177840"/>
            <a:ext cx="10630080" cy="93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2044800" y="2070000"/>
            <a:ext cx="12090240" cy="4051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7670880" y="66675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2209680" y="1638360"/>
            <a:ext cx="121795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201.tiff"/>
          <p:cNvPicPr/>
          <p:nvPr/>
        </p:nvPicPr>
        <p:blipFill>
          <a:blip r:embed="rId1"/>
          <a:stretch/>
        </p:blipFill>
        <p:spPr>
          <a:xfrm>
            <a:off x="2959200" y="723960"/>
            <a:ext cx="9905760" cy="83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390840" y="2095560"/>
            <a:ext cx="9016920" cy="49910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4356000" y="4419720"/>
            <a:ext cx="33048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41.tiff"/>
          <p:cNvPicPr/>
          <p:nvPr/>
        </p:nvPicPr>
        <p:blipFill>
          <a:blip r:embed="rId1"/>
          <a:stretch/>
        </p:blipFill>
        <p:spPr>
          <a:xfrm>
            <a:off x="3759120" y="1625760"/>
            <a:ext cx="9004320" cy="735300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686480" y="61722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51.tiff"/>
          <p:cNvPicPr/>
          <p:nvPr/>
        </p:nvPicPr>
        <p:blipFill>
          <a:blip r:embed="rId1"/>
          <a:stretch/>
        </p:blipFill>
        <p:spPr>
          <a:xfrm>
            <a:off x="3479760" y="2197080"/>
            <a:ext cx="8572680" cy="619776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102200" y="488952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61.tiff"/>
          <p:cNvPicPr/>
          <p:nvPr/>
        </p:nvPicPr>
        <p:blipFill>
          <a:blip r:embed="rId1"/>
          <a:stretch/>
        </p:blipFill>
        <p:spPr>
          <a:xfrm>
            <a:off x="3035160" y="1828800"/>
            <a:ext cx="8305920" cy="730260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746520" y="720108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71.tiff"/>
          <p:cNvPicPr/>
          <p:nvPr/>
        </p:nvPicPr>
        <p:blipFill>
          <a:blip r:embed="rId1"/>
          <a:stretch/>
        </p:blipFill>
        <p:spPr>
          <a:xfrm>
            <a:off x="3263760" y="3505320"/>
            <a:ext cx="8496360" cy="448308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3898800" y="5664240"/>
            <a:ext cx="6372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81.tiff"/>
          <p:cNvPicPr/>
          <p:nvPr/>
        </p:nvPicPr>
        <p:blipFill>
          <a:blip r:embed="rId1"/>
          <a:stretch/>
        </p:blipFill>
        <p:spPr>
          <a:xfrm>
            <a:off x="2857680" y="571680"/>
            <a:ext cx="9550080" cy="87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tempimage91.tiff"/>
          <p:cNvPicPr/>
          <p:nvPr/>
        </p:nvPicPr>
        <p:blipFill>
          <a:blip r:embed="rId1"/>
          <a:stretch/>
        </p:blipFill>
        <p:spPr>
          <a:xfrm>
            <a:off x="2514600" y="1092240"/>
            <a:ext cx="10871280" cy="699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689440" y="793764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50:07Z</dcterms:created>
  <dc:creator> </dc:creator>
  <dc:description/>
  <dc:language>en-US</dc:language>
  <cp:lastModifiedBy> </cp:lastModifiedBy>
  <dcterms:modified xsi:type="dcterms:W3CDTF">2009-02-18T00:50:10Z</dcterms:modified>
  <cp:revision>1</cp:revision>
  <dc:subject/>
  <dc:title>Slide 1</dc:title>
</cp:coreProperties>
</file>