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3B2-415A-4CF3-9F76-54770FE1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6E3-E2D6-4F04-9C15-BF90452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9F4-C68A-4395-B7F6-56F99114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968-50A9-4459-B570-7356731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83A-6B8D-4021-8A89-BDC6FA07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4DA-85EC-4600-998E-ACE29A9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DFF-C4C5-4AFF-8997-BC80B82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33A-CEB8-428C-ACB4-FD00A70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5B7-1414-4A73-B767-05A68A3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7BE-2459-4131-B779-4D0FF66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377-FC86-4A8B-A89F-2AC1869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E3F-B83F-4204-9839-C945473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6FE0-A080-4E6F-9757-5F54573B6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SnxjqCnDbDE&amp;eurl=http://www.google.com/i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f7JS398WwQk&amp;eurl=http://www.googl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99120" y="1944720"/>
            <a:ext cx="3849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Propagan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4320" y="992160"/>
            <a:ext cx="10702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Appeal to numbers, facts, or statistic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5440" y="2909880"/>
            <a:ext cx="11918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showing how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ny people think something is tr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352760" y="766800"/>
            <a:ext cx="4140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Name-call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92160" y="2235240"/>
            <a:ext cx="992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An attack on a person instead of an issu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tempimage23.tiff"/>
          <p:cNvPicPr/>
          <p:nvPr/>
        </p:nvPicPr>
        <p:blipFill>
          <a:blip r:embed="rId1"/>
          <a:stretch/>
        </p:blipFill>
        <p:spPr>
          <a:xfrm>
            <a:off x="3003480" y="3346560"/>
            <a:ext cx="6256440" cy="460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tempimage2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78880" y="7527960"/>
            <a:ext cx="422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378320" y="781200"/>
            <a:ext cx="37972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Bandwag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04920" y="2341440"/>
            <a:ext cx="119458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Tries to persuade the reader to do, think, or buy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something because it is popular or becaus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80"/>
                </a:solidFill>
                <a:latin typeface="Arial"/>
              </a:rPr>
              <a:t>"everyone" is doing 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365720" y="741240"/>
            <a:ext cx="38224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rial"/>
              </a:rPr>
              <a:t>Red Herring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04760" y="2262240"/>
            <a:ext cx="10531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n attempt to distract the reader with details not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relevant to the 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tempimage43.tiff"/>
          <p:cNvPicPr/>
          <p:nvPr/>
        </p:nvPicPr>
        <p:blipFill>
          <a:blip r:embed="rId1"/>
          <a:stretch/>
        </p:blipFill>
        <p:spPr>
          <a:xfrm>
            <a:off x="3505320" y="425916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empimage44.tif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651880" y="765972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497480" y="1481040"/>
            <a:ext cx="4697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Times New Roman"/>
              </a:rPr>
              <a:t>Emotional Appe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714240" y="2711520"/>
            <a:ext cx="113508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ries to persuade the reader by using words that appeal to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Times New Roman"/>
              </a:rPr>
              <a:t>the reader's emotions instead of to logic or reas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tempimage53.tiff"/>
          <p:cNvPicPr/>
          <p:nvPr/>
        </p:nvPicPr>
        <p:blipFill>
          <a:blip r:embed="rId1"/>
          <a:stretch/>
        </p:blipFill>
        <p:spPr>
          <a:xfrm>
            <a:off x="3956040" y="441792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empimage54.tiff"/>
          <p:cNvPicPr/>
          <p:nvPr/>
        </p:nvPicPr>
        <p:blipFill>
          <a:blip r:embed="rId2"/>
          <a:stretch/>
        </p:blipFill>
        <p:spPr>
          <a:xfrm>
            <a:off x="9075600" y="7858080"/>
            <a:ext cx="422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695840" y="833400"/>
            <a:ext cx="34005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Testimoni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820800" y="2195640"/>
            <a:ext cx="1132344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s to persuade the reader by using a famou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person to endorse a product or ide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tempimage63.tiff"/>
          <p:cNvPicPr/>
          <p:nvPr/>
        </p:nvPicPr>
        <p:blipFill>
          <a:blip r:embed="rId1"/>
          <a:stretch/>
        </p:blipFill>
        <p:spPr>
          <a:xfrm>
            <a:off x="3584520" y="3782880"/>
            <a:ext cx="5595840" cy="386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mpimage64.tiff"/>
          <p:cNvPicPr/>
          <p:nvPr/>
        </p:nvPicPr>
        <p:blipFill>
          <a:blip r:embed="rId2"/>
          <a:stretch/>
        </p:blipFill>
        <p:spPr>
          <a:xfrm>
            <a:off x="8731080" y="7156440"/>
            <a:ext cx="424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908600" y="568440"/>
            <a:ext cx="281772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Repiti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639800" y="2170080"/>
            <a:ext cx="10134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ttempt to persuade the reader by repeating 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essage over and over agai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tempimage73.tiff"/>
          <p:cNvPicPr/>
          <p:nvPr/>
        </p:nvPicPr>
        <p:blipFill>
          <a:blip r:embed="rId1"/>
          <a:stretch/>
        </p:blipFill>
        <p:spPr>
          <a:xfrm>
            <a:off x="3730680" y="3968640"/>
            <a:ext cx="5595840" cy="386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empimage74.tiff"/>
          <p:cNvPicPr/>
          <p:nvPr/>
        </p:nvPicPr>
        <p:blipFill>
          <a:blip r:embed="rId2"/>
          <a:stretch/>
        </p:blipFill>
        <p:spPr>
          <a:xfrm>
            <a:off x="8572680" y="7143840"/>
            <a:ext cx="423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751120" y="647640"/>
            <a:ext cx="72230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Sweeping Generaliz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54200" y="2103480"/>
            <a:ext cx="105966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Makes an oversimplified statment about a group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based on limited information (stereotyping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98920" y="912960"/>
            <a:ext cx="530388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Arial"/>
              </a:rPr>
              <a:t>Circular Argumen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389240" y="2448000"/>
            <a:ext cx="1008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States a conclusion as part of the proof of the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80"/>
                </a:solidFill>
                <a:latin typeface="Arial"/>
              </a:rPr>
              <a:t>argu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1:40:55Z</dcterms:created>
  <dc:creator> </dc:creator>
  <dc:description/>
  <dc:language>en-US</dc:language>
  <cp:lastModifiedBy> </cp:lastModifiedBy>
  <dcterms:modified xsi:type="dcterms:W3CDTF">2009-02-18T01:41:00Z</dcterms:modified>
  <cp:revision>1</cp:revision>
  <dc:subject/>
  <dc:title>Slide 1</dc:title>
</cp:coreProperties>
</file>