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F28-9096-4D8C-882D-1D998651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E17-D031-453F-A406-33FB77C7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BDE-76BF-4D3D-AB93-83C64CF4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8A09-7290-4C05-941D-63EC1F24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B00-18E7-4F88-A7FB-143F80E9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42F-400A-4622-8F32-D74A8D63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F1C3-5DFA-4952-851B-089593D9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608-23CE-406E-B4D4-2F42DC06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70C-72D2-4F2E-A954-6F94F526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08D-9F17-4676-B68B-B9EDB831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0CA0-3073-4D5A-B842-F4C1A5EA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F7C-08B9-4A52-BD9C-665BB790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F92C-9E5C-4B66-A825-1BC00A875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SnxjqCnDbDE&amp;eurl=http://www.google.com/i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outube.com/watch?v=f7JS398WwQk&amp;eurl=http://www.google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299120" y="1944720"/>
            <a:ext cx="38494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rial"/>
              </a:rPr>
              <a:t>Propaganda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084320" y="992160"/>
            <a:ext cx="107028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Arial"/>
              </a:rPr>
              <a:t>Appeal to numbers, facts, or statistic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595440" y="2909880"/>
            <a:ext cx="11918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Attempts to persuade the reader by showing how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many people think something is tru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4352760" y="766800"/>
            <a:ext cx="4140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rial"/>
              </a:rPr>
              <a:t>Name-calling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992160" y="2235240"/>
            <a:ext cx="9921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80"/>
                </a:solidFill>
                <a:latin typeface="Arial"/>
              </a:rPr>
              <a:t>An attack on a person instead of an issu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tempimage23.tiff"/>
          <p:cNvPicPr/>
          <p:nvPr/>
        </p:nvPicPr>
        <p:blipFill>
          <a:blip r:embed="rId1"/>
          <a:stretch/>
        </p:blipFill>
        <p:spPr>
          <a:xfrm>
            <a:off x="3003480" y="3346560"/>
            <a:ext cx="6256440" cy="4603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tempimage24.tif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78880" y="7527960"/>
            <a:ext cx="4222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4378320" y="781200"/>
            <a:ext cx="379728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rial"/>
              </a:rPr>
              <a:t>Bandwag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304920" y="2341440"/>
            <a:ext cx="119458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80"/>
                </a:solidFill>
                <a:latin typeface="Arial"/>
              </a:rPr>
              <a:t>Tries to persuade the reader to do, think, or buy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80"/>
                </a:solidFill>
                <a:latin typeface="Arial"/>
              </a:rPr>
              <a:t>something because it is popular or because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80"/>
                </a:solidFill>
                <a:latin typeface="Arial"/>
              </a:rPr>
              <a:t>"everyone" is doing i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4365720" y="741240"/>
            <a:ext cx="38224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rial"/>
              </a:rPr>
              <a:t>Red Herring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004760" y="2262240"/>
            <a:ext cx="105314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An attempt to distract the reader with details not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relevant to the argumen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tempimage43.tiff"/>
          <p:cNvPicPr/>
          <p:nvPr/>
        </p:nvPicPr>
        <p:blipFill>
          <a:blip r:embed="rId1"/>
          <a:stretch/>
        </p:blipFill>
        <p:spPr>
          <a:xfrm>
            <a:off x="3505320" y="4259160"/>
            <a:ext cx="5595840" cy="386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tempimage44.tif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1880" y="7659720"/>
            <a:ext cx="42372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4497480" y="1481040"/>
            <a:ext cx="46972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Times New Roman"/>
              </a:rPr>
              <a:t>Emotional Appea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714240" y="2711520"/>
            <a:ext cx="113508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Times New Roman"/>
              </a:rPr>
              <a:t>Tries to persuade the reader by using words that appeal to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Times New Roman"/>
              </a:rPr>
              <a:t>the reader's emotions instead of to logic or reas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tempimage53.tiff"/>
          <p:cNvPicPr/>
          <p:nvPr/>
        </p:nvPicPr>
        <p:blipFill>
          <a:blip r:embed="rId1"/>
          <a:stretch/>
        </p:blipFill>
        <p:spPr>
          <a:xfrm>
            <a:off x="3956040" y="4417920"/>
            <a:ext cx="5595840" cy="386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tempimage54.tiff"/>
          <p:cNvPicPr/>
          <p:nvPr/>
        </p:nvPicPr>
        <p:blipFill>
          <a:blip r:embed="rId2"/>
          <a:stretch/>
        </p:blipFill>
        <p:spPr>
          <a:xfrm>
            <a:off x="9075600" y="7858080"/>
            <a:ext cx="42228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4695840" y="833400"/>
            <a:ext cx="34005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Arial"/>
              </a:rPr>
              <a:t>Testimonia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820800" y="2195640"/>
            <a:ext cx="1132344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Attempts to persuade the reader by using a famou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person to endorse a product or idea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tempimage63.tiff"/>
          <p:cNvPicPr/>
          <p:nvPr/>
        </p:nvPicPr>
        <p:blipFill>
          <a:blip r:embed="rId1"/>
          <a:stretch/>
        </p:blipFill>
        <p:spPr>
          <a:xfrm>
            <a:off x="3584520" y="3782880"/>
            <a:ext cx="5595840" cy="3864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tempimage64.tiff"/>
          <p:cNvPicPr/>
          <p:nvPr/>
        </p:nvPicPr>
        <p:blipFill>
          <a:blip r:embed="rId2"/>
          <a:stretch/>
        </p:blipFill>
        <p:spPr>
          <a:xfrm>
            <a:off x="8731080" y="7156440"/>
            <a:ext cx="4240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4908600" y="568440"/>
            <a:ext cx="281772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Arial"/>
              </a:rPr>
              <a:t>Repiti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639800" y="2170080"/>
            <a:ext cx="101347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Attempt to persuade the reader by repeating a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message over and over agai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tempimage73.tiff"/>
          <p:cNvPicPr/>
          <p:nvPr/>
        </p:nvPicPr>
        <p:blipFill>
          <a:blip r:embed="rId1"/>
          <a:stretch/>
        </p:blipFill>
        <p:spPr>
          <a:xfrm>
            <a:off x="3730680" y="3968640"/>
            <a:ext cx="5595840" cy="386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tempimage74.tiff"/>
          <p:cNvPicPr/>
          <p:nvPr/>
        </p:nvPicPr>
        <p:blipFill>
          <a:blip r:embed="rId2"/>
          <a:stretch/>
        </p:blipFill>
        <p:spPr>
          <a:xfrm>
            <a:off x="8572680" y="7143840"/>
            <a:ext cx="42372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751120" y="647640"/>
            <a:ext cx="72230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Arial"/>
              </a:rPr>
              <a:t>Sweeping Generaliza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754200" y="2103480"/>
            <a:ext cx="105966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Makes an oversimplified statment about a group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based on limited information (stereotyping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3598920" y="912960"/>
            <a:ext cx="5303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Arial"/>
              </a:rPr>
              <a:t>Circular Argumen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389240" y="2448000"/>
            <a:ext cx="1008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States a conclusion as part of the proof of the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argumen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1:40:55Z</dcterms:created>
  <dc:creator> </dc:creator>
  <dc:description/>
  <dc:language>en-US</dc:language>
  <cp:lastModifiedBy> </cp:lastModifiedBy>
  <dcterms:modified xsi:type="dcterms:W3CDTF">2009-02-18T01:41:00Z</dcterms:modified>
  <cp:revision>1</cp:revision>
  <dc:subject/>
  <dc:title>Slide 1</dc:title>
</cp:coreProperties>
</file>