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D888-8CBD-4BAA-8739-245B9E8A2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4463-C8A2-4535-9D30-6640D837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3F30-BC0D-42AB-823D-0C063E84E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56ED-5EE5-4C50-9FCA-46C0288C7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8419-41DF-49C4-8468-88172ADE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5397-483B-4CB4-90CD-191A16B6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9B02-F748-4F95-ACBE-C27A1CAD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A4DF-9FA2-4B8C-97F8-E2EF0CF0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3F68-3148-42B6-AAB6-5FCEB44F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B4AA-4258-4F4E-8D0A-366E89A8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D4C8-55A3-4840-A0C5-117E5D48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9860-8679-4AAD-B259-1A2272DC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134E-E6A8-4C54-A0CC-331741E4A2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watch?v=SnxjqCnDbDE&amp;eurl=http://www.google.com/ig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youtube.com/watch?v=f7JS398WwQk&amp;eurl=http://www.google.com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4299120" y="1944720"/>
            <a:ext cx="38494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Arial"/>
              </a:rPr>
              <a:t>Propaganda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1084320" y="992160"/>
            <a:ext cx="107028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80"/>
                </a:solidFill>
                <a:latin typeface="Arial"/>
              </a:rPr>
              <a:t>Appeal to numbers, facts, or statistic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595440" y="2909880"/>
            <a:ext cx="119188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80"/>
                </a:solidFill>
                <a:latin typeface="Arial"/>
              </a:rPr>
              <a:t>Attempts to persuade the reader by showing how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80"/>
                </a:solidFill>
                <a:latin typeface="Arial"/>
              </a:rPr>
              <a:t>many people think something is tru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4352760" y="766800"/>
            <a:ext cx="41403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Arial"/>
              </a:rPr>
              <a:t>Name-calling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992160" y="2235240"/>
            <a:ext cx="9921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80"/>
                </a:solidFill>
                <a:latin typeface="Arial"/>
              </a:rPr>
              <a:t>An attack on a person instead of an issu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tempimage23.tiff"/>
          <p:cNvPicPr/>
          <p:nvPr/>
        </p:nvPicPr>
        <p:blipFill>
          <a:blip r:embed="rId1"/>
          <a:stretch/>
        </p:blipFill>
        <p:spPr>
          <a:xfrm>
            <a:off x="3003480" y="3346560"/>
            <a:ext cx="6256440" cy="4603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tempimage24.tif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78880" y="7527960"/>
            <a:ext cx="4222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4378320" y="781200"/>
            <a:ext cx="3797280" cy="7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Arial"/>
              </a:rPr>
              <a:t>Bandwag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304920" y="2341440"/>
            <a:ext cx="1194588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80"/>
                </a:solidFill>
                <a:latin typeface="Arial"/>
              </a:rPr>
              <a:t>Tries to persuade the reader to do, think, or buy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80"/>
                </a:solidFill>
                <a:latin typeface="Arial"/>
              </a:rPr>
              <a:t>something because it is popular or because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80"/>
                </a:solidFill>
                <a:latin typeface="Arial"/>
              </a:rPr>
              <a:t>"everyone" is doing i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4365720" y="741240"/>
            <a:ext cx="38224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Arial"/>
              </a:rPr>
              <a:t>Red Herring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004760" y="2262240"/>
            <a:ext cx="1053144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80"/>
                </a:solidFill>
                <a:latin typeface="Arial"/>
              </a:rPr>
              <a:t>An attempt to distract the reader with details not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80"/>
                </a:solidFill>
                <a:latin typeface="Arial"/>
              </a:rPr>
              <a:t>relevant to the argumen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tempimage43.tiff"/>
          <p:cNvPicPr/>
          <p:nvPr/>
        </p:nvPicPr>
        <p:blipFill>
          <a:blip r:embed="rId1"/>
          <a:stretch/>
        </p:blipFill>
        <p:spPr>
          <a:xfrm>
            <a:off x="3505320" y="4259160"/>
            <a:ext cx="5595840" cy="3864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tempimage44.tif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51880" y="7659720"/>
            <a:ext cx="42372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4497480" y="1481040"/>
            <a:ext cx="46972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80"/>
                </a:solidFill>
                <a:latin typeface="Times New Roman"/>
              </a:rPr>
              <a:t>Emotional Appea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714240" y="2711520"/>
            <a:ext cx="1135080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80"/>
                </a:solidFill>
                <a:latin typeface="Times New Roman"/>
              </a:rPr>
              <a:t>Tries to persuade the reader by using words that appeal to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80"/>
                </a:solidFill>
                <a:latin typeface="Times New Roman"/>
              </a:rPr>
              <a:t>the reader's emotions instead of to logic or reas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tempimage53.tiff"/>
          <p:cNvPicPr/>
          <p:nvPr/>
        </p:nvPicPr>
        <p:blipFill>
          <a:blip r:embed="rId1"/>
          <a:stretch/>
        </p:blipFill>
        <p:spPr>
          <a:xfrm>
            <a:off x="3956040" y="4417920"/>
            <a:ext cx="5595840" cy="3864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tempimage54.tiff"/>
          <p:cNvPicPr/>
          <p:nvPr/>
        </p:nvPicPr>
        <p:blipFill>
          <a:blip r:embed="rId2"/>
          <a:stretch/>
        </p:blipFill>
        <p:spPr>
          <a:xfrm>
            <a:off x="9075600" y="7858080"/>
            <a:ext cx="42228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4695840" y="833400"/>
            <a:ext cx="340056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80"/>
                </a:solidFill>
                <a:latin typeface="Arial"/>
              </a:rPr>
              <a:t>Testimonia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820800" y="2195640"/>
            <a:ext cx="11323440" cy="11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80"/>
                </a:solidFill>
                <a:latin typeface="Arial"/>
              </a:rPr>
              <a:t>Attempts to persuade the reader by using a famous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80"/>
                </a:solidFill>
                <a:latin typeface="Arial"/>
              </a:rPr>
              <a:t>person to endorse a product or idea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tempimage63.tiff"/>
          <p:cNvPicPr/>
          <p:nvPr/>
        </p:nvPicPr>
        <p:blipFill>
          <a:blip r:embed="rId1"/>
          <a:stretch/>
        </p:blipFill>
        <p:spPr>
          <a:xfrm>
            <a:off x="3584520" y="3782880"/>
            <a:ext cx="5595840" cy="3864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tempimage64.tiff"/>
          <p:cNvPicPr/>
          <p:nvPr/>
        </p:nvPicPr>
        <p:blipFill>
          <a:blip r:embed="rId2"/>
          <a:stretch/>
        </p:blipFill>
        <p:spPr>
          <a:xfrm>
            <a:off x="8731080" y="7156440"/>
            <a:ext cx="42408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4908600" y="568440"/>
            <a:ext cx="281772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80"/>
                </a:solidFill>
                <a:latin typeface="Arial"/>
              </a:rPr>
              <a:t>Repititi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1639800" y="2170080"/>
            <a:ext cx="1013472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80"/>
                </a:solidFill>
                <a:latin typeface="Arial"/>
              </a:rPr>
              <a:t>Attempt to persuade the reader by repeating a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80"/>
                </a:solidFill>
                <a:latin typeface="Arial"/>
              </a:rPr>
              <a:t>message over and over agai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tempimage73.tiff"/>
          <p:cNvPicPr/>
          <p:nvPr/>
        </p:nvPicPr>
        <p:blipFill>
          <a:blip r:embed="rId1"/>
          <a:stretch/>
        </p:blipFill>
        <p:spPr>
          <a:xfrm>
            <a:off x="3730680" y="3968640"/>
            <a:ext cx="5595840" cy="3862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tempimage74.tiff"/>
          <p:cNvPicPr/>
          <p:nvPr/>
        </p:nvPicPr>
        <p:blipFill>
          <a:blip r:embed="rId2"/>
          <a:stretch/>
        </p:blipFill>
        <p:spPr>
          <a:xfrm>
            <a:off x="8572680" y="7143840"/>
            <a:ext cx="42372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2751120" y="647640"/>
            <a:ext cx="722304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80"/>
                </a:solidFill>
                <a:latin typeface="Arial"/>
              </a:rPr>
              <a:t>Sweeping Generalizati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754200" y="2103480"/>
            <a:ext cx="1059660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80"/>
                </a:solidFill>
                <a:latin typeface="Arial"/>
              </a:rPr>
              <a:t>Makes an oversimplified statment about a group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80"/>
                </a:solidFill>
                <a:latin typeface="Arial"/>
              </a:rPr>
              <a:t>based on limited information (stereotyping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3598920" y="912960"/>
            <a:ext cx="530388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80"/>
                </a:solidFill>
                <a:latin typeface="Arial"/>
              </a:rPr>
              <a:t>Circular Argumen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1389240" y="2448000"/>
            <a:ext cx="100803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80"/>
                </a:solidFill>
                <a:latin typeface="Arial"/>
              </a:rPr>
              <a:t>States a conclusion as part of the proof of the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80"/>
                </a:solidFill>
                <a:latin typeface="Arial"/>
              </a:rPr>
              <a:t>argumen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01:40:55Z</dcterms:created>
  <dc:creator> </dc:creator>
  <dc:description/>
  <dc:language>en-US</dc:language>
  <cp:lastModifiedBy> </cp:lastModifiedBy>
  <dcterms:modified xsi:type="dcterms:W3CDTF">2009-02-18T01:41:00Z</dcterms:modified>
  <cp:revision>1</cp:revision>
  <dc:subject/>
  <dc:title>Slide 1</dc:title>
</cp:coreProperties>
</file>