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220-FF93-4C57-9C11-A3786402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F66-29A1-494A-9068-D1208989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8C2-94B2-4C76-93C2-05672B83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03F-1AFF-40EF-BFBB-014F6C95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A7C2-0931-4F73-A2B2-5625EECD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358-E0B4-4DE4-80D6-E0DAD415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188-B681-4388-A896-AF8648E0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D93-AC3F-47C0-86D8-0E989C6B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185-8EA4-4EC8-AF1C-F337E21A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A15-2FD4-437F-81F1-A4E5CC83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B34-07A1-452A-B210-AEC8FB1C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574-4992-48C5-997B-5AC8B5B6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26A3-2D3D-4289-B418-0CD8E43AC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27280" y="1193760"/>
            <a:ext cx="271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27280" y="2540160"/>
            <a:ext cx="12600" cy="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5040" y="888840"/>
            <a:ext cx="9232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oet personifies the sea in the first stanza in al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hte following ways EXCEP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816200"/>
            <a:ext cx="2793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and hung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7600" y="2768760"/>
            <a:ext cx="2984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aning and gr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7600" y="3720960"/>
            <a:ext cx="4203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gry and misunderst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7600" y="4673520"/>
            <a:ext cx="57020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shaggy jaws and greasy pa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1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5040" y="888840"/>
            <a:ext cx="534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line 10, the poet personif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0" y="1816200"/>
            <a:ext cx="1422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87600" y="2768760"/>
            <a:ext cx="1587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87600" y="3720960"/>
            <a:ext cx="12571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7600" y="4673520"/>
            <a:ext cx="12700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2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5040" y="888840"/>
            <a:ext cx="7137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does the poet personify in line 1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7600" y="1816200"/>
            <a:ext cx="12700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0" y="2768760"/>
            <a:ext cx="1587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0" y="3720960"/>
            <a:ext cx="16635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c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0" y="4673520"/>
            <a:ext cx="1422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li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3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5040" y="88884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 a result of the personification, the sea erme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87600" y="1816200"/>
            <a:ext cx="2641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tle and ki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7600" y="2768760"/>
            <a:ext cx="3022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and beautif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7600" y="3720960"/>
            <a:ext cx="2717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e and playf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7600" y="4673520"/>
            <a:ext cx="4152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yful as well as hung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4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4:10Z</dcterms:created>
  <dc:creator>schottw</dc:creator>
  <dc:description/>
  <dc:language>en-US</dc:language>
  <cp:lastModifiedBy>schottw</cp:lastModifiedBy>
  <dcterms:modified xsi:type="dcterms:W3CDTF">2008-03-18T20:24:12Z</dcterms:modified>
  <cp:revision>1</cp:revision>
  <dc:subject/>
  <dc:title>Slide 1</dc:title>
</cp:coreProperties>
</file>