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07D-4298-41AC-97A5-75A747CE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6D5-3412-4401-86B3-D015CF8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CC3-CB2D-4297-952D-8D24470C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206-FEC9-437B-9ABF-C24AD24F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895-14F7-4B70-A3BA-115CC28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DE6-2213-4634-8493-7069FCA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657-5309-4985-9378-BC37B65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7CF-5E28-4D90-9542-930C47B1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4D9-D8E8-42F3-AE67-33C9AD9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431-2771-4427-A7D3-406908C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F63-1D25-4262-8835-EA1D1E4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998-BAEF-40AB-B899-F4212B1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38E-04D4-4651-8BBE-D4A7611E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271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923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personifies the sea in the first stanza in a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hte following ways EXCEP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hung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984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aning and gr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420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ry and mis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57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haggy jaws and greasy p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534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line 10, the poet person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257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7137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e poet personify in line 1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1663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 result of the personification, the sea erme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64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tle and k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302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and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2717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e and play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152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ful as well as hung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10Z</dcterms:created>
  <dc:creator>schottw</dc:creator>
  <dc:description/>
  <dc:language>en-US</dc:language>
  <cp:lastModifiedBy>schottw</cp:lastModifiedBy>
  <dcterms:modified xsi:type="dcterms:W3CDTF">2008-03-18T20:24:12Z</dcterms:modified>
  <cp:revision>1</cp:revision>
  <dc:subject/>
  <dc:title>Slide 1</dc:title>
</cp:coreProperties>
</file>