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970-9F00-4947-9808-12B60B43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DCA-3A23-4079-B90F-800AC62E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914-B6B0-4160-AD99-FF34CC49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A99-BF7E-4CE0-8447-1CDD8A31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23C-0162-4BB4-9A69-ED9AAEE0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991-3F58-4503-898D-6A812ECF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7F9-A0FE-41BB-BFD5-3AC4A943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C11-FA3A-4F3F-81A5-D1A12B81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6FA-8F1E-4658-8CD8-697AC3FD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802-EE8B-4224-90AC-7D000E5C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CA1-AECD-48F3-88F6-A5FBED2A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922-0E2F-4517-97F6-601C4481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CF71-CDBD-429B-95C5-345A75F97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27280" y="1193760"/>
            <a:ext cx="271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2540160"/>
            <a:ext cx="12600" cy="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5040" y="888840"/>
            <a:ext cx="9232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oet personifies the sea in the first stanza in al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hte following ways EXCEP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816200"/>
            <a:ext cx="2793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and hung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0" y="2768760"/>
            <a:ext cx="2984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aning and gr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0" y="3720960"/>
            <a:ext cx="4203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gry and misunderst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0" y="4673520"/>
            <a:ext cx="5702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haggy jaws and greasy pa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1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5040" y="888840"/>
            <a:ext cx="534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line 10, the poet personif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0" y="1816200"/>
            <a:ext cx="1422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7600" y="2768760"/>
            <a:ext cx="1587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3720960"/>
            <a:ext cx="12571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0" y="4673520"/>
            <a:ext cx="1270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2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5040" y="888840"/>
            <a:ext cx="7137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e poet personify in line 1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0" y="1816200"/>
            <a:ext cx="1270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0" y="2768760"/>
            <a:ext cx="1587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3720960"/>
            <a:ext cx="16635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c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0" y="4673520"/>
            <a:ext cx="1422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li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3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040" y="88884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 a result of the personification, the sea erme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7600" y="1816200"/>
            <a:ext cx="2641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tle and ki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7600" y="2768760"/>
            <a:ext cx="3022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and beauti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0" y="3720960"/>
            <a:ext cx="2717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e and play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673520"/>
            <a:ext cx="4152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ful as well as hung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4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4:10Z</dcterms:created>
  <dc:creator>schottw</dc:creator>
  <dc:description/>
  <dc:language>en-US</dc:language>
  <cp:lastModifiedBy>schottw</cp:lastModifiedBy>
  <dcterms:modified xsi:type="dcterms:W3CDTF">2008-03-18T20:24:12Z</dcterms:modified>
  <cp:revision>1</cp:revision>
  <dc:subject/>
  <dc:title>Slide 1</dc:title>
</cp:coreProperties>
</file>