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4F1-AE8F-42FC-96C4-8AEC540E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77B-5E96-41ED-A734-A3A689F9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329-5B6F-4476-A2A3-51510855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401-B793-4B0D-A2B7-E1E42F28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B6A-2FE5-4BC5-8506-B269B1F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59C-FFB1-411A-8110-19AFFD1C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7B1-6020-4323-BE0E-38522C56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30D-BE84-44DB-9201-DA6079EB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E99-12A2-4A9A-90D3-20C9D66A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A3B-1E42-409B-99BE-B6D79B9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EC7-5397-4FB6-92D6-FF1B356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393-1CDD-48D2-8FA0-AB329AC8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F9A4-260D-46CF-813F-41A01137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271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12600" cy="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9232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oet personifies the sea in the first stanza in a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hte following ways EXCEP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279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and hung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2984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aning and gr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4203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gry and mis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5702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haggy jaws and greasy pa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534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line 10, the poet personif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142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1587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12571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1270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7137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e poet personify in line 1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1270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1587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16635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c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142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li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 a result of the personification, the sea erme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2641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tle and ki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3022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and beauti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2717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e and play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4152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ful as well as hung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10Z</dcterms:created>
  <dc:creator>schottw</dc:creator>
  <dc:description/>
  <dc:language>en-US</dc:language>
  <cp:lastModifiedBy>schottw</cp:lastModifiedBy>
  <dcterms:modified xsi:type="dcterms:W3CDTF">2008-03-18T20:24:12Z</dcterms:modified>
  <cp:revision>1</cp:revision>
  <dc:subject/>
  <dc:title>Slide 1</dc:title>
</cp:coreProperties>
</file>