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61DC0-1CDF-417D-833D-02E512D93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B3C7-D4C7-4EDA-A001-21FC65A31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D5F94-FA1F-4056-9CC3-D747BDA78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D5051-CF86-4571-916D-F3D1F7C65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242AA-0B7E-498B-A9DE-81F1A47D8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6B38B-DE13-4AD1-AD68-EF68B8951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ACFD0-FE26-4EAE-A06A-BAA96E9F7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8BE3C-BC02-4F83-BF99-5D77BE195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30A35-419D-4D21-9465-1D6AD26F4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3BBCE-1782-4787-8E5A-5C5E5C154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C5C4F-8D42-4A1B-901C-47B7ABDE1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C4FE3-920B-4D42-922E-7AC3F54A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8B73E-2A85-44A7-9293-7FFDEA4C1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6F729-8082-4A49-82FA-9650408F9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4E962-F7C4-4B1F-9CAA-010665389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D9252-5422-4287-A138-8134D5EAF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9D679-FF80-49A6-9D62-C4677D045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47562-3E94-422D-A1A1-9A41372A9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329FF-A899-409D-B3A1-B1231461B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B6636-B66C-45CC-BB1E-D9A251BF9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FB01-6722-43D6-9356-14A821DFB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91AB-9FE0-4A61-96CB-E69AF710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88FEC-8683-4C53-A9F9-96BDE8922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D106F-772A-45FA-A047-44CDB7A23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2FA9-0672-451F-976E-81CF0DD2D44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8160-4054-4828-B7A7-53D4683D4D0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SSA Math Review</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32 Choosing a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s. Yoon wants to organize the math test scores of all her students. Which type of display should she u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Strategy</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Yoon wants to include each data poi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Answer</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M AND 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a records the daily high temperature at her school for two week. Which display would best show this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Strategy</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ider the type of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 recorded the temperature each day for 2 wee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nts to show ho the temperature changes over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st choice is a 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Answer</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IN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mple Test Questions</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following slides to create a fun review game for your student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s are on the slides following the question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ank surveys 50 people about their favorite sports. Which type of display should he use to present the </a:t>
            </a:r>
            <a:r>
              <a:rPr b="0" lang="en-US" sz="2800" spc="-1" strike="noStrike">
                <a:solidFill>
                  <a:srgbClr val="ff3300"/>
                </a:solidFill>
                <a:latin typeface="Arial"/>
              </a:rPr>
              <a:t>number of people choosing each sport</a:t>
            </a:r>
            <a:r>
              <a:rPr b="0" lang="en-US" sz="2800" spc="-1" strike="noStrike">
                <a:solidFill>
                  <a:srgbClr val="ffffff"/>
                </a:solidFill>
                <a:latin typeface="Arial"/>
              </a:rPr>
              <a:t> to the total </a:t>
            </a:r>
            <a:r>
              <a:rPr b="0" lang="en-US" sz="2800" spc="-1" strike="noStrike">
                <a:solidFill>
                  <a:srgbClr val="ffcc66"/>
                </a:solidFill>
                <a:latin typeface="Arial"/>
              </a:rPr>
              <a:t>number of people surveye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f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cientist heats a chemical and records the temperature every minute for an hour. Which type of display is best suited to showing these data?</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tandar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1.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nd/or explain the correct representation graph for a set of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 - Answer</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useum curator collects data on the number of paintings in each room of the museum. Which display is best suited to showing these data? </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 - Answer</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r. Daly has the results of the last science test. Which display can he use to organize all of the scores in his clas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 - Answer</a:t>
            </a: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type of graph should Ted use to show the results of his survey of 100 students’ favorite television shows if he wants to compare the precents of the shows chose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grap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 - Answer</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used best for comparing a part of the group to another part or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mpany president wants to track profits for the first six months of the year. What type of display should s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 - Answer</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ana wants to show what part of her total allowance she spends on clothes, entertainment, books ,and other categories. Which display should she us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view – Main Concept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ways to represent </a:t>
            </a:r>
            <a:r>
              <a:rPr b="0" lang="en-US" sz="3200" spc="-1" strike="noStrike">
                <a:solidFill>
                  <a:srgbClr val="ff3300"/>
                </a:solidFill>
                <a:latin typeface="Arial"/>
              </a:rPr>
              <a:t>DATA</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BAR GRAPH</a:t>
            </a:r>
            <a:r>
              <a:rPr b="0" lang="en-US" sz="2800" spc="-1" strike="noStrike">
                <a:solidFill>
                  <a:srgbClr val="ffffff"/>
                </a:solidFill>
                <a:latin typeface="Arial"/>
              </a:rPr>
              <a:t> is used to compare numbers and amount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CIRCLE GRAPH</a:t>
            </a:r>
            <a:r>
              <a:rPr b="0" lang="en-US" sz="2800" spc="-1" strike="noStrike">
                <a:solidFill>
                  <a:srgbClr val="ffffff"/>
                </a:solidFill>
                <a:latin typeface="Arial"/>
              </a:rPr>
              <a:t> is used for comparing a part of the group to another part or to the who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LINE GRAPH</a:t>
            </a:r>
            <a:r>
              <a:rPr b="0" lang="en-US" sz="2800" spc="-1" strike="noStrike">
                <a:solidFill>
                  <a:srgbClr val="ffffff"/>
                </a:solidFill>
                <a:latin typeface="Arial"/>
              </a:rPr>
              <a:t> is used for showing changes over tim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STEM-AND-LEAF</a:t>
            </a:r>
            <a:r>
              <a:rPr b="0" lang="en-US" sz="2800" spc="-1" strike="noStrike">
                <a:solidFill>
                  <a:srgbClr val="ffffff"/>
                </a:solidFill>
                <a:latin typeface="Arial"/>
              </a:rPr>
              <a:t> plot shows all of the individual items in a data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 - Answer</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r to the wh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ach wants organize the scores of his team’s last 15 games. Which display should 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 - Answer</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f a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mantha wants to chart the daily price of a share of a corporation’s stock over a month. Which type of graph should she use?</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 - Answer</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ersonnel director at ABC Company collects information on how employees travel to work (bus, car, train, etc.). Which type of display should she use to present these data?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 – Answer</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BAR GRAPH</a:t>
            </a:r>
            <a:r>
              <a:rPr b="0" lang="en-US" sz="3200" spc="-1" strike="noStrike">
                <a:solidFill>
                  <a:srgbClr val="ffffff"/>
                </a:solidFill>
                <a:latin typeface="Arial"/>
              </a:rPr>
              <a:t> is usually used to compare numbers or am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pen Ended Question</a:t>
            </a: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data represents the number of hours that five students studied for a final exam.</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ry: 6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isa: 4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a: 5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lga: 2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ca: 3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 of graph would best display the data?</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at you know about choosing a graph to explain why your answer is correct. Use words and/or numbers in your expla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ecil conducted a school survey about the lunch preferences of students. Of 100 students, he found that 42% preferred pizza, 28% preferred hamburgers, 20% preferred sandwiches, and 10% preferred hotdogs. Which graph would best display th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Strategy</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ta include groups that are part of a who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aph should show how the groups compare to each other and to the to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 Answer</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IRCL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ipal of Engel Middle School collected data on the amount of money each grade (5</a:t>
            </a:r>
            <a:r>
              <a:rPr b="0" lang="en-US" sz="3200" spc="-1" strike="noStrike" baseline="30000">
                <a:solidFill>
                  <a:srgbClr val="ffffff"/>
                </a:solidFill>
                <a:latin typeface="Arial"/>
              </a:rPr>
              <a:t>th</a:t>
            </a:r>
            <a:r>
              <a:rPr b="0" lang="en-US" sz="3200" spc="-1" strike="noStrike">
                <a:solidFill>
                  <a:srgbClr val="ffffff"/>
                </a:solidFill>
                <a:latin typeface="Arial"/>
              </a:rPr>
              <a:t> , 6</a:t>
            </a:r>
            <a:r>
              <a:rPr b="0" lang="en-US" sz="3200" spc="-1" strike="noStrike" baseline="30000">
                <a:solidFill>
                  <a:srgbClr val="ffffff"/>
                </a:solidFill>
                <a:latin typeface="Arial"/>
              </a:rPr>
              <a:t>th</a:t>
            </a:r>
            <a:r>
              <a:rPr b="0" lang="en-US" sz="3200" spc="-1" strike="noStrike">
                <a:solidFill>
                  <a:srgbClr val="ffffff"/>
                </a:solidFill>
                <a:latin typeface="Arial"/>
              </a:rPr>
              <a:t>, 7</a:t>
            </a:r>
            <a:r>
              <a:rPr b="0" lang="en-US" sz="3200" spc="-1" strike="noStrike" baseline="30000">
                <a:solidFill>
                  <a:srgbClr val="ffffff"/>
                </a:solidFill>
                <a:latin typeface="Arial"/>
              </a:rPr>
              <a:t>th</a:t>
            </a:r>
            <a:r>
              <a:rPr b="0" lang="en-US" sz="3200" spc="-1" strike="noStrike">
                <a:solidFill>
                  <a:srgbClr val="ffffff"/>
                </a:solidFill>
                <a:latin typeface="Arial"/>
              </a:rPr>
              <a:t>, and 8</a:t>
            </a:r>
            <a:r>
              <a:rPr b="0" lang="en-US" sz="3200" spc="-1" strike="noStrike" baseline="30000">
                <a:solidFill>
                  <a:srgbClr val="ffffff"/>
                </a:solidFill>
                <a:latin typeface="Arial"/>
              </a:rPr>
              <a:t>th</a:t>
            </a:r>
            <a:r>
              <a:rPr b="0" lang="en-US" sz="3200" spc="-1" strike="noStrike">
                <a:solidFill>
                  <a:srgbClr val="ffffff"/>
                </a:solidFill>
                <a:latin typeface="Arial"/>
              </a:rPr>
              <a:t>) raised in a charity drive. Which choice would best display this in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Strategy</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al wants to compare four quantiti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Answer</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AR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4:11:30Z</dcterms:created>
  <dc:creator>schottw</dc:creator>
  <dc:description/>
  <dc:language>en-US</dc:language>
  <cp:lastModifiedBy>schottw</cp:lastModifiedBy>
  <dcterms:modified xsi:type="dcterms:W3CDTF">2008-03-18T14:58:41Z</dcterms:modified>
  <cp:revision>4</cp:revision>
  <dc:subject/>
  <dc:title>PSSA Math Review</dc:title>
</cp:coreProperties>
</file>