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2ED-9826-4EA0-A69D-1DEB8E72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791-15F8-47CB-BAFA-8616FBB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F79-952B-4EB3-9B8A-22560269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EFB-E61E-445F-8FAB-0484E28B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9D8-5A5C-4D09-B448-F100F049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741-6408-47E0-83BC-1C2884D5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E13-8B32-4A47-B04B-F0C8E6A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17F-0A50-452B-88A7-AE9EF32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481-3D0D-411C-9A6C-DD81FD1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C86-32D1-47E4-8B32-A71648C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05D-BA13-4B37-866B-001C53F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424-6A29-424B-8142-C1531D7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4B4-2E01-4C34-A3C4-11ECAF000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201680" y="642960"/>
            <a:ext cx="1583208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PSSA Math Lesson 2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Evaluating Express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25760" y="5943600"/>
            <a:ext cx="113281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D.2.1.3 Determine the value of a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lgebraic expression by simplifying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d/or substituting a number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empimage13.tiff"/>
          <p:cNvPicPr/>
          <p:nvPr/>
        </p:nvPicPr>
        <p:blipFill>
          <a:blip r:embed="rId1"/>
          <a:stretch/>
        </p:blipFill>
        <p:spPr>
          <a:xfrm>
            <a:off x="5722920" y="350532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2"/>
          <a:stretch/>
        </p:blipFill>
        <p:spPr>
          <a:xfrm>
            <a:off x="762120" y="33526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3"/>
          <a:stretch/>
        </p:blipFill>
        <p:spPr>
          <a:xfrm>
            <a:off x="914400" y="72864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4"/>
          <a:stretch/>
        </p:blipFill>
        <p:spPr>
          <a:xfrm>
            <a:off x="8298000" y="3454560"/>
            <a:ext cx="2199960" cy="24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5"/>
          <a:stretch/>
        </p:blipFill>
        <p:spPr>
          <a:xfrm>
            <a:off x="3081240" y="3421080"/>
            <a:ext cx="2303640" cy="23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6"/>
          <a:stretch/>
        </p:blipFill>
        <p:spPr>
          <a:xfrm>
            <a:off x="10787040" y="3352680"/>
            <a:ext cx="231948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7"/>
          <a:stretch/>
        </p:blipFill>
        <p:spPr>
          <a:xfrm>
            <a:off x="10497960" y="609480"/>
            <a:ext cx="27943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9"/>
          <p:cNvGrpSpPr/>
          <p:nvPr/>
        </p:nvGrpSpPr>
        <p:grpSpPr>
          <a:xfrm>
            <a:off x="3030480" y="3284640"/>
            <a:ext cx="6400800" cy="5790960"/>
            <a:chOff x="3030480" y="3284640"/>
            <a:chExt cx="6400800" cy="5790960"/>
          </a:xfrm>
        </p:grpSpPr>
        <p:sp>
          <p:nvSpPr>
            <p:cNvPr id="257" name="Freeform 1"/>
            <p:cNvSpPr/>
            <p:nvPr/>
          </p:nvSpPr>
          <p:spPr>
            <a:xfrm>
              <a:off x="3758400" y="780588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"/>
            <p:cNvSpPr/>
            <p:nvPr/>
          </p:nvSpPr>
          <p:spPr>
            <a:xfrm>
              <a:off x="8804880" y="780588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"/>
            <p:cNvSpPr/>
            <p:nvPr/>
          </p:nvSpPr>
          <p:spPr>
            <a:xfrm>
              <a:off x="3758400" y="629856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8804880" y="629856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3758400" y="484236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8804880" y="48423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3758400" y="333540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8804880" y="333540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3572280" y="790740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8703360" y="790740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3572280" y="640008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8703360" y="640008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3572280" y="492696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703360" y="4926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3572280" y="342000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8703360" y="342000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3859920" y="794124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3758400" y="88725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8499960" y="79412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8364600" y="88725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9295920" y="79920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859920" y="643428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3758400" y="736560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8499960" y="64342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8364600" y="73656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9295920" y="64850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3859920" y="497772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3758400" y="589212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8499960" y="4977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8364600" y="5892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9295920" y="5011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859920" y="347076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3758400" y="43851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8499960" y="347076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8364600" y="43851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9295920" y="3504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37" descr="tempimage1037.tiff"/>
            <p:cNvPicPr/>
            <p:nvPr/>
          </p:nvPicPr>
          <p:blipFill>
            <a:blip r:embed="rId1"/>
            <a:stretch/>
          </p:blipFill>
          <p:spPr>
            <a:xfrm>
              <a:off x="3030480" y="328464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tempimage1038.tiff"/>
            <p:cNvPicPr/>
            <p:nvPr/>
          </p:nvPicPr>
          <p:blipFill>
            <a:blip r:embed="rId2"/>
            <a:stretch/>
          </p:blipFill>
          <p:spPr>
            <a:xfrm>
              <a:off x="3030480" y="479160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tempimage1039.tiff"/>
            <p:cNvPicPr/>
            <p:nvPr/>
          </p:nvPicPr>
          <p:blipFill>
            <a:blip r:embed="rId3"/>
            <a:stretch/>
          </p:blipFill>
          <p:spPr>
            <a:xfrm>
              <a:off x="3047400" y="626472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0" descr="tempimage1040.tiff"/>
            <p:cNvPicPr/>
            <p:nvPr/>
          </p:nvPicPr>
          <p:blipFill>
            <a:blip r:embed="rId4"/>
            <a:stretch/>
          </p:blipFill>
          <p:spPr>
            <a:xfrm>
              <a:off x="3030480" y="7772040"/>
              <a:ext cx="1303920" cy="13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50"/>
          <p:cNvGrpSpPr/>
          <p:nvPr/>
        </p:nvGrpSpPr>
        <p:grpSpPr>
          <a:xfrm>
            <a:off x="1455840" y="490680"/>
            <a:ext cx="10736280" cy="2641320"/>
            <a:chOff x="1455840" y="490680"/>
            <a:chExt cx="10736280" cy="2641320"/>
          </a:xfrm>
        </p:grpSpPr>
        <p:sp>
          <p:nvSpPr>
            <p:cNvPr id="298" name="Freeform 41"/>
            <p:cNvSpPr/>
            <p:nvPr/>
          </p:nvSpPr>
          <p:spPr>
            <a:xfrm>
              <a:off x="1455840" y="490680"/>
              <a:ext cx="10736280" cy="2641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Picture 42" descr="tempimage1042.tiff"/>
            <p:cNvPicPr/>
            <p:nvPr/>
          </p:nvPicPr>
          <p:blipFill>
            <a:blip r:embed="rId5"/>
            <a:stretch/>
          </p:blipFill>
          <p:spPr>
            <a:xfrm>
              <a:off x="1591200" y="744480"/>
              <a:ext cx="1981080" cy="23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Freeform 43"/>
            <p:cNvSpPr/>
            <p:nvPr/>
          </p:nvSpPr>
          <p:spPr>
            <a:xfrm>
              <a:off x="1557360" y="626040"/>
              <a:ext cx="10550160" cy="23875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44"/>
          <p:cNvSpPr/>
          <p:nvPr/>
        </p:nvSpPr>
        <p:spPr>
          <a:xfrm>
            <a:off x="3827520" y="932040"/>
            <a:ext cx="9482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n - 13 when n =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5605560" y="367524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6"/>
          <p:cNvSpPr/>
          <p:nvPr/>
        </p:nvSpPr>
        <p:spPr>
          <a:xfrm>
            <a:off x="5537160" y="5097600"/>
            <a:ext cx="812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47"/>
          <p:cNvSpPr/>
          <p:nvPr/>
        </p:nvSpPr>
        <p:spPr>
          <a:xfrm>
            <a:off x="5519880" y="6535800"/>
            <a:ext cx="1033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8"/>
          <p:cNvSpPr/>
          <p:nvPr/>
        </p:nvSpPr>
        <p:spPr>
          <a:xfrm>
            <a:off x="5537160" y="7993080"/>
            <a:ext cx="1033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1523880" y="507960"/>
            <a:ext cx="10193400" cy="2421000"/>
            <a:chOff x="1523880" y="507960"/>
            <a:chExt cx="10193400" cy="2421000"/>
          </a:xfrm>
        </p:grpSpPr>
        <p:sp>
          <p:nvSpPr>
            <p:cNvPr id="307" name="Freeform 1"/>
            <p:cNvSpPr/>
            <p:nvPr/>
          </p:nvSpPr>
          <p:spPr>
            <a:xfrm>
              <a:off x="1523880" y="507960"/>
              <a:ext cx="10193400" cy="2421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Picture 2" descr="tempimage112.tiff"/>
            <p:cNvPicPr/>
            <p:nvPr/>
          </p:nvPicPr>
          <p:blipFill>
            <a:blip r:embed="rId1"/>
            <a:stretch/>
          </p:blipFill>
          <p:spPr>
            <a:xfrm>
              <a:off x="1625400" y="727920"/>
              <a:ext cx="18964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Freeform 3"/>
            <p:cNvSpPr/>
            <p:nvPr/>
          </p:nvSpPr>
          <p:spPr>
            <a:xfrm>
              <a:off x="1608480" y="609480"/>
              <a:ext cx="10024200" cy="22179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50"/>
          <p:cNvGrpSpPr/>
          <p:nvPr/>
        </p:nvGrpSpPr>
        <p:grpSpPr>
          <a:xfrm>
            <a:off x="3149640" y="3319560"/>
            <a:ext cx="6062760" cy="5486400"/>
            <a:chOff x="3149640" y="3319560"/>
            <a:chExt cx="6062760" cy="5486400"/>
          </a:xfrm>
        </p:grpSpPr>
        <p:sp>
          <p:nvSpPr>
            <p:cNvPr id="311" name="Freeform 4"/>
            <p:cNvSpPr/>
            <p:nvPr/>
          </p:nvSpPr>
          <p:spPr>
            <a:xfrm>
              <a:off x="3826800" y="760392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8619840" y="760392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3826800" y="618120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8619840" y="618120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3826800" y="479268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8619840" y="479268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3826800" y="337032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8619840" y="337032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657600" y="768852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535240" y="768852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3657600" y="626580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535240" y="626580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3657600" y="487728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535240" y="487728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3657600" y="345492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8535240" y="345492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3945600" y="773928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3826800" y="86198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8331840" y="77392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8213400" y="861984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9077040" y="777312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945600" y="630000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3826800" y="7180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7"/>
            <p:cNvSpPr/>
            <p:nvPr/>
          </p:nvSpPr>
          <p:spPr>
            <a:xfrm>
              <a:off x="8331840" y="6300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8213400" y="718056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9077040" y="635076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"/>
            <p:cNvSpPr/>
            <p:nvPr/>
          </p:nvSpPr>
          <p:spPr>
            <a:xfrm>
              <a:off x="3945600" y="492804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1"/>
            <p:cNvSpPr/>
            <p:nvPr/>
          </p:nvSpPr>
          <p:spPr>
            <a:xfrm>
              <a:off x="3826800" y="579168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8331840" y="4928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8213400" y="579168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9077040" y="496188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3945600" y="348876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826800" y="436932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8331840" y="3488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8213400" y="436932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9077040" y="3539520"/>
              <a:ext cx="360" cy="778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40" descr="tempimage1140.tiff"/>
            <p:cNvPicPr/>
            <p:nvPr/>
          </p:nvPicPr>
          <p:blipFill>
            <a:blip r:embed="rId2"/>
            <a:stretch/>
          </p:blipFill>
          <p:spPr>
            <a:xfrm>
              <a:off x="3149640" y="331956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1" descr="tempimage1141.tiff"/>
            <p:cNvPicPr/>
            <p:nvPr/>
          </p:nvPicPr>
          <p:blipFill>
            <a:blip r:embed="rId3"/>
            <a:stretch/>
          </p:blipFill>
          <p:spPr>
            <a:xfrm>
              <a:off x="3149640" y="474192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2" descr="tempimage1142.tiff"/>
            <p:cNvPicPr/>
            <p:nvPr/>
          </p:nvPicPr>
          <p:blipFill>
            <a:blip r:embed="rId4"/>
            <a:stretch/>
          </p:blipFill>
          <p:spPr>
            <a:xfrm>
              <a:off x="3166560" y="613044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3" descr="tempimage1143.tiff"/>
            <p:cNvPicPr/>
            <p:nvPr/>
          </p:nvPicPr>
          <p:blipFill>
            <a:blip r:embed="rId5"/>
            <a:stretch/>
          </p:blipFill>
          <p:spPr>
            <a:xfrm>
              <a:off x="3149640" y="7570080"/>
              <a:ext cx="1236240" cy="12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Box 44"/>
          <p:cNvSpPr/>
          <p:nvPr/>
        </p:nvSpPr>
        <p:spPr>
          <a:xfrm>
            <a:off x="3573360" y="846000"/>
            <a:ext cx="826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1.5 when 1 = 4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5"/>
          <p:cNvSpPr/>
          <p:nvPr/>
        </p:nvSpPr>
        <p:spPr>
          <a:xfrm>
            <a:off x="5791320" y="3538440"/>
            <a:ext cx="931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5757840" y="4894200"/>
            <a:ext cx="930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7"/>
          <p:cNvSpPr/>
          <p:nvPr/>
        </p:nvSpPr>
        <p:spPr>
          <a:xfrm>
            <a:off x="5875200" y="621504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8"/>
          <p:cNvSpPr/>
          <p:nvPr/>
        </p:nvSpPr>
        <p:spPr>
          <a:xfrm>
            <a:off x="5707080" y="7772400"/>
            <a:ext cx="930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9"/>
          <p:cNvGrpSpPr/>
          <p:nvPr/>
        </p:nvGrpSpPr>
        <p:grpSpPr>
          <a:xfrm>
            <a:off x="2793960" y="4081320"/>
            <a:ext cx="6469200" cy="5842080"/>
            <a:chOff x="2793960" y="4081320"/>
            <a:chExt cx="6469200" cy="5842080"/>
          </a:xfrm>
        </p:grpSpPr>
        <p:sp>
          <p:nvSpPr>
            <p:cNvPr id="357" name="Freeform 1"/>
            <p:cNvSpPr/>
            <p:nvPr/>
          </p:nvSpPr>
          <p:spPr>
            <a:xfrm>
              <a:off x="3521880" y="865332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"/>
            <p:cNvSpPr/>
            <p:nvPr/>
          </p:nvSpPr>
          <p:spPr>
            <a:xfrm>
              <a:off x="8619840" y="865332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"/>
            <p:cNvSpPr/>
            <p:nvPr/>
          </p:nvSpPr>
          <p:spPr>
            <a:xfrm>
              <a:off x="3521880" y="712944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619840" y="712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3521880" y="565596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8619840" y="565596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3521880" y="413208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619840" y="413208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3335760" y="87382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8535240" y="87382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3335760" y="721404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8535240" y="7214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335760" y="574056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8535240" y="57405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3335760" y="42166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8535240" y="42166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640680" y="87890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3521880" y="97203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8331840" y="87890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8196480" y="97203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9127800" y="88398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3640680" y="726480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3521880" y="819612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331840" y="726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8196480" y="8196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9127800" y="731556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3640680" y="579168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3521880" y="672300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31840" y="57916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8196480" y="67230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9127800" y="582552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3640680" y="42674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3521880" y="51987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331840" y="42674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196480" y="51987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9127800" y="430128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Picture 37" descr="tempimage1237.tiff"/>
            <p:cNvPicPr/>
            <p:nvPr/>
          </p:nvPicPr>
          <p:blipFill>
            <a:blip r:embed="rId1"/>
            <a:stretch/>
          </p:blipFill>
          <p:spPr>
            <a:xfrm>
              <a:off x="2793960" y="408132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8" descr="tempimage1238.tiff"/>
            <p:cNvPicPr/>
            <p:nvPr/>
          </p:nvPicPr>
          <p:blipFill>
            <a:blip r:embed="rId2"/>
            <a:stretch/>
          </p:blipFill>
          <p:spPr>
            <a:xfrm>
              <a:off x="2793960" y="5605200"/>
              <a:ext cx="132084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9" descr="tempimage1239.tiff"/>
            <p:cNvPicPr/>
            <p:nvPr/>
          </p:nvPicPr>
          <p:blipFill>
            <a:blip r:embed="rId3"/>
            <a:stretch/>
          </p:blipFill>
          <p:spPr>
            <a:xfrm>
              <a:off x="2810880" y="70786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0" descr="tempimage1240.tiff"/>
            <p:cNvPicPr/>
            <p:nvPr/>
          </p:nvPicPr>
          <p:blipFill>
            <a:blip r:embed="rId4"/>
            <a:stretch/>
          </p:blipFill>
          <p:spPr>
            <a:xfrm>
              <a:off x="2793960" y="8602560"/>
              <a:ext cx="13208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50"/>
          <p:cNvGrpSpPr/>
          <p:nvPr/>
        </p:nvGrpSpPr>
        <p:grpSpPr>
          <a:xfrm>
            <a:off x="1608120" y="254160"/>
            <a:ext cx="10634760" cy="3487680"/>
            <a:chOff x="1608120" y="254160"/>
            <a:chExt cx="10634760" cy="3487680"/>
          </a:xfrm>
        </p:grpSpPr>
        <p:sp>
          <p:nvSpPr>
            <p:cNvPr id="398" name="Freeform 41"/>
            <p:cNvSpPr/>
            <p:nvPr/>
          </p:nvSpPr>
          <p:spPr>
            <a:xfrm>
              <a:off x="1608120" y="254160"/>
              <a:ext cx="10634760" cy="34876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9" name="Picture 42" descr="tempimage1242.tiff"/>
            <p:cNvPicPr/>
            <p:nvPr/>
          </p:nvPicPr>
          <p:blipFill>
            <a:blip r:embed="rId5"/>
            <a:stretch/>
          </p:blipFill>
          <p:spPr>
            <a:xfrm>
              <a:off x="1743480" y="575640"/>
              <a:ext cx="1964160" cy="30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43"/>
            <p:cNvSpPr/>
            <p:nvPr/>
          </p:nvSpPr>
          <p:spPr>
            <a:xfrm>
              <a:off x="1726560" y="406440"/>
              <a:ext cx="10414800" cy="31662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TextBox 44"/>
          <p:cNvSpPr/>
          <p:nvPr/>
        </p:nvSpPr>
        <p:spPr>
          <a:xfrm>
            <a:off x="3522600" y="576360"/>
            <a:ext cx="692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axi company used this expr3ession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ulate the cost of a ri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time in 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$3 is a fixed charge. What is the co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a ride that lasts 10 minut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5"/>
          <p:cNvSpPr/>
          <p:nvPr/>
        </p:nvSpPr>
        <p:spPr>
          <a:xfrm>
            <a:off x="4910040" y="4335480"/>
            <a:ext cx="154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6"/>
          <p:cNvSpPr/>
          <p:nvPr/>
        </p:nvSpPr>
        <p:spPr>
          <a:xfrm>
            <a:off x="4944960" y="580860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7"/>
          <p:cNvSpPr/>
          <p:nvPr/>
        </p:nvSpPr>
        <p:spPr>
          <a:xfrm>
            <a:off x="4995720" y="723096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4843440" y="8821800"/>
            <a:ext cx="176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406440" y="220680"/>
            <a:ext cx="12310920" cy="3978360"/>
            <a:chOff x="406440" y="220680"/>
            <a:chExt cx="12310920" cy="3978360"/>
          </a:xfrm>
        </p:grpSpPr>
        <p:sp>
          <p:nvSpPr>
            <p:cNvPr id="407" name="Freeform 1"/>
            <p:cNvSpPr/>
            <p:nvPr/>
          </p:nvSpPr>
          <p:spPr>
            <a:xfrm>
              <a:off x="406440" y="220680"/>
              <a:ext cx="12310920" cy="3978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8" name="Picture 2" descr="tempimage132.tiff"/>
            <p:cNvPicPr/>
            <p:nvPr/>
          </p:nvPicPr>
          <p:blipFill>
            <a:blip r:embed="rId1"/>
            <a:stretch/>
          </p:blipFill>
          <p:spPr>
            <a:xfrm>
              <a:off x="541800" y="609840"/>
              <a:ext cx="2286000" cy="34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Freeform 3"/>
            <p:cNvSpPr/>
            <p:nvPr/>
          </p:nvSpPr>
          <p:spPr>
            <a:xfrm>
              <a:off x="507960" y="406800"/>
              <a:ext cx="12107880" cy="36061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50"/>
          <p:cNvGrpSpPr/>
          <p:nvPr/>
        </p:nvGrpSpPr>
        <p:grpSpPr>
          <a:xfrm>
            <a:off x="3268800" y="4114800"/>
            <a:ext cx="6484680" cy="5875200"/>
            <a:chOff x="3268800" y="4114800"/>
            <a:chExt cx="6484680" cy="5875200"/>
          </a:xfrm>
        </p:grpSpPr>
        <p:sp>
          <p:nvSpPr>
            <p:cNvPr id="411" name="Freeform 4"/>
            <p:cNvSpPr/>
            <p:nvPr/>
          </p:nvSpPr>
          <p:spPr>
            <a:xfrm>
              <a:off x="3996720" y="8703360"/>
              <a:ext cx="513036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5"/>
            <p:cNvSpPr/>
            <p:nvPr/>
          </p:nvSpPr>
          <p:spPr>
            <a:xfrm>
              <a:off x="9110160" y="8703360"/>
              <a:ext cx="64332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3996720" y="717948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9110160" y="717948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8"/>
            <p:cNvSpPr/>
            <p:nvPr/>
          </p:nvSpPr>
          <p:spPr>
            <a:xfrm>
              <a:off x="3996720" y="568944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9110160" y="568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3996720" y="416556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110160" y="416556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10600" y="880488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9025560" y="88048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10600" y="726408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9025560" y="726408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3810600" y="579096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9025560" y="5790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3810600" y="425016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9025560" y="425016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>
              <a:off x="4115160" y="88387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>
              <a:off x="3996720" y="97869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2"/>
            <p:cNvSpPr/>
            <p:nvPr/>
          </p:nvSpPr>
          <p:spPr>
            <a:xfrm>
              <a:off x="8822520" y="8838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8686800" y="97869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9618120" y="888948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4115160" y="731484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3996720" y="82461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8822520" y="73148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8686800" y="82461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9618120" y="7365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4115160" y="582480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996720" y="67730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8822520" y="582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8686800" y="67730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9618120" y="5875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5"/>
            <p:cNvSpPr/>
            <p:nvPr/>
          </p:nvSpPr>
          <p:spPr>
            <a:xfrm>
              <a:off x="4115160" y="43009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6"/>
            <p:cNvSpPr/>
            <p:nvPr/>
          </p:nvSpPr>
          <p:spPr>
            <a:xfrm>
              <a:off x="3996720" y="52322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7"/>
            <p:cNvSpPr/>
            <p:nvPr/>
          </p:nvSpPr>
          <p:spPr>
            <a:xfrm>
              <a:off x="8822520" y="4300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8"/>
            <p:cNvSpPr/>
            <p:nvPr/>
          </p:nvSpPr>
          <p:spPr>
            <a:xfrm>
              <a:off x="8686800" y="5232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>
              <a:off x="9618120" y="43516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7" name="Picture 40" descr="tempimage1340.tiff"/>
            <p:cNvPicPr/>
            <p:nvPr/>
          </p:nvPicPr>
          <p:blipFill>
            <a:blip r:embed="rId2"/>
            <a:stretch/>
          </p:blipFill>
          <p:spPr>
            <a:xfrm>
              <a:off x="3268800" y="411480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1" descr="tempimage1341.tiff"/>
            <p:cNvPicPr/>
            <p:nvPr/>
          </p:nvPicPr>
          <p:blipFill>
            <a:blip r:embed="rId3"/>
            <a:stretch/>
          </p:blipFill>
          <p:spPr>
            <a:xfrm>
              <a:off x="3268800" y="563868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2" descr="tempimage1342.tiff"/>
            <p:cNvPicPr/>
            <p:nvPr/>
          </p:nvPicPr>
          <p:blipFill>
            <a:blip r:embed="rId4"/>
            <a:stretch/>
          </p:blipFill>
          <p:spPr>
            <a:xfrm>
              <a:off x="3285720" y="712872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3" descr="tempimage1343.tiff"/>
            <p:cNvPicPr/>
            <p:nvPr/>
          </p:nvPicPr>
          <p:blipFill>
            <a:blip r:embed="rId5"/>
            <a:stretch/>
          </p:blipFill>
          <p:spPr>
            <a:xfrm>
              <a:off x="3268800" y="8669520"/>
              <a:ext cx="1320480" cy="13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44"/>
          <p:cNvSpPr/>
          <p:nvPr/>
        </p:nvSpPr>
        <p:spPr>
          <a:xfrm>
            <a:off x="2405160" y="490680"/>
            <a:ext cx="10362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uter repair person charges $40 for a ho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nd $24 per hour. The expression used to f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+ 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time in hours. What i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a repair if the house call lasts 3 hou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5"/>
          <p:cNvSpPr/>
          <p:nvPr/>
        </p:nvSpPr>
        <p:spPr>
          <a:xfrm>
            <a:off x="5722920" y="4249800"/>
            <a:ext cx="1355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6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6"/>
          <p:cNvSpPr/>
          <p:nvPr/>
        </p:nvSpPr>
        <p:spPr>
          <a:xfrm>
            <a:off x="5740560" y="5808600"/>
            <a:ext cx="135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8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5707080" y="7264440"/>
            <a:ext cx="1539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48"/>
          <p:cNvSpPr/>
          <p:nvPr/>
        </p:nvSpPr>
        <p:spPr>
          <a:xfrm>
            <a:off x="5757840" y="8856720"/>
            <a:ext cx="1625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4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4081320" y="4978440"/>
            <a:ext cx="5384880" cy="4859280"/>
            <a:chOff x="4081320" y="4978440"/>
            <a:chExt cx="5384880" cy="4859280"/>
          </a:xfrm>
        </p:grpSpPr>
        <p:sp>
          <p:nvSpPr>
            <p:cNvPr id="457" name="Freeform 1"/>
            <p:cNvSpPr/>
            <p:nvPr/>
          </p:nvSpPr>
          <p:spPr>
            <a:xfrm>
              <a:off x="4690800" y="8771040"/>
              <a:ext cx="426744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"/>
            <p:cNvSpPr/>
            <p:nvPr/>
          </p:nvSpPr>
          <p:spPr>
            <a:xfrm>
              <a:off x="8941320" y="8771040"/>
              <a:ext cx="52488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"/>
            <p:cNvSpPr/>
            <p:nvPr/>
          </p:nvSpPr>
          <p:spPr>
            <a:xfrm>
              <a:off x="4690800" y="751824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8941320" y="751824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4690800" y="628200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8941320" y="628200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4690800" y="5029200"/>
              <a:ext cx="426744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8941320" y="5029200"/>
              <a:ext cx="52488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4538520" y="885564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8856720" y="885564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4538520" y="758592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8856720" y="758592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4538520" y="636660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8856720" y="636660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4538520" y="509688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8856720" y="509688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4775400" y="88898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4690800" y="96685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8687520" y="88898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8568720" y="96685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9347760" y="894060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4775400" y="761976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4690800" y="84157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"/>
            <p:cNvSpPr/>
            <p:nvPr/>
          </p:nvSpPr>
          <p:spPr>
            <a:xfrm>
              <a:off x="8687520" y="761976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5"/>
            <p:cNvSpPr/>
            <p:nvPr/>
          </p:nvSpPr>
          <p:spPr>
            <a:xfrm>
              <a:off x="8568720" y="84157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6"/>
            <p:cNvSpPr/>
            <p:nvPr/>
          </p:nvSpPr>
          <p:spPr>
            <a:xfrm>
              <a:off x="9347760" y="767052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7"/>
            <p:cNvSpPr/>
            <p:nvPr/>
          </p:nvSpPr>
          <p:spPr>
            <a:xfrm>
              <a:off x="4775400" y="64004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8"/>
            <p:cNvSpPr/>
            <p:nvPr/>
          </p:nvSpPr>
          <p:spPr>
            <a:xfrm>
              <a:off x="4690800" y="716256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"/>
            <p:cNvSpPr/>
            <p:nvPr/>
          </p:nvSpPr>
          <p:spPr>
            <a:xfrm>
              <a:off x="8687520" y="64004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0"/>
            <p:cNvSpPr/>
            <p:nvPr/>
          </p:nvSpPr>
          <p:spPr>
            <a:xfrm>
              <a:off x="8568720" y="716256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1"/>
            <p:cNvSpPr/>
            <p:nvPr/>
          </p:nvSpPr>
          <p:spPr>
            <a:xfrm>
              <a:off x="9347760" y="643428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2"/>
            <p:cNvSpPr/>
            <p:nvPr/>
          </p:nvSpPr>
          <p:spPr>
            <a:xfrm>
              <a:off x="4775400" y="513072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3"/>
            <p:cNvSpPr/>
            <p:nvPr/>
          </p:nvSpPr>
          <p:spPr>
            <a:xfrm>
              <a:off x="4690800" y="589248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4"/>
            <p:cNvSpPr/>
            <p:nvPr/>
          </p:nvSpPr>
          <p:spPr>
            <a:xfrm>
              <a:off x="8687520" y="513072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"/>
            <p:cNvSpPr/>
            <p:nvPr/>
          </p:nvSpPr>
          <p:spPr>
            <a:xfrm>
              <a:off x="8568720" y="5892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6"/>
            <p:cNvSpPr/>
            <p:nvPr/>
          </p:nvSpPr>
          <p:spPr>
            <a:xfrm>
              <a:off x="9347760" y="51645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3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4081320" y="497844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4081320" y="624816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4098240" y="746748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4081320" y="8737200"/>
              <a:ext cx="1100520" cy="11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50"/>
          <p:cNvGrpSpPr/>
          <p:nvPr/>
        </p:nvGrpSpPr>
        <p:grpSpPr>
          <a:xfrm>
            <a:off x="474840" y="355680"/>
            <a:ext cx="12563280" cy="4452840"/>
            <a:chOff x="474840" y="355680"/>
            <a:chExt cx="12563280" cy="4452840"/>
          </a:xfrm>
        </p:grpSpPr>
        <p:sp>
          <p:nvSpPr>
            <p:cNvPr id="498" name="Freeform 41"/>
            <p:cNvSpPr/>
            <p:nvPr/>
          </p:nvSpPr>
          <p:spPr>
            <a:xfrm>
              <a:off x="474840" y="355680"/>
              <a:ext cx="12563280" cy="4452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660960" y="795600"/>
              <a:ext cx="2302560" cy="38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Freeform 43"/>
            <p:cNvSpPr/>
            <p:nvPr/>
          </p:nvSpPr>
          <p:spPr>
            <a:xfrm>
              <a:off x="610200" y="592560"/>
              <a:ext cx="12326400" cy="397908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Box 44"/>
          <p:cNvSpPr/>
          <p:nvPr/>
        </p:nvSpPr>
        <p:spPr>
          <a:xfrm>
            <a:off x="2674800" y="507960"/>
            <a:ext cx="99061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of a meal at Morales' Deli depends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of the main course. The expression us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cos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(½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$5 fixed charge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weight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course in ounces. What is the cost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 if the main course weighs 18 oun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5808600" y="5029200"/>
            <a:ext cx="1997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7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5808600" y="6265800"/>
            <a:ext cx="199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9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5808600" y="7535880"/>
            <a:ext cx="218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1.5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8"/>
          <p:cNvSpPr/>
          <p:nvPr/>
        </p:nvSpPr>
        <p:spPr>
          <a:xfrm>
            <a:off x="5824440" y="8771040"/>
            <a:ext cx="2286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4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932040" y="169920"/>
            <a:ext cx="1153152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's cellular phone company charg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 fixed monthly fee. they give 60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and then charge $0.10 per minu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additional minute. This ex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how they find the total monthly c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more than 60 minutes of ca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9"/>
          <p:cNvGrpSpPr/>
          <p:nvPr/>
        </p:nvGrpSpPr>
        <p:grpSpPr>
          <a:xfrm>
            <a:off x="744480" y="236520"/>
            <a:ext cx="12277800" cy="3032280"/>
            <a:chOff x="744480" y="236520"/>
            <a:chExt cx="12277800" cy="3032280"/>
          </a:xfrm>
        </p:grpSpPr>
        <p:sp>
          <p:nvSpPr>
            <p:cNvPr id="508" name="Freeform 1"/>
            <p:cNvSpPr/>
            <p:nvPr/>
          </p:nvSpPr>
          <p:spPr>
            <a:xfrm>
              <a:off x="744480" y="236520"/>
              <a:ext cx="12277800" cy="3032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896760" y="524520"/>
              <a:ext cx="2269080" cy="26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Freeform 3"/>
            <p:cNvSpPr/>
            <p:nvPr/>
          </p:nvSpPr>
          <p:spPr>
            <a:xfrm>
              <a:off x="862920" y="388800"/>
              <a:ext cx="12057840" cy="27273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50"/>
          <p:cNvGrpSpPr/>
          <p:nvPr/>
        </p:nvGrpSpPr>
        <p:grpSpPr>
          <a:xfrm>
            <a:off x="2336760" y="3589200"/>
            <a:ext cx="6738840" cy="6096240"/>
            <a:chOff x="2336760" y="3589200"/>
            <a:chExt cx="6738840" cy="6096240"/>
          </a:xfrm>
        </p:grpSpPr>
        <p:sp>
          <p:nvSpPr>
            <p:cNvPr id="512" name="Freeform 4"/>
            <p:cNvSpPr/>
            <p:nvPr/>
          </p:nvSpPr>
          <p:spPr>
            <a:xfrm>
              <a:off x="3098520" y="836460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8415360" y="836460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3098520" y="677268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8415360" y="677268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098520" y="523188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8415360" y="523188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098520" y="363996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8415360" y="363996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912400" y="844920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313840" y="844920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912400" y="685764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8313840" y="685764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912400" y="531648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8313840" y="531648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2912400" y="372456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8313840" y="372456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3216960" y="8500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3098520" y="9465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110440" y="8500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7958160" y="9465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8940240" y="8551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3216960" y="690840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3098520" y="7890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8110440" y="6908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7958160" y="7890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8940240" y="695916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3216960" y="536724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3098520" y="6332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8110440" y="53672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7958160" y="6332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8940240" y="541800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3216960" y="3775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3098520" y="4757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8110440" y="3775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7958160" y="4757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8940240" y="3826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8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2336760" y="358920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2336760" y="518076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2353680" y="672192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2336760" y="8313840"/>
              <a:ext cx="137124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44"/>
          <p:cNvSpPr/>
          <p:nvPr/>
        </p:nvSpPr>
        <p:spPr>
          <a:xfrm>
            <a:off x="2811600" y="-304920"/>
            <a:ext cx="10378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45"/>
          <p:cNvSpPr/>
          <p:nvPr/>
        </p:nvSpPr>
        <p:spPr>
          <a:xfrm>
            <a:off x="4960800" y="3741840"/>
            <a:ext cx="13557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5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6"/>
          <p:cNvSpPr/>
          <p:nvPr/>
        </p:nvSpPr>
        <p:spPr>
          <a:xfrm>
            <a:off x="4978440" y="5384880"/>
            <a:ext cx="13539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8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7"/>
          <p:cNvSpPr/>
          <p:nvPr/>
        </p:nvSpPr>
        <p:spPr>
          <a:xfrm>
            <a:off x="4995720" y="6908760"/>
            <a:ext cx="1354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8"/>
          <p:cNvSpPr/>
          <p:nvPr/>
        </p:nvSpPr>
        <p:spPr>
          <a:xfrm>
            <a:off x="4978440" y="8483760"/>
            <a:ext cx="1455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2489040"/>
            <a:ext cx="126158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 algebraic expression uses numbers and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letters to represent a quantity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The letters, called variables, stand f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unknown amount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Youcan find the value of an algebraic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expression by determining a value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14960" y="457200"/>
            <a:ext cx="3149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NO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89240" y="642960"/>
            <a:ext cx="76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valuate 12a - 2 when a = 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Substitute and comp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15920" y="169920"/>
            <a:ext cx="12666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A phone company uses this expression t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calculate the cost of a phone call: 1.25 +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0.10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. There is a fixed cost of $1.25 and 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is the number of minutes of the call. What i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the cost of a call that lasts 20 minute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2268360"/>
            <a:ext cx="66214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Sample Test Ques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"/>
          <p:cNvSpPr/>
          <p:nvPr/>
        </p:nvSpPr>
        <p:spPr>
          <a:xfrm>
            <a:off x="3030480" y="2133720"/>
            <a:ext cx="6943680" cy="1201680"/>
          </a:xfrm>
          <a:prstGeom prst="pie">
            <a:avLst/>
          </a:prstGeom>
          <a:solidFill>
            <a:srgbClr val="4f81bd"/>
          </a:solidFill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9"/>
          <p:cNvGrpSpPr/>
          <p:nvPr/>
        </p:nvGrpSpPr>
        <p:grpSpPr>
          <a:xfrm>
            <a:off x="3132000" y="3675240"/>
            <a:ext cx="6215040" cy="5621040"/>
            <a:chOff x="3132000" y="3675240"/>
            <a:chExt cx="6215040" cy="5621040"/>
          </a:xfrm>
        </p:grpSpPr>
        <p:sp>
          <p:nvSpPr>
            <p:cNvPr id="57" name="Freeform 1"/>
            <p:cNvSpPr/>
            <p:nvPr/>
          </p:nvSpPr>
          <p:spPr>
            <a:xfrm>
              <a:off x="3826080" y="807732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"/>
            <p:cNvSpPr/>
            <p:nvPr/>
          </p:nvSpPr>
          <p:spPr>
            <a:xfrm>
              <a:off x="8737560" y="807732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3826080" y="66042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8737560" y="66042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3826080" y="518184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737560" y="518184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3826080" y="37260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8737560" y="37260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3656880" y="816192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8652960" y="816192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3656880" y="6688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652960" y="6688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656880" y="5266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8652960" y="5266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656880" y="38106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652960" y="38106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3944880" y="81957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3826080" y="90932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8449560" y="8195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8314200" y="90932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211680" y="824652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944880" y="6739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826080" y="76370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8449560" y="6739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314200" y="76370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9211680" y="67737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44880" y="5317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3826080" y="621468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49560" y="5317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8314200" y="621468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11680" y="53514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3944880" y="38444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3826080" y="474192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449560" y="3844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314200" y="474192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211680" y="38952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37" descr="tempimage637.tiff"/>
            <p:cNvPicPr/>
            <p:nvPr/>
          </p:nvPicPr>
          <p:blipFill>
            <a:blip r:embed="rId1"/>
            <a:stretch/>
          </p:blipFill>
          <p:spPr>
            <a:xfrm>
              <a:off x="3132000" y="367524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tempimage638.tiff"/>
            <p:cNvPicPr/>
            <p:nvPr/>
          </p:nvPicPr>
          <p:blipFill>
            <a:blip r:embed="rId2"/>
            <a:stretch/>
          </p:blipFill>
          <p:spPr>
            <a:xfrm>
              <a:off x="3132000" y="514800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tempimage639.tiff"/>
            <p:cNvPicPr/>
            <p:nvPr/>
          </p:nvPicPr>
          <p:blipFill>
            <a:blip r:embed="rId3"/>
            <a:stretch/>
          </p:blipFill>
          <p:spPr>
            <a:xfrm>
              <a:off x="3148920" y="657036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0" descr="tempimage640.tiff"/>
            <p:cNvPicPr/>
            <p:nvPr/>
          </p:nvPicPr>
          <p:blipFill>
            <a:blip r:embed="rId4"/>
            <a:stretch/>
          </p:blipFill>
          <p:spPr>
            <a:xfrm>
              <a:off x="3132000" y="802656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50"/>
          <p:cNvGrpSpPr/>
          <p:nvPr/>
        </p:nvGrpSpPr>
        <p:grpSpPr>
          <a:xfrm>
            <a:off x="1981080" y="693720"/>
            <a:ext cx="9888480" cy="2438280"/>
            <a:chOff x="1981080" y="693720"/>
            <a:chExt cx="9888480" cy="2438280"/>
          </a:xfrm>
        </p:grpSpPr>
        <p:sp>
          <p:nvSpPr>
            <p:cNvPr id="98" name="Freeform 41"/>
            <p:cNvSpPr/>
            <p:nvPr/>
          </p:nvSpPr>
          <p:spPr>
            <a:xfrm>
              <a:off x="1981080" y="693720"/>
              <a:ext cx="9888480" cy="2438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tempimage642.tiff"/>
            <p:cNvPicPr/>
            <p:nvPr/>
          </p:nvPicPr>
          <p:blipFill>
            <a:blip r:embed="rId5"/>
            <a:stretch/>
          </p:blipFill>
          <p:spPr>
            <a:xfrm>
              <a:off x="2099520" y="930600"/>
              <a:ext cx="18284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43"/>
            <p:cNvSpPr/>
            <p:nvPr/>
          </p:nvSpPr>
          <p:spPr>
            <a:xfrm>
              <a:off x="2065680" y="812160"/>
              <a:ext cx="9719280" cy="22014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44"/>
          <p:cNvSpPr/>
          <p:nvPr/>
        </p:nvSpPr>
        <p:spPr>
          <a:xfrm>
            <a:off x="4148280" y="1150920"/>
            <a:ext cx="6791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5 whe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925960" y="39448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5925960" y="54180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5842080" y="6891480"/>
            <a:ext cx="677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842080" y="836460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9"/>
          <p:cNvGrpSpPr/>
          <p:nvPr/>
        </p:nvGrpSpPr>
        <p:grpSpPr>
          <a:xfrm>
            <a:off x="2540160" y="541440"/>
            <a:ext cx="9278640" cy="2286000"/>
            <a:chOff x="2540160" y="541440"/>
            <a:chExt cx="9278640" cy="2286000"/>
          </a:xfrm>
        </p:grpSpPr>
        <p:sp>
          <p:nvSpPr>
            <p:cNvPr id="107" name="Freeform 1"/>
            <p:cNvSpPr/>
            <p:nvPr/>
          </p:nvSpPr>
          <p:spPr>
            <a:xfrm>
              <a:off x="2540160" y="541440"/>
              <a:ext cx="92786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2" descr="tempimage72.tiff"/>
            <p:cNvPicPr/>
            <p:nvPr/>
          </p:nvPicPr>
          <p:blipFill>
            <a:blip r:embed="rId1"/>
            <a:stretch/>
          </p:blipFill>
          <p:spPr>
            <a:xfrm>
              <a:off x="2658600" y="761400"/>
              <a:ext cx="171000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3"/>
            <p:cNvSpPr/>
            <p:nvPr/>
          </p:nvSpPr>
          <p:spPr>
            <a:xfrm>
              <a:off x="2624760" y="659880"/>
              <a:ext cx="91263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50"/>
          <p:cNvGrpSpPr/>
          <p:nvPr/>
        </p:nvGrpSpPr>
        <p:grpSpPr>
          <a:xfrm>
            <a:off x="3218040" y="3370320"/>
            <a:ext cx="6349680" cy="5740200"/>
            <a:chOff x="3218040" y="3370320"/>
            <a:chExt cx="6349680" cy="5740200"/>
          </a:xfrm>
        </p:grpSpPr>
        <p:sp>
          <p:nvSpPr>
            <p:cNvPr id="111" name="Freeform 4"/>
            <p:cNvSpPr/>
            <p:nvPr/>
          </p:nvSpPr>
          <p:spPr>
            <a:xfrm>
              <a:off x="3929040" y="78577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941320" y="78577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3929040" y="636732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8941320" y="636732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3929040" y="49111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941320" y="49111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929040" y="342108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941320" y="342108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759840" y="79423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56720" y="79423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759840" y="64519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8856720" y="64519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759840" y="49957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856720" y="49957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9840" y="350568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856720" y="350568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4047480" y="79930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929040" y="89074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653320" y="79930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517960" y="89074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9432360" y="80438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047480" y="65030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929040" y="74174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653320" y="65030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7960" y="74174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432360" y="65368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047480" y="50464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929040" y="59608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8653320" y="5046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8517960" y="59608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9432360" y="5097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4047480" y="35564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929040" y="44708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653320" y="35564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517960" y="44708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9432360" y="35902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0" descr="tempimage740.tiff"/>
            <p:cNvPicPr/>
            <p:nvPr/>
          </p:nvPicPr>
          <p:blipFill>
            <a:blip r:embed="rId2"/>
            <a:stretch/>
          </p:blipFill>
          <p:spPr>
            <a:xfrm>
              <a:off x="3218040" y="3370320"/>
              <a:ext cx="128664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tempimage741.tiff"/>
            <p:cNvPicPr/>
            <p:nvPr/>
          </p:nvPicPr>
          <p:blipFill>
            <a:blip r:embed="rId3"/>
            <a:stretch/>
          </p:blipFill>
          <p:spPr>
            <a:xfrm>
              <a:off x="3218040" y="4860360"/>
              <a:ext cx="12866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2" descr="tempimage742.tiff"/>
            <p:cNvPicPr/>
            <p:nvPr/>
          </p:nvPicPr>
          <p:blipFill>
            <a:blip r:embed="rId4"/>
            <a:stretch/>
          </p:blipFill>
          <p:spPr>
            <a:xfrm>
              <a:off x="3234960" y="6316560"/>
              <a:ext cx="130356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tempimage743.tiff"/>
            <p:cNvPicPr/>
            <p:nvPr/>
          </p:nvPicPr>
          <p:blipFill>
            <a:blip r:embed="rId5"/>
            <a:stretch/>
          </p:blipFill>
          <p:spPr>
            <a:xfrm>
              <a:off x="3218040" y="7806960"/>
              <a:ext cx="128664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44"/>
          <p:cNvSpPr/>
          <p:nvPr/>
        </p:nvSpPr>
        <p:spPr>
          <a:xfrm>
            <a:off x="4605480" y="1015920"/>
            <a:ext cx="7924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2b + 4 when b = ½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281640" y="35892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6265800" y="514836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6215040" y="662148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113520" y="8145360"/>
            <a:ext cx="74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3403440" y="3268800"/>
            <a:ext cx="6434280" cy="5824440"/>
            <a:chOff x="3403440" y="3268800"/>
            <a:chExt cx="6434280" cy="5824440"/>
          </a:xfrm>
        </p:grpSpPr>
        <p:sp>
          <p:nvSpPr>
            <p:cNvPr id="157" name="Freeform 1"/>
            <p:cNvSpPr/>
            <p:nvPr/>
          </p:nvSpPr>
          <p:spPr>
            <a:xfrm>
              <a:off x="4131360" y="7823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>
              <a:off x="9211320" y="7823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"/>
            <p:cNvSpPr/>
            <p:nvPr/>
          </p:nvSpPr>
          <p:spPr>
            <a:xfrm>
              <a:off x="4131360" y="629964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9211320" y="629964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31360" y="4826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9211320" y="4826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4131360" y="3319560"/>
              <a:ext cx="509688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211320" y="33195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3945240" y="790812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9109800" y="790812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945240" y="6401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109800" y="6401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945240" y="492804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9109800" y="4928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945240" y="3404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109800" y="3404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249800" y="7958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131360" y="8890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906400" y="7958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771040" y="8890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9702360" y="80096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4249800" y="643500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4131360" y="736632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906400" y="64350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71040" y="736632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9702360" y="6485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4249800" y="4961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4131360" y="5893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8906400" y="4961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8771040" y="5893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9702360" y="501264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4249800" y="345492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131360" y="438624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8906400" y="3454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8771040" y="4386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9702360" y="3488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37" descr="tempimage837.tiff"/>
            <p:cNvPicPr/>
            <p:nvPr/>
          </p:nvPicPr>
          <p:blipFill>
            <a:blip r:embed="rId1"/>
            <a:stretch/>
          </p:blipFill>
          <p:spPr>
            <a:xfrm>
              <a:off x="3403440" y="32688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8" descr="tempimage838.tiff"/>
            <p:cNvPicPr/>
            <p:nvPr/>
          </p:nvPicPr>
          <p:blipFill>
            <a:blip r:embed="rId2"/>
            <a:stretch/>
          </p:blipFill>
          <p:spPr>
            <a:xfrm>
              <a:off x="3403440" y="479268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9" descr="tempimage839.tiff"/>
            <p:cNvPicPr/>
            <p:nvPr/>
          </p:nvPicPr>
          <p:blipFill>
            <a:blip r:embed="rId3"/>
            <a:stretch/>
          </p:blipFill>
          <p:spPr>
            <a:xfrm>
              <a:off x="3420360" y="6265800"/>
              <a:ext cx="13204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tempimage840.tiff"/>
            <p:cNvPicPr/>
            <p:nvPr/>
          </p:nvPicPr>
          <p:blipFill>
            <a:blip r:embed="rId4"/>
            <a:stretch/>
          </p:blipFill>
          <p:spPr>
            <a:xfrm>
              <a:off x="3403440" y="7772760"/>
              <a:ext cx="1303560" cy="13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50"/>
          <p:cNvGrpSpPr/>
          <p:nvPr/>
        </p:nvGrpSpPr>
        <p:grpSpPr>
          <a:xfrm>
            <a:off x="2116080" y="507960"/>
            <a:ext cx="9280440" cy="2286000"/>
            <a:chOff x="2116080" y="507960"/>
            <a:chExt cx="9280440" cy="2286000"/>
          </a:xfrm>
        </p:grpSpPr>
        <p:sp>
          <p:nvSpPr>
            <p:cNvPr id="198" name="Freeform 41"/>
            <p:cNvSpPr/>
            <p:nvPr/>
          </p:nvSpPr>
          <p:spPr>
            <a:xfrm>
              <a:off x="2116080" y="507960"/>
              <a:ext cx="92804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2" descr="tempimage842.tiff"/>
            <p:cNvPicPr/>
            <p:nvPr/>
          </p:nvPicPr>
          <p:blipFill>
            <a:blip r:embed="rId5"/>
            <a:stretch/>
          </p:blipFill>
          <p:spPr>
            <a:xfrm>
              <a:off x="2234520" y="727920"/>
              <a:ext cx="171036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3"/>
            <p:cNvSpPr/>
            <p:nvPr/>
          </p:nvSpPr>
          <p:spPr>
            <a:xfrm>
              <a:off x="2200680" y="626400"/>
              <a:ext cx="91281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44"/>
          <p:cNvSpPr/>
          <p:nvPr/>
        </p:nvSpPr>
        <p:spPr>
          <a:xfrm>
            <a:off x="4030560" y="74448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6.5 - 3z w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= 0.5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943600" y="3556080"/>
            <a:ext cx="1150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299280" y="4995720"/>
            <a:ext cx="52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316560" y="65707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6383160" y="80596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9"/>
          <p:cNvGrpSpPr/>
          <p:nvPr/>
        </p:nvGrpSpPr>
        <p:grpSpPr>
          <a:xfrm>
            <a:off x="1913040" y="474840"/>
            <a:ext cx="10093320" cy="2489040"/>
            <a:chOff x="1913040" y="474840"/>
            <a:chExt cx="10093320" cy="2489040"/>
          </a:xfrm>
        </p:grpSpPr>
        <p:sp>
          <p:nvSpPr>
            <p:cNvPr id="207" name="Freeform 1"/>
            <p:cNvSpPr/>
            <p:nvPr/>
          </p:nvSpPr>
          <p:spPr>
            <a:xfrm>
              <a:off x="1913040" y="474840"/>
              <a:ext cx="10093320" cy="2489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2" descr="tempimage92.tiff"/>
            <p:cNvPicPr/>
            <p:nvPr/>
          </p:nvPicPr>
          <p:blipFill>
            <a:blip r:embed="rId1"/>
            <a:stretch/>
          </p:blipFill>
          <p:spPr>
            <a:xfrm>
              <a:off x="2031480" y="711720"/>
              <a:ext cx="1862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3"/>
            <p:cNvSpPr/>
            <p:nvPr/>
          </p:nvSpPr>
          <p:spPr>
            <a:xfrm>
              <a:off x="1997640" y="593280"/>
              <a:ext cx="9924120" cy="22521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50"/>
          <p:cNvGrpSpPr/>
          <p:nvPr/>
        </p:nvGrpSpPr>
        <p:grpSpPr>
          <a:xfrm>
            <a:off x="3726000" y="3827520"/>
            <a:ext cx="4808520" cy="4351320"/>
            <a:chOff x="3726000" y="3827520"/>
            <a:chExt cx="4808520" cy="4351320"/>
          </a:xfrm>
        </p:grpSpPr>
        <p:sp>
          <p:nvSpPr>
            <p:cNvPr id="211" name="Freeform 4"/>
            <p:cNvSpPr/>
            <p:nvPr/>
          </p:nvSpPr>
          <p:spPr>
            <a:xfrm>
              <a:off x="4267800" y="72309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8060760" y="72309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4267800" y="609624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8060760" y="609624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4267800" y="499572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8060760" y="499572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67800" y="38613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8060760" y="38613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132080" y="72986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7992720" y="72986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132080" y="616392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7992720" y="616392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132080" y="506340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992720" y="506340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132080" y="39290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7992720" y="39290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352400" y="73324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267800" y="80265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7840440" y="73324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7738920" y="80265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8433000" y="73663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5"/>
            <p:cNvSpPr/>
            <p:nvPr/>
          </p:nvSpPr>
          <p:spPr>
            <a:xfrm>
              <a:off x="4352400" y="619776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6"/>
            <p:cNvSpPr/>
            <p:nvPr/>
          </p:nvSpPr>
          <p:spPr>
            <a:xfrm>
              <a:off x="4267800" y="689220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"/>
            <p:cNvSpPr/>
            <p:nvPr/>
          </p:nvSpPr>
          <p:spPr>
            <a:xfrm>
              <a:off x="7840440" y="619776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7738920" y="689220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433000" y="623160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352400" y="509724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4267800" y="579168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7840440" y="509724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7738920" y="579168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433000" y="513108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4352400" y="39628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4267800" y="46569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7840440" y="39628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7738920" y="46569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8433000" y="39967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40" descr="tempimage940.tiff"/>
            <p:cNvPicPr/>
            <p:nvPr/>
          </p:nvPicPr>
          <p:blipFill>
            <a:blip r:embed="rId2"/>
            <a:stretch/>
          </p:blipFill>
          <p:spPr>
            <a:xfrm>
              <a:off x="3726000" y="382752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tempimage941.tiff"/>
            <p:cNvPicPr/>
            <p:nvPr/>
          </p:nvPicPr>
          <p:blipFill>
            <a:blip r:embed="rId3"/>
            <a:stretch/>
          </p:blipFill>
          <p:spPr>
            <a:xfrm>
              <a:off x="3726000" y="496188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tempimage942.tiff"/>
            <p:cNvPicPr/>
            <p:nvPr/>
          </p:nvPicPr>
          <p:blipFill>
            <a:blip r:embed="rId4"/>
            <a:stretch/>
          </p:blipFill>
          <p:spPr>
            <a:xfrm>
              <a:off x="3742920" y="606240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3" descr="tempimage943.tiff"/>
            <p:cNvPicPr/>
            <p:nvPr/>
          </p:nvPicPr>
          <p:blipFill>
            <a:blip r:embed="rId5"/>
            <a:stretch/>
          </p:blipFill>
          <p:spPr>
            <a:xfrm>
              <a:off x="3726000" y="7196760"/>
              <a:ext cx="9820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Box 44"/>
          <p:cNvSpPr/>
          <p:nvPr/>
        </p:nvSpPr>
        <p:spPr>
          <a:xfrm>
            <a:off x="4097160" y="880920"/>
            <a:ext cx="7553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¾ + 2m when m = ¼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5"/>
          <p:cNvSpPr/>
          <p:nvPr/>
        </p:nvSpPr>
        <p:spPr>
          <a:xfrm>
            <a:off x="5621400" y="3995640"/>
            <a:ext cx="1033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6"/>
          <p:cNvSpPr/>
          <p:nvPr/>
        </p:nvSpPr>
        <p:spPr>
          <a:xfrm>
            <a:off x="5621400" y="5079960"/>
            <a:ext cx="110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605560" y="61135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5621400" y="7315200"/>
            <a:ext cx="1101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50:32Z</dcterms:created>
  <dc:creator>Wendy</dc:creator>
  <dc:description/>
  <dc:language>en-US</dc:language>
  <cp:lastModifiedBy>Wendy</cp:lastModifiedBy>
  <dcterms:modified xsi:type="dcterms:W3CDTF">2008-03-24T14:50:52Z</dcterms:modified>
  <cp:revision>1</cp:revision>
  <dc:subject/>
  <dc:title>Slide 1</dc:title>
</cp:coreProperties>
</file>