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56B-FDBD-417B-9EE4-867FBD22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383-51CC-4EA3-B127-64E1D30A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8B1-FB55-4FD4-864B-20A3505F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630-1BC6-4C56-8B5C-C2526CD7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BE1-482D-48BC-84D0-68661DD5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879-76A4-4B14-9990-4FAF508A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6AF-C08E-4600-B876-3D0FF7F5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064-0050-4713-88F8-DCFF92EB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8CC-134A-46DD-ABFB-6BFD178D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A63-F598-46BA-8B21-9EA24B0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B03-533D-4CCB-84D0-1945DB30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41A-185C-46F3-BE77-3DAA5A6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EE69-6F0C-4F3B-BC1D-B42EA8C7A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022560" y="888840"/>
            <a:ext cx="1101096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Measures of Angles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Polyg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tempimage12.tiff"/>
          <p:cNvPicPr/>
          <p:nvPr/>
        </p:nvPicPr>
        <p:blipFill>
          <a:blip r:embed="rId1"/>
          <a:stretch/>
        </p:blipFill>
        <p:spPr>
          <a:xfrm>
            <a:off x="9461520" y="2768760"/>
            <a:ext cx="2514600" cy="232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2"/>
          <a:stretch/>
        </p:blipFill>
        <p:spPr>
          <a:xfrm rot="156000">
            <a:off x="1549440" y="245088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3"/>
          <a:stretch/>
        </p:blipFill>
        <p:spPr>
          <a:xfrm rot="16650000">
            <a:off x="7175160" y="7543440"/>
            <a:ext cx="2921040" cy="252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4"/>
          <a:stretch/>
        </p:blipFill>
        <p:spPr>
          <a:xfrm rot="5651400">
            <a:off x="6298920" y="3581280"/>
            <a:ext cx="2311560" cy="245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5"/>
          <a:stretch/>
        </p:blipFill>
        <p:spPr>
          <a:xfrm>
            <a:off x="3797280" y="6921360"/>
            <a:ext cx="269244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6"/>
          <a:stretch/>
        </p:blipFill>
        <p:spPr>
          <a:xfrm>
            <a:off x="3390840" y="5359320"/>
            <a:ext cx="27939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7"/>
          <a:stretch/>
        </p:blipFill>
        <p:spPr>
          <a:xfrm rot="2238000">
            <a:off x="9689760" y="7302600"/>
            <a:ext cx="255276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8"/>
          <a:stretch/>
        </p:blipFill>
        <p:spPr>
          <a:xfrm rot="12971400">
            <a:off x="4571640" y="3974400"/>
            <a:ext cx="2616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1"/>
          <p:cNvSpPr/>
          <p:nvPr/>
        </p:nvSpPr>
        <p:spPr>
          <a:xfrm>
            <a:off x="1104840" y="4267080"/>
            <a:ext cx="3619440" cy="14223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7"/>
          <p:cNvGrpSpPr/>
          <p:nvPr/>
        </p:nvGrpSpPr>
        <p:grpSpPr>
          <a:xfrm>
            <a:off x="4343400" y="990720"/>
            <a:ext cx="8013600" cy="1981080"/>
            <a:chOff x="4343400" y="990720"/>
            <a:chExt cx="8013600" cy="1981080"/>
          </a:xfrm>
        </p:grpSpPr>
        <p:sp>
          <p:nvSpPr>
            <p:cNvPr id="69" name="Freeform 2"/>
            <p:cNvSpPr/>
            <p:nvPr/>
          </p:nvSpPr>
          <p:spPr>
            <a:xfrm>
              <a:off x="4343400" y="990720"/>
              <a:ext cx="8013600" cy="198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Picture 3" descr="tempimage103.tiff"/>
            <p:cNvPicPr/>
            <p:nvPr/>
          </p:nvPicPr>
          <p:blipFill>
            <a:blip r:embed="rId1"/>
            <a:stretch/>
          </p:blipFill>
          <p:spPr>
            <a:xfrm>
              <a:off x="4431960" y="1193760"/>
              <a:ext cx="148572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reeform 4"/>
            <p:cNvSpPr/>
            <p:nvPr/>
          </p:nvSpPr>
          <p:spPr>
            <a:xfrm>
              <a:off x="4431960" y="1092240"/>
              <a:ext cx="7861320" cy="18036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58"/>
          <p:cNvGrpSpPr/>
          <p:nvPr/>
        </p:nvGrpSpPr>
        <p:grpSpPr>
          <a:xfrm>
            <a:off x="5473800" y="3035160"/>
            <a:ext cx="5740200" cy="5194440"/>
            <a:chOff x="5473800" y="3035160"/>
            <a:chExt cx="5740200" cy="5194440"/>
          </a:xfrm>
        </p:grpSpPr>
        <p:sp>
          <p:nvSpPr>
            <p:cNvPr id="73" name="Freeform 5"/>
            <p:cNvSpPr/>
            <p:nvPr/>
          </p:nvSpPr>
          <p:spPr>
            <a:xfrm>
              <a:off x="6121440" y="7112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10655280" y="7112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6121440" y="5753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10655280" y="5753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6121440" y="4431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0655280" y="4431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6121440" y="3072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10655280" y="3072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5956200" y="7188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10579320" y="7188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956200" y="5829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10579320" y="5829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956200" y="4508280"/>
              <a:ext cx="477504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10579320" y="450828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956200" y="316188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0579320" y="3161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6222960" y="7226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6121440" y="8064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401480" y="7226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10274400" y="8064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11099880" y="7264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222960" y="5867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6121440" y="6705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10401480" y="5867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0274400" y="6705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1099880" y="59180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6222960" y="4559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6121440" y="5384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10401480" y="4559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10274400" y="5384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11099880" y="4597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6222960" y="3200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6121440" y="40255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10401480" y="3200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0274400" y="40255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11099880" y="3238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41" descr="tempimage1041.tiff"/>
            <p:cNvPicPr/>
            <p:nvPr/>
          </p:nvPicPr>
          <p:blipFill>
            <a:blip r:embed="rId2"/>
            <a:stretch/>
          </p:blipFill>
          <p:spPr>
            <a:xfrm>
              <a:off x="5473800" y="3035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2" descr="tempimage1042.tiff"/>
            <p:cNvPicPr/>
            <p:nvPr/>
          </p:nvPicPr>
          <p:blipFill>
            <a:blip r:embed="rId3"/>
            <a:stretch/>
          </p:blipFill>
          <p:spPr>
            <a:xfrm>
              <a:off x="5473800" y="4394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tempimage1043.tiff"/>
            <p:cNvPicPr/>
            <p:nvPr/>
          </p:nvPicPr>
          <p:blipFill>
            <a:blip r:embed="rId4"/>
            <a:stretch/>
          </p:blipFill>
          <p:spPr>
            <a:xfrm>
              <a:off x="5499000" y="57150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4" descr="tempimage1044.tiff"/>
            <p:cNvPicPr/>
            <p:nvPr/>
          </p:nvPicPr>
          <p:blipFill>
            <a:blip r:embed="rId5"/>
            <a:stretch/>
          </p:blipFill>
          <p:spPr>
            <a:xfrm>
              <a:off x="5473800" y="706140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45"/>
          <p:cNvSpPr/>
          <p:nvPr/>
        </p:nvSpPr>
        <p:spPr>
          <a:xfrm>
            <a:off x="5638680" y="1676520"/>
            <a:ext cx="910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 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1295280" y="5740560"/>
            <a:ext cx="507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7"/>
          <p:cNvSpPr/>
          <p:nvPr/>
        </p:nvSpPr>
        <p:spPr>
          <a:xfrm>
            <a:off x="685800" y="3835440"/>
            <a:ext cx="52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4686480" y="5295960"/>
            <a:ext cx="48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1181160" y="4368960"/>
            <a:ext cx="105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784680" y="520704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7175520" y="33908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7023240" y="59691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7023240" y="726444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26280" y="4584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55"/>
          <p:cNvSpPr/>
          <p:nvPr/>
        </p:nvSpPr>
        <p:spPr>
          <a:xfrm>
            <a:off x="11264760" y="1892160"/>
            <a:ext cx="177840" cy="254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56"/>
          <p:cNvSpPr/>
          <p:nvPr/>
        </p:nvSpPr>
        <p:spPr>
          <a:xfrm>
            <a:off x="11277720" y="214632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9"/>
          <p:cNvGrpSpPr/>
          <p:nvPr/>
        </p:nvGrpSpPr>
        <p:grpSpPr>
          <a:xfrm>
            <a:off x="5257800" y="3492360"/>
            <a:ext cx="5689080" cy="5143680"/>
            <a:chOff x="5257800" y="3492360"/>
            <a:chExt cx="5689080" cy="5143680"/>
          </a:xfrm>
        </p:grpSpPr>
        <p:sp>
          <p:nvSpPr>
            <p:cNvPr id="126" name="Freeform 1"/>
            <p:cNvSpPr/>
            <p:nvPr/>
          </p:nvSpPr>
          <p:spPr>
            <a:xfrm>
              <a:off x="5905440" y="75312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10401120" y="75312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5905440" y="61848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10401120" y="6184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905440" y="48765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0401120" y="48765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905440" y="35301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0401120" y="35301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740200" y="7607520"/>
              <a:ext cx="47242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0312560" y="7607520"/>
              <a:ext cx="558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740200" y="626112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10312560" y="6261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740200" y="49528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10312560" y="4952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40200" y="36064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0312560" y="36064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994360" y="76456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905440" y="84711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10134720" y="7645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10020240" y="84711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10845720" y="76834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994360" y="6299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905440" y="71247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10134720" y="6299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10020240" y="7124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10845720" y="6337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994360" y="49910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905440" y="58165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134720" y="4991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10020240" y="58165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10845720" y="50418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994360" y="36572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905440" y="44701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0134720" y="36572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020240" y="44701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10845720" y="3695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37" descr="tempimage1137.tiff"/>
            <p:cNvPicPr/>
            <p:nvPr/>
          </p:nvPicPr>
          <p:blipFill>
            <a:blip r:embed="rId1"/>
            <a:stretch/>
          </p:blipFill>
          <p:spPr>
            <a:xfrm>
              <a:off x="5257800" y="3492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tempimage1138.tiff"/>
            <p:cNvPicPr/>
            <p:nvPr/>
          </p:nvPicPr>
          <p:blipFill>
            <a:blip r:embed="rId2"/>
            <a:stretch/>
          </p:blipFill>
          <p:spPr>
            <a:xfrm>
              <a:off x="5257800" y="48384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9" descr="tempimage1139.tiff"/>
            <p:cNvPicPr/>
            <p:nvPr/>
          </p:nvPicPr>
          <p:blipFill>
            <a:blip r:embed="rId3"/>
            <a:stretch/>
          </p:blipFill>
          <p:spPr>
            <a:xfrm>
              <a:off x="5283000" y="614664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0" descr="tempimage1140.tiff"/>
            <p:cNvPicPr/>
            <p:nvPr/>
          </p:nvPicPr>
          <p:blipFill>
            <a:blip r:embed="rId4"/>
            <a:stretch/>
          </p:blipFill>
          <p:spPr>
            <a:xfrm>
              <a:off x="5257800" y="7480440"/>
              <a:ext cx="115560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50"/>
          <p:cNvGrpSpPr/>
          <p:nvPr/>
        </p:nvGrpSpPr>
        <p:grpSpPr>
          <a:xfrm>
            <a:off x="3822840" y="1015920"/>
            <a:ext cx="8750160" cy="2158920"/>
            <a:chOff x="3822840" y="1015920"/>
            <a:chExt cx="8750160" cy="2158920"/>
          </a:xfrm>
        </p:grpSpPr>
        <p:sp>
          <p:nvSpPr>
            <p:cNvPr id="167" name="Freeform 41"/>
            <p:cNvSpPr/>
            <p:nvPr/>
          </p:nvSpPr>
          <p:spPr>
            <a:xfrm>
              <a:off x="3822840" y="1015920"/>
              <a:ext cx="8750160" cy="2158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42" descr="tempimage1142.tiff"/>
            <p:cNvPicPr/>
            <p:nvPr/>
          </p:nvPicPr>
          <p:blipFill>
            <a:blip r:embed="rId5"/>
            <a:stretch/>
          </p:blipFill>
          <p:spPr>
            <a:xfrm>
              <a:off x="3898800" y="121896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43"/>
            <p:cNvSpPr/>
            <p:nvPr/>
          </p:nvSpPr>
          <p:spPr>
            <a:xfrm>
              <a:off x="3898800" y="1117440"/>
              <a:ext cx="8597880" cy="1943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44"/>
          <p:cNvSpPr/>
          <p:nvPr/>
        </p:nvSpPr>
        <p:spPr>
          <a:xfrm>
            <a:off x="5460840" y="1181160"/>
            <a:ext cx="6832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easure of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angels in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quilateral tri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5"/>
          <p:cNvSpPr/>
          <p:nvPr/>
        </p:nvSpPr>
        <p:spPr>
          <a:xfrm>
            <a:off x="6997680" y="373392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6"/>
          <p:cNvSpPr/>
          <p:nvPr/>
        </p:nvSpPr>
        <p:spPr>
          <a:xfrm>
            <a:off x="7023240" y="5054760"/>
            <a:ext cx="876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7"/>
          <p:cNvSpPr/>
          <p:nvPr/>
        </p:nvSpPr>
        <p:spPr>
          <a:xfrm>
            <a:off x="6972480" y="63626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845400" y="77979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9"/>
          <p:cNvGrpSpPr/>
          <p:nvPr/>
        </p:nvGrpSpPr>
        <p:grpSpPr>
          <a:xfrm>
            <a:off x="3479760" y="291960"/>
            <a:ext cx="9690120" cy="2387880"/>
            <a:chOff x="3479760" y="291960"/>
            <a:chExt cx="9690120" cy="2387880"/>
          </a:xfrm>
        </p:grpSpPr>
        <p:sp>
          <p:nvSpPr>
            <p:cNvPr id="176" name="Freeform 1"/>
            <p:cNvSpPr/>
            <p:nvPr/>
          </p:nvSpPr>
          <p:spPr>
            <a:xfrm>
              <a:off x="3479760" y="291960"/>
              <a:ext cx="9690120" cy="23878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Picture 2" descr="tempimage122.tiff"/>
            <p:cNvPicPr/>
            <p:nvPr/>
          </p:nvPicPr>
          <p:blipFill>
            <a:blip r:embed="rId1"/>
            <a:stretch/>
          </p:blipFill>
          <p:spPr>
            <a:xfrm>
              <a:off x="3568320" y="533160"/>
              <a:ext cx="1790640" cy="20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3"/>
            <p:cNvSpPr/>
            <p:nvPr/>
          </p:nvSpPr>
          <p:spPr>
            <a:xfrm>
              <a:off x="3568320" y="406080"/>
              <a:ext cx="9525240" cy="2159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50"/>
          <p:cNvGrpSpPr/>
          <p:nvPr/>
        </p:nvGrpSpPr>
        <p:grpSpPr>
          <a:xfrm>
            <a:off x="5626080" y="2806560"/>
            <a:ext cx="5346720" cy="4838760"/>
            <a:chOff x="5626080" y="2806560"/>
            <a:chExt cx="5346720" cy="4838760"/>
          </a:xfrm>
        </p:grpSpPr>
        <p:sp>
          <p:nvSpPr>
            <p:cNvPr id="180" name="Freeform 4"/>
            <p:cNvSpPr/>
            <p:nvPr/>
          </p:nvSpPr>
          <p:spPr>
            <a:xfrm>
              <a:off x="6222960" y="6591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10439640" y="6591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6222960" y="53337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0439640" y="53337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6222960" y="41018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0439640" y="41018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6222960" y="28443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10439640" y="28443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6083280" y="66675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10375920" y="66675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6083280" y="54100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10375920" y="54100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6083280" y="41781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0375920" y="41781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6083280" y="29206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0375920" y="29206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6324480" y="67057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6222960" y="7480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10198080" y="6705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10083960" y="7480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0858680" y="6743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6324480" y="54482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6222960" y="62103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10198080" y="54482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0083960" y="6210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0858680" y="5486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6324480" y="42163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6222960" y="49910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10198080" y="42163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10083960" y="4991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0858680" y="42544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6324480" y="29588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6222960" y="37335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0198080" y="29588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0083960" y="3733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0858680" y="2997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40" descr="tempimage1240.tiff"/>
            <p:cNvPicPr/>
            <p:nvPr/>
          </p:nvPicPr>
          <p:blipFill>
            <a:blip r:embed="rId2"/>
            <a:stretch/>
          </p:blipFill>
          <p:spPr>
            <a:xfrm>
              <a:off x="5626080" y="280656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1" descr="tempimage1241.tiff"/>
            <p:cNvPicPr/>
            <p:nvPr/>
          </p:nvPicPr>
          <p:blipFill>
            <a:blip r:embed="rId3"/>
            <a:stretch/>
          </p:blipFill>
          <p:spPr>
            <a:xfrm>
              <a:off x="5626080" y="406368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2" descr="tempimage1242.tiff"/>
            <p:cNvPicPr/>
            <p:nvPr/>
          </p:nvPicPr>
          <p:blipFill>
            <a:blip r:embed="rId4"/>
            <a:stretch/>
          </p:blipFill>
          <p:spPr>
            <a:xfrm>
              <a:off x="5638680" y="529596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3" descr="tempimage1243.tiff"/>
            <p:cNvPicPr/>
            <p:nvPr/>
          </p:nvPicPr>
          <p:blipFill>
            <a:blip r:embed="rId5"/>
            <a:stretch/>
          </p:blipFill>
          <p:spPr>
            <a:xfrm>
              <a:off x="5626080" y="655308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44"/>
          <p:cNvSpPr/>
          <p:nvPr/>
        </p:nvSpPr>
        <p:spPr>
          <a:xfrm>
            <a:off x="6070680" y="571680"/>
            <a:ext cx="622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ygon with a total ang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sure of 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7112160" y="297180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7124760" y="4267080"/>
            <a:ext cx="46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7"/>
          <p:cNvSpPr/>
          <p:nvPr/>
        </p:nvSpPr>
        <p:spPr>
          <a:xfrm>
            <a:off x="7099200" y="5486400"/>
            <a:ext cx="470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8"/>
          <p:cNvSpPr/>
          <p:nvPr/>
        </p:nvSpPr>
        <p:spPr>
          <a:xfrm>
            <a:off x="7086600" y="676908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4"/>
          <p:cNvGrpSpPr/>
          <p:nvPr/>
        </p:nvGrpSpPr>
        <p:grpSpPr>
          <a:xfrm>
            <a:off x="6095880" y="2755800"/>
            <a:ext cx="4597560" cy="4165560"/>
            <a:chOff x="6095880" y="2755800"/>
            <a:chExt cx="4597560" cy="4165560"/>
          </a:xfrm>
        </p:grpSpPr>
        <p:sp>
          <p:nvSpPr>
            <p:cNvPr id="226" name="Freeform 1"/>
            <p:cNvSpPr/>
            <p:nvPr/>
          </p:nvSpPr>
          <p:spPr>
            <a:xfrm>
              <a:off x="6616440" y="60199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"/>
            <p:cNvSpPr/>
            <p:nvPr/>
          </p:nvSpPr>
          <p:spPr>
            <a:xfrm>
              <a:off x="10236240" y="60199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"/>
            <p:cNvSpPr/>
            <p:nvPr/>
          </p:nvSpPr>
          <p:spPr>
            <a:xfrm>
              <a:off x="6616440" y="49273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10236240" y="49273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6616440" y="387324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0236240" y="387324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6616440" y="279360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0236240" y="279360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6489360" y="608328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0172880" y="608328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6489360" y="499104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10172880" y="499104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6489360" y="393696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10172880" y="393696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6489360" y="285732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10172880" y="285732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6692760" y="610884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6616440" y="678168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10033200" y="610884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9931680" y="678168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10591920" y="614664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6692760" y="502920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6616440" y="568944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10033200" y="502920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9931680" y="568944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10591920" y="505440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>
              <a:off x="6692760" y="397476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>
              <a:off x="6616440" y="463536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>
              <a:off x="10033200" y="397476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9931680" y="463536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10591920" y="400032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>
              <a:off x="6692760" y="288252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6616440" y="355572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10033200" y="288252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9931680" y="355572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10591920" y="292068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Picture 37" descr="tempimage1337.tiff"/>
            <p:cNvPicPr/>
            <p:nvPr/>
          </p:nvPicPr>
          <p:blipFill>
            <a:blip r:embed="rId1"/>
            <a:stretch/>
          </p:blipFill>
          <p:spPr>
            <a:xfrm>
              <a:off x="6095880" y="275580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8" descr="tempimage1338.tiff"/>
            <p:cNvPicPr/>
            <p:nvPr/>
          </p:nvPicPr>
          <p:blipFill>
            <a:blip r:embed="rId2"/>
            <a:stretch/>
          </p:blipFill>
          <p:spPr>
            <a:xfrm>
              <a:off x="6095880" y="3848040"/>
              <a:ext cx="93960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9" descr="tempimage1339.tiff"/>
            <p:cNvPicPr/>
            <p:nvPr/>
          </p:nvPicPr>
          <p:blipFill>
            <a:blip r:embed="rId3"/>
            <a:stretch/>
          </p:blipFill>
          <p:spPr>
            <a:xfrm>
              <a:off x="6108480" y="488952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0" descr="tempimage1340.tiff"/>
            <p:cNvPicPr/>
            <p:nvPr/>
          </p:nvPicPr>
          <p:blipFill>
            <a:blip r:embed="rId4"/>
            <a:stretch/>
          </p:blipFill>
          <p:spPr>
            <a:xfrm>
              <a:off x="6095880" y="5981760"/>
              <a:ext cx="93960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75"/>
          <p:cNvGrpSpPr/>
          <p:nvPr/>
        </p:nvGrpSpPr>
        <p:grpSpPr>
          <a:xfrm>
            <a:off x="3581280" y="609480"/>
            <a:ext cx="8661600" cy="2146320"/>
            <a:chOff x="3581280" y="609480"/>
            <a:chExt cx="8661600" cy="2146320"/>
          </a:xfrm>
        </p:grpSpPr>
        <p:sp>
          <p:nvSpPr>
            <p:cNvPr id="267" name="Freeform 41"/>
            <p:cNvSpPr/>
            <p:nvPr/>
          </p:nvSpPr>
          <p:spPr>
            <a:xfrm>
              <a:off x="3581280" y="609480"/>
              <a:ext cx="8661600" cy="2146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42" descr="tempimage1342.tiff"/>
            <p:cNvPicPr/>
            <p:nvPr/>
          </p:nvPicPr>
          <p:blipFill>
            <a:blip r:embed="rId5"/>
            <a:stretch/>
          </p:blipFill>
          <p:spPr>
            <a:xfrm>
              <a:off x="3657240" y="825120"/>
              <a:ext cx="1600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Freeform 43"/>
            <p:cNvSpPr/>
            <p:nvPr/>
          </p:nvSpPr>
          <p:spPr>
            <a:xfrm>
              <a:off x="3657240" y="723600"/>
              <a:ext cx="850932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Box 44"/>
          <p:cNvSpPr/>
          <p:nvPr/>
        </p:nvSpPr>
        <p:spPr>
          <a:xfrm>
            <a:off x="5410080" y="952560"/>
            <a:ext cx="63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degre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xagon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7201080" y="2895480"/>
            <a:ext cx="1218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46"/>
          <p:cNvSpPr/>
          <p:nvPr/>
        </p:nvSpPr>
        <p:spPr>
          <a:xfrm>
            <a:off x="7175520" y="3975120"/>
            <a:ext cx="12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7238880" y="5041800"/>
            <a:ext cx="1143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8"/>
          <p:cNvSpPr/>
          <p:nvPr/>
        </p:nvSpPr>
        <p:spPr>
          <a:xfrm>
            <a:off x="7074000" y="6083280"/>
            <a:ext cx="1409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08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5918040" y="2197080"/>
            <a:ext cx="368640" cy="432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76"/>
          <p:cNvGrpSpPr/>
          <p:nvPr/>
        </p:nvGrpSpPr>
        <p:grpSpPr>
          <a:xfrm>
            <a:off x="11214000" y="4025880"/>
            <a:ext cx="2997360" cy="3276720"/>
            <a:chOff x="11214000" y="4025880"/>
            <a:chExt cx="2997360" cy="3276720"/>
          </a:xfrm>
        </p:grpSpPr>
        <p:sp>
          <p:nvSpPr>
            <p:cNvPr id="277" name="Freeform 50"/>
            <p:cNvSpPr/>
            <p:nvPr/>
          </p:nvSpPr>
          <p:spPr>
            <a:xfrm>
              <a:off x="11214000" y="4343400"/>
              <a:ext cx="63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1353680" y="4241520"/>
              <a:ext cx="4442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11378880" y="4622760"/>
              <a:ext cx="380880" cy="558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11849040" y="4279680"/>
              <a:ext cx="63360" cy="228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1849040" y="4343400"/>
              <a:ext cx="482400" cy="901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2357000" y="4228920"/>
              <a:ext cx="355320" cy="1282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2547440" y="4317840"/>
              <a:ext cx="48240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3068360" y="4572000"/>
              <a:ext cx="31752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13500360" y="4317840"/>
              <a:ext cx="5079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13944960" y="4025880"/>
              <a:ext cx="266400" cy="1295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11785320" y="4368600"/>
              <a:ext cx="25200" cy="584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61"/>
            <p:cNvSpPr/>
            <p:nvPr/>
          </p:nvSpPr>
          <p:spPr>
            <a:xfrm>
              <a:off x="13208040" y="5778720"/>
              <a:ext cx="45720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2"/>
            <p:cNvSpPr/>
            <p:nvPr/>
          </p:nvSpPr>
          <p:spPr>
            <a:xfrm>
              <a:off x="13563720" y="5867640"/>
              <a:ext cx="88560" cy="990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3"/>
            <p:cNvSpPr/>
            <p:nvPr/>
          </p:nvSpPr>
          <p:spPr>
            <a:xfrm>
              <a:off x="12801600" y="5524560"/>
              <a:ext cx="19044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12877920" y="5460840"/>
              <a:ext cx="469800" cy="175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13754160" y="5562720"/>
              <a:ext cx="26640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Freeform 66"/>
          <p:cNvSpPr/>
          <p:nvPr/>
        </p:nvSpPr>
        <p:spPr>
          <a:xfrm>
            <a:off x="12992040" y="5423040"/>
            <a:ext cx="292320" cy="1790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77"/>
          <p:cNvGrpSpPr/>
          <p:nvPr/>
        </p:nvGrpSpPr>
        <p:grpSpPr>
          <a:xfrm>
            <a:off x="12052440" y="5651640"/>
            <a:ext cx="838080" cy="1193760"/>
            <a:chOff x="12052440" y="5651640"/>
            <a:chExt cx="838080" cy="1193760"/>
          </a:xfrm>
        </p:grpSpPr>
        <p:sp>
          <p:nvSpPr>
            <p:cNvPr id="295" name="Freeform 67"/>
            <p:cNvSpPr/>
            <p:nvPr/>
          </p:nvSpPr>
          <p:spPr>
            <a:xfrm>
              <a:off x="12052440" y="5765760"/>
              <a:ext cx="75960" cy="1079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12141360" y="5651640"/>
              <a:ext cx="3427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12128400" y="5969160"/>
              <a:ext cx="3808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12458880" y="5702400"/>
              <a:ext cx="43164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8"/>
          <p:cNvGrpSpPr/>
          <p:nvPr/>
        </p:nvGrpSpPr>
        <p:grpSpPr>
          <a:xfrm>
            <a:off x="6654960" y="3797280"/>
            <a:ext cx="1714320" cy="1054080"/>
            <a:chOff x="6654960" y="3797280"/>
            <a:chExt cx="1714320" cy="1054080"/>
          </a:xfrm>
        </p:grpSpPr>
        <p:sp>
          <p:nvSpPr>
            <p:cNvPr id="300" name="Freeform 71"/>
            <p:cNvSpPr/>
            <p:nvPr/>
          </p:nvSpPr>
          <p:spPr>
            <a:xfrm>
              <a:off x="6680160" y="4419720"/>
              <a:ext cx="50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72"/>
            <p:cNvSpPr/>
            <p:nvPr/>
          </p:nvSpPr>
          <p:spPr>
            <a:xfrm>
              <a:off x="6654960" y="4432320"/>
              <a:ext cx="12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73"/>
            <p:cNvSpPr/>
            <p:nvPr/>
          </p:nvSpPr>
          <p:spPr>
            <a:xfrm>
              <a:off x="6908760" y="3797280"/>
              <a:ext cx="146052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50"/>
          <p:cNvGrpSpPr/>
          <p:nvPr/>
        </p:nvGrpSpPr>
        <p:grpSpPr>
          <a:xfrm>
            <a:off x="7467480" y="2819520"/>
            <a:ext cx="5079960" cy="4597200"/>
            <a:chOff x="7467480" y="2819520"/>
            <a:chExt cx="5079960" cy="4597200"/>
          </a:xfrm>
        </p:grpSpPr>
        <p:sp>
          <p:nvSpPr>
            <p:cNvPr id="304" name="Freeform 1"/>
            <p:cNvSpPr/>
            <p:nvPr/>
          </p:nvSpPr>
          <p:spPr>
            <a:xfrm>
              <a:off x="8038800" y="641340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"/>
            <p:cNvSpPr/>
            <p:nvPr/>
          </p:nvSpPr>
          <p:spPr>
            <a:xfrm>
              <a:off x="12052440" y="641340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"/>
            <p:cNvSpPr/>
            <p:nvPr/>
          </p:nvSpPr>
          <p:spPr>
            <a:xfrm>
              <a:off x="8038800" y="52196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12052440" y="52196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8038800" y="40514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12052440" y="40514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038800" y="285732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2052440" y="285732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7899120" y="648972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11976120" y="648972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899120" y="528336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1976120" y="528336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9120" y="412740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11976120" y="412740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7899120" y="292104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11976120" y="292104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8127720" y="652788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8038800" y="725184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11810880" y="65278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11709360" y="725184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12445920" y="6553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8127720" y="53211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8038800" y="605808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11810880" y="53211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11709360" y="60580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12445920" y="535932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127720" y="41655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8038800" y="488952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1810880" y="41655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11709360" y="48895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12445920" y="419112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8127720" y="295920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8038800" y="369576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1810880" y="29592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1709360" y="36957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12445920" y="299700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0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7467480" y="4013280"/>
              <a:ext cx="102852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7480080" y="5181480"/>
              <a:ext cx="10411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7467480" y="6375600"/>
              <a:ext cx="102852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51"/>
          <p:cNvGrpSpPr/>
          <p:nvPr/>
        </p:nvGrpSpPr>
        <p:grpSpPr>
          <a:xfrm>
            <a:off x="4635360" y="723960"/>
            <a:ext cx="8560080" cy="2120760"/>
            <a:chOff x="4635360" y="723960"/>
            <a:chExt cx="8560080" cy="2120760"/>
          </a:xfrm>
        </p:grpSpPr>
        <p:sp>
          <p:nvSpPr>
            <p:cNvPr id="345" name="Freeform 41"/>
            <p:cNvSpPr/>
            <p:nvPr/>
          </p:nvSpPr>
          <p:spPr>
            <a:xfrm>
              <a:off x="4635360" y="723960"/>
              <a:ext cx="8560080" cy="2120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4723920" y="927000"/>
              <a:ext cx="157464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43"/>
            <p:cNvSpPr/>
            <p:nvPr/>
          </p:nvSpPr>
          <p:spPr>
            <a:xfrm>
              <a:off x="4723920" y="825480"/>
              <a:ext cx="839520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TextBox 44"/>
          <p:cNvSpPr/>
          <p:nvPr/>
        </p:nvSpPr>
        <p:spPr>
          <a:xfrm>
            <a:off x="6502320" y="952560"/>
            <a:ext cx="6794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sum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is 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5"/>
          <p:cNvSpPr/>
          <p:nvPr/>
        </p:nvSpPr>
        <p:spPr>
          <a:xfrm>
            <a:off x="9207360" y="3009960"/>
            <a:ext cx="1143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8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6"/>
          <p:cNvSpPr/>
          <p:nvPr/>
        </p:nvSpPr>
        <p:spPr>
          <a:xfrm>
            <a:off x="9156600" y="421632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3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7"/>
          <p:cNvSpPr/>
          <p:nvPr/>
        </p:nvSpPr>
        <p:spPr>
          <a:xfrm>
            <a:off x="9156600" y="543564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8"/>
          <p:cNvSpPr/>
          <p:nvPr/>
        </p:nvSpPr>
        <p:spPr>
          <a:xfrm>
            <a:off x="9182160" y="66168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49" descr="tempimage1449.tiff"/>
          <p:cNvPicPr/>
          <p:nvPr/>
        </p:nvPicPr>
        <p:blipFill>
          <a:blip r:embed="rId6"/>
          <a:stretch/>
        </p:blipFill>
        <p:spPr>
          <a:xfrm>
            <a:off x="2463840" y="388620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5029200" y="2971800"/>
            <a:ext cx="5626080" cy="5092560"/>
            <a:chOff x="5029200" y="2971800"/>
            <a:chExt cx="5626080" cy="5092560"/>
          </a:xfrm>
        </p:grpSpPr>
        <p:sp>
          <p:nvSpPr>
            <p:cNvPr id="355" name="Freeform 1"/>
            <p:cNvSpPr/>
            <p:nvPr/>
          </p:nvSpPr>
          <p:spPr>
            <a:xfrm>
              <a:off x="5663880" y="695952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"/>
            <p:cNvSpPr/>
            <p:nvPr/>
          </p:nvSpPr>
          <p:spPr>
            <a:xfrm>
              <a:off x="10109160" y="695952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"/>
            <p:cNvSpPr/>
            <p:nvPr/>
          </p:nvSpPr>
          <p:spPr>
            <a:xfrm>
              <a:off x="5663880" y="5638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10109160" y="5638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5663880" y="43434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10109160" y="43434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5663880" y="30096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10109160" y="30096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5511600" y="704844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10033200" y="70484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5511600" y="5715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10033200" y="5715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511600" y="44193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10033200" y="4419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511600" y="308592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10033200" y="3085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5765760" y="7086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5663880" y="7899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9855360" y="7086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0"/>
            <p:cNvSpPr/>
            <p:nvPr/>
          </p:nvSpPr>
          <p:spPr>
            <a:xfrm>
              <a:off x="9740880" y="7899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1"/>
            <p:cNvSpPr/>
            <p:nvPr/>
          </p:nvSpPr>
          <p:spPr>
            <a:xfrm>
              <a:off x="10553760" y="7124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"/>
            <p:cNvSpPr/>
            <p:nvPr/>
          </p:nvSpPr>
          <p:spPr>
            <a:xfrm>
              <a:off x="5765760" y="57531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3"/>
            <p:cNvSpPr/>
            <p:nvPr/>
          </p:nvSpPr>
          <p:spPr>
            <a:xfrm>
              <a:off x="5663880" y="65660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4"/>
            <p:cNvSpPr/>
            <p:nvPr/>
          </p:nvSpPr>
          <p:spPr>
            <a:xfrm>
              <a:off x="9855360" y="5753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9740880" y="6566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0553760" y="5791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7"/>
            <p:cNvSpPr/>
            <p:nvPr/>
          </p:nvSpPr>
          <p:spPr>
            <a:xfrm>
              <a:off x="5765760" y="44575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8"/>
            <p:cNvSpPr/>
            <p:nvPr/>
          </p:nvSpPr>
          <p:spPr>
            <a:xfrm>
              <a:off x="5663880" y="527040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9"/>
            <p:cNvSpPr/>
            <p:nvPr/>
          </p:nvSpPr>
          <p:spPr>
            <a:xfrm>
              <a:off x="9855360" y="44575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0"/>
            <p:cNvSpPr/>
            <p:nvPr/>
          </p:nvSpPr>
          <p:spPr>
            <a:xfrm>
              <a:off x="9740880" y="5270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1"/>
            <p:cNvSpPr/>
            <p:nvPr/>
          </p:nvSpPr>
          <p:spPr>
            <a:xfrm>
              <a:off x="10553760" y="44956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2"/>
            <p:cNvSpPr/>
            <p:nvPr/>
          </p:nvSpPr>
          <p:spPr>
            <a:xfrm>
              <a:off x="5765760" y="3136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5663880" y="3949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4"/>
            <p:cNvSpPr/>
            <p:nvPr/>
          </p:nvSpPr>
          <p:spPr>
            <a:xfrm>
              <a:off x="9855360" y="3136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"/>
            <p:cNvSpPr/>
            <p:nvPr/>
          </p:nvSpPr>
          <p:spPr>
            <a:xfrm>
              <a:off x="9740880" y="3949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6"/>
            <p:cNvSpPr/>
            <p:nvPr/>
          </p:nvSpPr>
          <p:spPr>
            <a:xfrm>
              <a:off x="10553760" y="3174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1" name="Picture 37" descr="tempimage1537.tiff"/>
            <p:cNvPicPr/>
            <p:nvPr/>
          </p:nvPicPr>
          <p:blipFill>
            <a:blip r:embed="rId1"/>
            <a:stretch/>
          </p:blipFill>
          <p:spPr>
            <a:xfrm>
              <a:off x="5029200" y="2971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8" descr="tempimage1538.tiff"/>
            <p:cNvPicPr/>
            <p:nvPr/>
          </p:nvPicPr>
          <p:blipFill>
            <a:blip r:embed="rId2"/>
            <a:stretch/>
          </p:blipFill>
          <p:spPr>
            <a:xfrm>
              <a:off x="5029200" y="4305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9" descr="tempimage1539.tiff"/>
            <p:cNvPicPr/>
            <p:nvPr/>
          </p:nvPicPr>
          <p:blipFill>
            <a:blip r:embed="rId3"/>
            <a:stretch/>
          </p:blipFill>
          <p:spPr>
            <a:xfrm>
              <a:off x="5054400" y="558792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0" descr="tempimage1540.tiff"/>
            <p:cNvPicPr/>
            <p:nvPr/>
          </p:nvPicPr>
          <p:blipFill>
            <a:blip r:embed="rId4"/>
            <a:stretch/>
          </p:blipFill>
          <p:spPr>
            <a:xfrm>
              <a:off x="5029200" y="692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50"/>
          <p:cNvGrpSpPr/>
          <p:nvPr/>
        </p:nvGrpSpPr>
        <p:grpSpPr>
          <a:xfrm>
            <a:off x="3492360" y="609480"/>
            <a:ext cx="8750520" cy="2159280"/>
            <a:chOff x="3492360" y="609480"/>
            <a:chExt cx="8750520" cy="2159280"/>
          </a:xfrm>
        </p:grpSpPr>
        <p:sp>
          <p:nvSpPr>
            <p:cNvPr id="396" name="Freeform 41"/>
            <p:cNvSpPr/>
            <p:nvPr/>
          </p:nvSpPr>
          <p:spPr>
            <a:xfrm>
              <a:off x="3492360" y="609480"/>
              <a:ext cx="8750520" cy="2159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42" descr="tempimage1542.tiff"/>
            <p:cNvPicPr/>
            <p:nvPr/>
          </p:nvPicPr>
          <p:blipFill>
            <a:blip r:embed="rId5"/>
            <a:stretch/>
          </p:blipFill>
          <p:spPr>
            <a:xfrm>
              <a:off x="3568320" y="81252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Freeform 43"/>
            <p:cNvSpPr/>
            <p:nvPr/>
          </p:nvSpPr>
          <p:spPr>
            <a:xfrm>
              <a:off x="3568320" y="711000"/>
              <a:ext cx="8598240" cy="19436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TextBox 44"/>
          <p:cNvSpPr/>
          <p:nvPr/>
        </p:nvSpPr>
        <p:spPr>
          <a:xfrm>
            <a:off x="5321160" y="1054080"/>
            <a:ext cx="7277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polygon with 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7289640" y="322596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6"/>
          <p:cNvSpPr/>
          <p:nvPr/>
        </p:nvSpPr>
        <p:spPr>
          <a:xfrm>
            <a:off x="7289640" y="4584600"/>
            <a:ext cx="44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7"/>
          <p:cNvSpPr/>
          <p:nvPr/>
        </p:nvSpPr>
        <p:spPr>
          <a:xfrm>
            <a:off x="7251840" y="5842080"/>
            <a:ext cx="444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8"/>
          <p:cNvSpPr/>
          <p:nvPr/>
        </p:nvSpPr>
        <p:spPr>
          <a:xfrm>
            <a:off x="7289640" y="716292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50"/>
          <p:cNvGrpSpPr/>
          <p:nvPr/>
        </p:nvGrpSpPr>
        <p:grpSpPr>
          <a:xfrm>
            <a:off x="3975120" y="647640"/>
            <a:ext cx="10325160" cy="2552760"/>
            <a:chOff x="3975120" y="647640"/>
            <a:chExt cx="10325160" cy="2552760"/>
          </a:xfrm>
        </p:grpSpPr>
        <p:sp>
          <p:nvSpPr>
            <p:cNvPr id="405" name="Freeform 1"/>
            <p:cNvSpPr/>
            <p:nvPr/>
          </p:nvSpPr>
          <p:spPr>
            <a:xfrm>
              <a:off x="3975120" y="647640"/>
              <a:ext cx="10325160" cy="2552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6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4089240" y="901440"/>
              <a:ext cx="190476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Freeform 3"/>
            <p:cNvSpPr/>
            <p:nvPr/>
          </p:nvSpPr>
          <p:spPr>
            <a:xfrm>
              <a:off x="4089240" y="774360"/>
              <a:ext cx="10122120" cy="22989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51"/>
          <p:cNvGrpSpPr/>
          <p:nvPr/>
        </p:nvGrpSpPr>
        <p:grpSpPr>
          <a:xfrm>
            <a:off x="5549760" y="3441600"/>
            <a:ext cx="6274080" cy="5689800"/>
            <a:chOff x="5549760" y="3441600"/>
            <a:chExt cx="6274080" cy="5689800"/>
          </a:xfrm>
        </p:grpSpPr>
        <p:sp>
          <p:nvSpPr>
            <p:cNvPr id="409" name="Freeform 4"/>
            <p:cNvSpPr/>
            <p:nvPr/>
          </p:nvSpPr>
          <p:spPr>
            <a:xfrm>
              <a:off x="6260760" y="78868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5"/>
            <p:cNvSpPr/>
            <p:nvPr/>
          </p:nvSpPr>
          <p:spPr>
            <a:xfrm>
              <a:off x="11201760" y="78868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>
              <a:off x="6260760" y="6413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"/>
            <p:cNvSpPr/>
            <p:nvPr/>
          </p:nvSpPr>
          <p:spPr>
            <a:xfrm>
              <a:off x="11201760" y="641340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6260760" y="49654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11201760" y="49654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6260760" y="349236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11201760" y="349236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6082920" y="7975800"/>
              <a:ext cx="519480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11112840" y="7975800"/>
              <a:ext cx="6094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6082920" y="650232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11112840" y="6502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6082920" y="5054400"/>
              <a:ext cx="519480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11112840" y="505440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6082920" y="358128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11112840" y="358128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>
              <a:off x="6375240" y="80265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>
              <a:off x="6260760" y="89283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0922400" y="8026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10782360" y="89283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1684160" y="8077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5"/>
            <p:cNvSpPr/>
            <p:nvPr/>
          </p:nvSpPr>
          <p:spPr>
            <a:xfrm>
              <a:off x="6375240" y="6540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>
              <a:off x="6260760" y="7454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>
              <a:off x="10922400" y="6540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10782360" y="7454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11684160" y="65786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6375240" y="51051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6260760" y="60069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10922400" y="51051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10782360" y="60069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11684160" y="51559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6375240" y="3606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6260760" y="453384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0922400" y="3606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10782360" y="453384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>
              <a:off x="11684160" y="36572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5549760" y="3441600"/>
              <a:ext cx="12700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5549760" y="4914720"/>
              <a:ext cx="1270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5562360" y="6362640"/>
              <a:ext cx="12826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5549760" y="7836120"/>
              <a:ext cx="12700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Box 44"/>
          <p:cNvSpPr/>
          <p:nvPr/>
        </p:nvSpPr>
        <p:spPr>
          <a:xfrm>
            <a:off x="6184800" y="698400"/>
            <a:ext cx="6299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four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quadrilateral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BCD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same measure. Wha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measure of each 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5"/>
          <p:cNvSpPr/>
          <p:nvPr/>
        </p:nvSpPr>
        <p:spPr>
          <a:xfrm>
            <a:off x="8128080" y="3695760"/>
            <a:ext cx="90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4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46"/>
          <p:cNvSpPr/>
          <p:nvPr/>
        </p:nvSpPr>
        <p:spPr>
          <a:xfrm>
            <a:off x="8153280" y="5232240"/>
            <a:ext cx="876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7"/>
          <p:cNvSpPr/>
          <p:nvPr/>
        </p:nvSpPr>
        <p:spPr>
          <a:xfrm>
            <a:off x="8166240" y="6654960"/>
            <a:ext cx="87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8"/>
          <p:cNvSpPr/>
          <p:nvPr/>
        </p:nvSpPr>
        <p:spPr>
          <a:xfrm>
            <a:off x="8039160" y="82296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9"/>
          <p:cNvSpPr/>
          <p:nvPr/>
        </p:nvSpPr>
        <p:spPr>
          <a:xfrm>
            <a:off x="7493040" y="2476440"/>
            <a:ext cx="4254480" cy="469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63"/>
          <p:cNvGrpSpPr/>
          <p:nvPr/>
        </p:nvGrpSpPr>
        <p:grpSpPr>
          <a:xfrm>
            <a:off x="7543800" y="3009960"/>
            <a:ext cx="6058080" cy="5473800"/>
            <a:chOff x="7543800" y="3009960"/>
            <a:chExt cx="6058080" cy="5473800"/>
          </a:xfrm>
        </p:grpSpPr>
        <p:sp>
          <p:nvSpPr>
            <p:cNvPr id="456" name="Freeform 1"/>
            <p:cNvSpPr/>
            <p:nvPr/>
          </p:nvSpPr>
          <p:spPr>
            <a:xfrm>
              <a:off x="8229600" y="730260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"/>
            <p:cNvSpPr/>
            <p:nvPr/>
          </p:nvSpPr>
          <p:spPr>
            <a:xfrm>
              <a:off x="13017960" y="730260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"/>
            <p:cNvSpPr/>
            <p:nvPr/>
          </p:nvSpPr>
          <p:spPr>
            <a:xfrm>
              <a:off x="8229600" y="586764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"/>
            <p:cNvSpPr/>
            <p:nvPr/>
          </p:nvSpPr>
          <p:spPr>
            <a:xfrm>
              <a:off x="13017960" y="586764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"/>
            <p:cNvSpPr/>
            <p:nvPr/>
          </p:nvSpPr>
          <p:spPr>
            <a:xfrm>
              <a:off x="8229600" y="448308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13017960" y="44830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8229600" y="304776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13017960" y="304776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8051760" y="739152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0"/>
            <p:cNvSpPr/>
            <p:nvPr/>
          </p:nvSpPr>
          <p:spPr>
            <a:xfrm>
              <a:off x="12929040" y="739152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"/>
            <p:cNvSpPr/>
            <p:nvPr/>
          </p:nvSpPr>
          <p:spPr>
            <a:xfrm>
              <a:off x="8051760" y="595656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12929040" y="595656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8051760" y="457200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12929040" y="457200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8051760" y="313668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2929040" y="313668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8331120" y="742968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8229600" y="830628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12738240" y="7429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12611520" y="830628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13487760" y="746784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8331120" y="59943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3"/>
            <p:cNvSpPr/>
            <p:nvPr/>
          </p:nvSpPr>
          <p:spPr>
            <a:xfrm>
              <a:off x="8229600" y="687096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4"/>
            <p:cNvSpPr/>
            <p:nvPr/>
          </p:nvSpPr>
          <p:spPr>
            <a:xfrm>
              <a:off x="12738240" y="5994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5"/>
            <p:cNvSpPr/>
            <p:nvPr/>
          </p:nvSpPr>
          <p:spPr>
            <a:xfrm>
              <a:off x="12611520" y="687096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6"/>
            <p:cNvSpPr/>
            <p:nvPr/>
          </p:nvSpPr>
          <p:spPr>
            <a:xfrm>
              <a:off x="13487760" y="6045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7"/>
            <p:cNvSpPr/>
            <p:nvPr/>
          </p:nvSpPr>
          <p:spPr>
            <a:xfrm>
              <a:off x="8331120" y="46101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8"/>
            <p:cNvSpPr/>
            <p:nvPr/>
          </p:nvSpPr>
          <p:spPr>
            <a:xfrm>
              <a:off x="8229600" y="548640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"/>
            <p:cNvSpPr/>
            <p:nvPr/>
          </p:nvSpPr>
          <p:spPr>
            <a:xfrm>
              <a:off x="12738240" y="46101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0"/>
            <p:cNvSpPr/>
            <p:nvPr/>
          </p:nvSpPr>
          <p:spPr>
            <a:xfrm>
              <a:off x="12611520" y="548640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1"/>
            <p:cNvSpPr/>
            <p:nvPr/>
          </p:nvSpPr>
          <p:spPr>
            <a:xfrm>
              <a:off x="13487760" y="4648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2"/>
            <p:cNvSpPr/>
            <p:nvPr/>
          </p:nvSpPr>
          <p:spPr>
            <a:xfrm>
              <a:off x="8331120" y="317484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3"/>
            <p:cNvSpPr/>
            <p:nvPr/>
          </p:nvSpPr>
          <p:spPr>
            <a:xfrm>
              <a:off x="8229600" y="405144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12738240" y="317484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12611520" y="405144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13487760" y="32256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Picture 37" descr="tempimage1737.tiff"/>
            <p:cNvPicPr/>
            <p:nvPr/>
          </p:nvPicPr>
          <p:blipFill>
            <a:blip r:embed="rId1"/>
            <a:stretch/>
          </p:blipFill>
          <p:spPr>
            <a:xfrm>
              <a:off x="7543800" y="300996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8" descr="tempimage1738.tiff"/>
            <p:cNvPicPr/>
            <p:nvPr/>
          </p:nvPicPr>
          <p:blipFill>
            <a:blip r:embed="rId2"/>
            <a:stretch/>
          </p:blipFill>
          <p:spPr>
            <a:xfrm>
              <a:off x="7543800" y="4444920"/>
              <a:ext cx="12319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9" descr="tempimage1739.tiff"/>
            <p:cNvPicPr/>
            <p:nvPr/>
          </p:nvPicPr>
          <p:blipFill>
            <a:blip r:embed="rId3"/>
            <a:stretch/>
          </p:blipFill>
          <p:spPr>
            <a:xfrm>
              <a:off x="7569000" y="582948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0" descr="tempimage1740.tiff"/>
            <p:cNvPicPr/>
            <p:nvPr/>
          </p:nvPicPr>
          <p:blipFill>
            <a:blip r:embed="rId4"/>
            <a:stretch/>
          </p:blipFill>
          <p:spPr>
            <a:xfrm>
              <a:off x="7543800" y="7264800"/>
              <a:ext cx="12319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4"/>
          <p:cNvGrpSpPr/>
          <p:nvPr/>
        </p:nvGrpSpPr>
        <p:grpSpPr>
          <a:xfrm>
            <a:off x="4610160" y="457200"/>
            <a:ext cx="8280360" cy="2044800"/>
            <a:chOff x="4610160" y="457200"/>
            <a:chExt cx="8280360" cy="2044800"/>
          </a:xfrm>
        </p:grpSpPr>
        <p:sp>
          <p:nvSpPr>
            <p:cNvPr id="497" name="Freeform 41"/>
            <p:cNvSpPr/>
            <p:nvPr/>
          </p:nvSpPr>
          <p:spPr>
            <a:xfrm>
              <a:off x="4610160" y="457200"/>
              <a:ext cx="8280360" cy="2044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8" name="Picture 42" descr="tempimage1742.tiff"/>
            <p:cNvPicPr/>
            <p:nvPr/>
          </p:nvPicPr>
          <p:blipFill>
            <a:blip r:embed="rId5"/>
            <a:stretch/>
          </p:blipFill>
          <p:spPr>
            <a:xfrm>
              <a:off x="4686120" y="660240"/>
              <a:ext cx="15364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Freeform 43"/>
            <p:cNvSpPr/>
            <p:nvPr/>
          </p:nvSpPr>
          <p:spPr>
            <a:xfrm>
              <a:off x="4686120" y="558720"/>
              <a:ext cx="8140680" cy="18417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44"/>
          <p:cNvSpPr/>
          <p:nvPr/>
        </p:nvSpPr>
        <p:spPr>
          <a:xfrm>
            <a:off x="6299280" y="863640"/>
            <a:ext cx="6311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f  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5" descr="tempimage1747.tiff"/>
          <p:cNvPicPr/>
          <p:nvPr/>
        </p:nvPicPr>
        <p:blipFill>
          <a:blip r:embed="rId6"/>
          <a:stretch/>
        </p:blipFill>
        <p:spPr>
          <a:xfrm rot="4938000">
            <a:off x="1485360" y="314928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6"/>
          <p:cNvSpPr/>
          <p:nvPr/>
        </p:nvSpPr>
        <p:spPr>
          <a:xfrm>
            <a:off x="2171880" y="344160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1206360" y="5575320"/>
            <a:ext cx="5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2692440" y="768348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5105520" y="7340760"/>
            <a:ext cx="52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0"/>
          <p:cNvSpPr/>
          <p:nvPr/>
        </p:nvSpPr>
        <p:spPr>
          <a:xfrm>
            <a:off x="6095880" y="4978440"/>
            <a:ext cx="49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4699080" y="3022560"/>
            <a:ext cx="46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2629080" y="4076640"/>
            <a:ext cx="977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2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2146320" y="5524560"/>
            <a:ext cx="774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95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2882880" y="6794640"/>
            <a:ext cx="101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2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191120" y="6654960"/>
            <a:ext cx="1003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4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4749840" y="5194440"/>
            <a:ext cx="1015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0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9779040" y="3340080"/>
            <a:ext cx="876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9588600" y="4762440"/>
            <a:ext cx="1130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9512280" y="608328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9753480" y="7607160"/>
            <a:ext cx="1130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61"/>
          <p:cNvSpPr/>
          <p:nvPr/>
        </p:nvSpPr>
        <p:spPr>
          <a:xfrm>
            <a:off x="11658600" y="977760"/>
            <a:ext cx="152280" cy="292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62"/>
          <p:cNvSpPr/>
          <p:nvPr/>
        </p:nvSpPr>
        <p:spPr>
          <a:xfrm>
            <a:off x="11671200" y="127008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56"/>
          <p:cNvGrpSpPr/>
          <p:nvPr/>
        </p:nvGrpSpPr>
        <p:grpSpPr>
          <a:xfrm>
            <a:off x="4394160" y="2616120"/>
            <a:ext cx="7924680" cy="7175520"/>
            <a:chOff x="4394160" y="2616120"/>
            <a:chExt cx="7924680" cy="7175520"/>
          </a:xfrm>
        </p:grpSpPr>
        <p:sp>
          <p:nvSpPr>
            <p:cNvPr id="520" name="Freeform 1"/>
            <p:cNvSpPr/>
            <p:nvPr/>
          </p:nvSpPr>
          <p:spPr>
            <a:xfrm>
              <a:off x="5283000" y="824220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"/>
            <p:cNvSpPr/>
            <p:nvPr/>
          </p:nvSpPr>
          <p:spPr>
            <a:xfrm>
              <a:off x="11557080" y="824220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"/>
            <p:cNvSpPr/>
            <p:nvPr/>
          </p:nvSpPr>
          <p:spPr>
            <a:xfrm>
              <a:off x="5283000" y="6375240"/>
              <a:ext cx="628668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11557080" y="6375240"/>
              <a:ext cx="76176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5283000" y="454644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11557080" y="454644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283000" y="2679480"/>
              <a:ext cx="628668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11557080" y="2679480"/>
              <a:ext cx="76176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5054400" y="835668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11442600" y="835668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5054400" y="6477120"/>
              <a:ext cx="659124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11442600" y="6477120"/>
              <a:ext cx="76176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5054400" y="466092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11442600" y="466092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5054400" y="2793600"/>
              <a:ext cx="659124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11442600" y="2793600"/>
              <a:ext cx="76176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5422680" y="840744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5283000" y="955044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11188800" y="840744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11023560" y="955044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>
              <a:off x="12166560" y="8458200"/>
              <a:ext cx="36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2"/>
            <p:cNvSpPr/>
            <p:nvPr/>
          </p:nvSpPr>
          <p:spPr>
            <a:xfrm>
              <a:off x="5422680" y="65278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5283000" y="76834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1188800" y="65278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11023560" y="76834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6"/>
            <p:cNvSpPr/>
            <p:nvPr/>
          </p:nvSpPr>
          <p:spPr>
            <a:xfrm>
              <a:off x="12166560" y="65912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5422680" y="47116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5283000" y="58672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11188800" y="47116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11023560" y="58672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12166560" y="47750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2"/>
            <p:cNvSpPr/>
            <p:nvPr/>
          </p:nvSpPr>
          <p:spPr>
            <a:xfrm>
              <a:off x="5422680" y="283176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3"/>
            <p:cNvSpPr/>
            <p:nvPr/>
          </p:nvSpPr>
          <p:spPr>
            <a:xfrm>
              <a:off x="5283000" y="400032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4"/>
            <p:cNvSpPr/>
            <p:nvPr/>
          </p:nvSpPr>
          <p:spPr>
            <a:xfrm>
              <a:off x="11188800" y="283176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5"/>
            <p:cNvSpPr/>
            <p:nvPr/>
          </p:nvSpPr>
          <p:spPr>
            <a:xfrm>
              <a:off x="11023560" y="400032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"/>
            <p:cNvSpPr/>
            <p:nvPr/>
          </p:nvSpPr>
          <p:spPr>
            <a:xfrm>
              <a:off x="12166560" y="2895480"/>
              <a:ext cx="360" cy="10411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6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94160" y="261612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94160" y="448308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419360" y="6311880"/>
              <a:ext cx="16002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94160" y="8191440"/>
              <a:ext cx="16128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57"/>
          <p:cNvGrpSpPr/>
          <p:nvPr/>
        </p:nvGrpSpPr>
        <p:grpSpPr>
          <a:xfrm>
            <a:off x="3873600" y="330120"/>
            <a:ext cx="9423360" cy="2324160"/>
            <a:chOff x="3873600" y="330120"/>
            <a:chExt cx="9423360" cy="2324160"/>
          </a:xfrm>
        </p:grpSpPr>
        <p:sp>
          <p:nvSpPr>
            <p:cNvPr id="561" name="Freeform 41"/>
            <p:cNvSpPr/>
            <p:nvPr/>
          </p:nvSpPr>
          <p:spPr>
            <a:xfrm>
              <a:off x="3873600" y="330120"/>
              <a:ext cx="9423360" cy="23241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962160" y="558720"/>
              <a:ext cx="173988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Freeform 43"/>
            <p:cNvSpPr/>
            <p:nvPr/>
          </p:nvSpPr>
          <p:spPr>
            <a:xfrm>
              <a:off x="3962160" y="444240"/>
              <a:ext cx="9258480" cy="2095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44"/>
          <p:cNvSpPr/>
          <p:nvPr/>
        </p:nvSpPr>
        <p:spPr>
          <a:xfrm>
            <a:off x="5702400" y="73656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ich figure or comb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f figures has the grea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otal measure of ang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5"/>
          <p:cNvSpPr/>
          <p:nvPr/>
        </p:nvSpPr>
        <p:spPr>
          <a:xfrm>
            <a:off x="6235560" y="3060720"/>
            <a:ext cx="5931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exagon and one trian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6"/>
          <p:cNvSpPr/>
          <p:nvPr/>
        </p:nvSpPr>
        <p:spPr>
          <a:xfrm>
            <a:off x="6959520" y="4978440"/>
            <a:ext cx="3429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ree tri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7"/>
          <p:cNvSpPr/>
          <p:nvPr/>
        </p:nvSpPr>
        <p:spPr>
          <a:xfrm>
            <a:off x="6553080" y="6692760"/>
            <a:ext cx="4216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wo quadrilat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48"/>
          <p:cNvSpPr/>
          <p:nvPr/>
        </p:nvSpPr>
        <p:spPr>
          <a:xfrm>
            <a:off x="7505640" y="8610480"/>
            <a:ext cx="203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58"/>
          <p:cNvGrpSpPr/>
          <p:nvPr/>
        </p:nvGrpSpPr>
        <p:grpSpPr>
          <a:xfrm>
            <a:off x="1270080" y="4813200"/>
            <a:ext cx="3035160" cy="2463840"/>
            <a:chOff x="1270080" y="4813200"/>
            <a:chExt cx="3035160" cy="2463840"/>
          </a:xfrm>
        </p:grpSpPr>
        <p:sp>
          <p:nvSpPr>
            <p:cNvPr id="570" name="Freeform 49"/>
            <p:cNvSpPr/>
            <p:nvPr/>
          </p:nvSpPr>
          <p:spPr>
            <a:xfrm>
              <a:off x="1270080" y="4851000"/>
              <a:ext cx="58392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1701720" y="4813200"/>
              <a:ext cx="17748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2019240" y="5905440"/>
              <a:ext cx="12600" cy="50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1714320" y="4863960"/>
              <a:ext cx="126720" cy="1727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1879560" y="5003640"/>
              <a:ext cx="1396800" cy="1562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4"/>
            <p:cNvSpPr/>
            <p:nvPr/>
          </p:nvSpPr>
          <p:spPr>
            <a:xfrm>
              <a:off x="2997360" y="5041800"/>
              <a:ext cx="888840" cy="1613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3759120" y="5181480"/>
              <a:ext cx="54612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99"/>
          <p:cNvGrpSpPr/>
          <p:nvPr/>
        </p:nvGrpSpPr>
        <p:grpSpPr>
          <a:xfrm>
            <a:off x="3733920" y="291960"/>
            <a:ext cx="9296280" cy="2286000"/>
            <a:chOff x="3733920" y="291960"/>
            <a:chExt cx="9296280" cy="2286000"/>
          </a:xfrm>
        </p:grpSpPr>
        <p:sp>
          <p:nvSpPr>
            <p:cNvPr id="578" name="Freeform 1"/>
            <p:cNvSpPr/>
            <p:nvPr/>
          </p:nvSpPr>
          <p:spPr>
            <a:xfrm>
              <a:off x="3733920" y="291960"/>
              <a:ext cx="929628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3822480" y="507600"/>
              <a:ext cx="171432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Freeform 3"/>
            <p:cNvSpPr/>
            <p:nvPr/>
          </p:nvSpPr>
          <p:spPr>
            <a:xfrm>
              <a:off x="3822480" y="406080"/>
              <a:ext cx="9131400" cy="2057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Group 100"/>
          <p:cNvGrpSpPr/>
          <p:nvPr/>
        </p:nvGrpSpPr>
        <p:grpSpPr>
          <a:xfrm>
            <a:off x="5626080" y="3035160"/>
            <a:ext cx="6006960" cy="5435640"/>
            <a:chOff x="5626080" y="3035160"/>
            <a:chExt cx="6006960" cy="5435640"/>
          </a:xfrm>
        </p:grpSpPr>
        <p:sp>
          <p:nvSpPr>
            <p:cNvPr id="582" name="Freeform 4"/>
            <p:cNvSpPr/>
            <p:nvPr/>
          </p:nvSpPr>
          <p:spPr>
            <a:xfrm>
              <a:off x="6298920" y="730260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11049120" y="730260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298920" y="587988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11049120" y="587988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6298920" y="449568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11049120" y="44956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6298920" y="307296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11049120" y="307296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6134040" y="737856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0972800" y="737856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6134040" y="595620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10972800" y="595620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6134040" y="458460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10972800" y="458460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6134040" y="316188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10972800" y="31618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6413400" y="742968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1"/>
            <p:cNvSpPr/>
            <p:nvPr/>
          </p:nvSpPr>
          <p:spPr>
            <a:xfrm>
              <a:off x="6298920" y="829332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10782360" y="74296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3"/>
            <p:cNvSpPr/>
            <p:nvPr/>
          </p:nvSpPr>
          <p:spPr>
            <a:xfrm>
              <a:off x="10655280" y="829332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4"/>
            <p:cNvSpPr/>
            <p:nvPr/>
          </p:nvSpPr>
          <p:spPr>
            <a:xfrm>
              <a:off x="11518920" y="7467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6413400" y="60069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6298920" y="68706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10782360" y="6006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10655280" y="68706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11518920" y="6045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6413400" y="46227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6298920" y="54990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10782360" y="46227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10655280" y="54990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11518920" y="467352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6413400" y="320004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6298920" y="407628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10782360" y="32000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10655280" y="40762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>
              <a:off x="11518920" y="32508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8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626080" y="30351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626080" y="44575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651280" y="58291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626080" y="725184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TextBox 44"/>
          <p:cNvSpPr/>
          <p:nvPr/>
        </p:nvSpPr>
        <p:spPr>
          <a:xfrm>
            <a:off x="5499000" y="787320"/>
            <a:ext cx="5765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p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ach interior angle of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regular oct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7124760" y="3416400"/>
            <a:ext cx="1181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8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213680" y="4724280"/>
            <a:ext cx="1168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3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7213680" y="6197760"/>
            <a:ext cx="1168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6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8"/>
          <p:cNvSpPr/>
          <p:nvPr/>
        </p:nvSpPr>
        <p:spPr>
          <a:xfrm>
            <a:off x="7188120" y="759456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7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Group 101"/>
          <p:cNvGrpSpPr/>
          <p:nvPr/>
        </p:nvGrpSpPr>
        <p:grpSpPr>
          <a:xfrm>
            <a:off x="13690440" y="3048120"/>
            <a:ext cx="990720" cy="2361960"/>
            <a:chOff x="13690440" y="3048120"/>
            <a:chExt cx="990720" cy="2361960"/>
          </a:xfrm>
        </p:grpSpPr>
        <p:sp>
          <p:nvSpPr>
            <p:cNvPr id="628" name="Freeform 49"/>
            <p:cNvSpPr/>
            <p:nvPr/>
          </p:nvSpPr>
          <p:spPr>
            <a:xfrm>
              <a:off x="13791960" y="3251160"/>
              <a:ext cx="16488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0"/>
            <p:cNvSpPr/>
            <p:nvPr/>
          </p:nvSpPr>
          <p:spPr>
            <a:xfrm>
              <a:off x="13690440" y="3048120"/>
              <a:ext cx="990720" cy="236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Group 102"/>
          <p:cNvGrpSpPr/>
          <p:nvPr/>
        </p:nvGrpSpPr>
        <p:grpSpPr>
          <a:xfrm>
            <a:off x="12738240" y="3556080"/>
            <a:ext cx="1981080" cy="1054080"/>
            <a:chOff x="12738240" y="3556080"/>
            <a:chExt cx="1981080" cy="1054080"/>
          </a:xfrm>
        </p:grpSpPr>
        <p:sp>
          <p:nvSpPr>
            <p:cNvPr id="631" name="Freeform 51"/>
            <p:cNvSpPr/>
            <p:nvPr/>
          </p:nvSpPr>
          <p:spPr>
            <a:xfrm>
              <a:off x="12738240" y="4318200"/>
              <a:ext cx="215640" cy="29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3030200" y="4254480"/>
              <a:ext cx="101520" cy="253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3131720" y="4254480"/>
              <a:ext cx="2030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3144680" y="4318200"/>
              <a:ext cx="6336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3335120" y="4127760"/>
              <a:ext cx="228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3284360" y="3886200"/>
              <a:ext cx="15228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3627080" y="370836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3754160" y="3898800"/>
              <a:ext cx="330120" cy="101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4097240" y="3556080"/>
              <a:ext cx="25380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4364000" y="3568680"/>
              <a:ext cx="3553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103"/>
          <p:cNvGrpSpPr/>
          <p:nvPr/>
        </p:nvGrpSpPr>
        <p:grpSpPr>
          <a:xfrm>
            <a:off x="12573000" y="4660920"/>
            <a:ext cx="1206360" cy="2514600"/>
            <a:chOff x="12573000" y="4660920"/>
            <a:chExt cx="1206360" cy="2514600"/>
          </a:xfrm>
        </p:grpSpPr>
        <p:sp>
          <p:nvSpPr>
            <p:cNvPr id="642" name="Freeform 61"/>
            <p:cNvSpPr/>
            <p:nvPr/>
          </p:nvSpPr>
          <p:spPr>
            <a:xfrm>
              <a:off x="12573000" y="4991040"/>
              <a:ext cx="685800" cy="2184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2"/>
            <p:cNvSpPr/>
            <p:nvPr/>
          </p:nvSpPr>
          <p:spPr>
            <a:xfrm>
              <a:off x="12712680" y="4927320"/>
              <a:ext cx="46980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3"/>
            <p:cNvSpPr/>
            <p:nvPr/>
          </p:nvSpPr>
          <p:spPr>
            <a:xfrm>
              <a:off x="13004640" y="5041800"/>
              <a:ext cx="25380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"/>
            <p:cNvSpPr/>
            <p:nvPr/>
          </p:nvSpPr>
          <p:spPr>
            <a:xfrm>
              <a:off x="13080960" y="4952880"/>
              <a:ext cx="444240" cy="317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13309560" y="4673520"/>
              <a:ext cx="46980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12992040" y="4660920"/>
              <a:ext cx="3301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Group 104"/>
          <p:cNvGrpSpPr/>
          <p:nvPr/>
        </p:nvGrpSpPr>
        <p:grpSpPr>
          <a:xfrm>
            <a:off x="1562040" y="7848720"/>
            <a:ext cx="3962520" cy="2158920"/>
            <a:chOff x="1562040" y="7848720"/>
            <a:chExt cx="3962520" cy="2158920"/>
          </a:xfrm>
        </p:grpSpPr>
        <p:sp>
          <p:nvSpPr>
            <p:cNvPr id="649" name="Freeform 67"/>
            <p:cNvSpPr/>
            <p:nvPr/>
          </p:nvSpPr>
          <p:spPr>
            <a:xfrm>
              <a:off x="1562040" y="7848720"/>
              <a:ext cx="444240" cy="100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8"/>
            <p:cNvSpPr/>
            <p:nvPr/>
          </p:nvSpPr>
          <p:spPr>
            <a:xfrm>
              <a:off x="2171520" y="8318520"/>
              <a:ext cx="6094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9"/>
            <p:cNvSpPr/>
            <p:nvPr/>
          </p:nvSpPr>
          <p:spPr>
            <a:xfrm>
              <a:off x="2870280" y="8217000"/>
              <a:ext cx="41904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70"/>
            <p:cNvSpPr/>
            <p:nvPr/>
          </p:nvSpPr>
          <p:spPr>
            <a:xfrm>
              <a:off x="3403440" y="8178840"/>
              <a:ext cx="57132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1"/>
            <p:cNvSpPr/>
            <p:nvPr/>
          </p:nvSpPr>
          <p:spPr>
            <a:xfrm>
              <a:off x="3822840" y="8166240"/>
              <a:ext cx="609480" cy="495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72"/>
            <p:cNvSpPr/>
            <p:nvPr/>
          </p:nvSpPr>
          <p:spPr>
            <a:xfrm>
              <a:off x="4381560" y="8064360"/>
              <a:ext cx="622080" cy="622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73"/>
            <p:cNvSpPr/>
            <p:nvPr/>
          </p:nvSpPr>
          <p:spPr>
            <a:xfrm>
              <a:off x="2514600" y="9677520"/>
              <a:ext cx="6336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74"/>
            <p:cNvSpPr/>
            <p:nvPr/>
          </p:nvSpPr>
          <p:spPr>
            <a:xfrm>
              <a:off x="2158920" y="8991720"/>
              <a:ext cx="5079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75"/>
            <p:cNvSpPr/>
            <p:nvPr/>
          </p:nvSpPr>
          <p:spPr>
            <a:xfrm>
              <a:off x="2705040" y="9169560"/>
              <a:ext cx="54612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6"/>
            <p:cNvSpPr/>
            <p:nvPr/>
          </p:nvSpPr>
          <p:spPr>
            <a:xfrm>
              <a:off x="3225600" y="9118800"/>
              <a:ext cx="4064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77"/>
            <p:cNvSpPr/>
            <p:nvPr/>
          </p:nvSpPr>
          <p:spPr>
            <a:xfrm>
              <a:off x="3797280" y="9131400"/>
              <a:ext cx="457200" cy="444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78"/>
            <p:cNvSpPr/>
            <p:nvPr/>
          </p:nvSpPr>
          <p:spPr>
            <a:xfrm>
              <a:off x="5092920" y="8344080"/>
              <a:ext cx="431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79"/>
            <p:cNvSpPr/>
            <p:nvPr/>
          </p:nvSpPr>
          <p:spPr>
            <a:xfrm>
              <a:off x="1625400" y="9360000"/>
              <a:ext cx="26640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05"/>
          <p:cNvGrpSpPr/>
          <p:nvPr/>
        </p:nvGrpSpPr>
        <p:grpSpPr>
          <a:xfrm>
            <a:off x="12141360" y="4343400"/>
            <a:ext cx="2120760" cy="2832120"/>
            <a:chOff x="12141360" y="4343400"/>
            <a:chExt cx="2120760" cy="2832120"/>
          </a:xfrm>
        </p:grpSpPr>
        <p:sp>
          <p:nvSpPr>
            <p:cNvPr id="663" name="Freeform 80"/>
            <p:cNvSpPr/>
            <p:nvPr/>
          </p:nvSpPr>
          <p:spPr>
            <a:xfrm>
              <a:off x="12204720" y="5079960"/>
              <a:ext cx="97776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81"/>
            <p:cNvSpPr/>
            <p:nvPr/>
          </p:nvSpPr>
          <p:spPr>
            <a:xfrm>
              <a:off x="12141360" y="4800600"/>
              <a:ext cx="3780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82"/>
            <p:cNvSpPr/>
            <p:nvPr/>
          </p:nvSpPr>
          <p:spPr>
            <a:xfrm>
              <a:off x="12750840" y="4749840"/>
              <a:ext cx="850680" cy="812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3"/>
            <p:cNvSpPr/>
            <p:nvPr/>
          </p:nvSpPr>
          <p:spPr>
            <a:xfrm>
              <a:off x="13271760" y="4343400"/>
              <a:ext cx="990360" cy="977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Freeform 91"/>
          <p:cNvSpPr/>
          <p:nvPr/>
        </p:nvSpPr>
        <p:spPr>
          <a:xfrm>
            <a:off x="647640" y="6908760"/>
            <a:ext cx="255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Group 106"/>
          <p:cNvGrpSpPr/>
          <p:nvPr/>
        </p:nvGrpSpPr>
        <p:grpSpPr>
          <a:xfrm>
            <a:off x="12128400" y="7531200"/>
            <a:ext cx="2845080" cy="1638360"/>
            <a:chOff x="12128400" y="7531200"/>
            <a:chExt cx="2845080" cy="1638360"/>
          </a:xfrm>
        </p:grpSpPr>
        <p:sp>
          <p:nvSpPr>
            <p:cNvPr id="669" name="Freeform 84"/>
            <p:cNvSpPr/>
            <p:nvPr/>
          </p:nvSpPr>
          <p:spPr>
            <a:xfrm>
              <a:off x="12128400" y="7657920"/>
              <a:ext cx="48240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5"/>
            <p:cNvSpPr/>
            <p:nvPr/>
          </p:nvSpPr>
          <p:spPr>
            <a:xfrm>
              <a:off x="12750480" y="8102520"/>
              <a:ext cx="533520" cy="368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86"/>
            <p:cNvSpPr/>
            <p:nvPr/>
          </p:nvSpPr>
          <p:spPr>
            <a:xfrm>
              <a:off x="13347720" y="8039160"/>
              <a:ext cx="177840" cy="1015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88"/>
            <p:cNvSpPr/>
            <p:nvPr/>
          </p:nvSpPr>
          <p:spPr>
            <a:xfrm>
              <a:off x="12128400" y="7531200"/>
              <a:ext cx="2045160" cy="1638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Oval 90"/>
            <p:cNvSpPr/>
            <p:nvPr/>
          </p:nvSpPr>
          <p:spPr>
            <a:xfrm>
              <a:off x="13601880" y="8102520"/>
              <a:ext cx="63360" cy="63360"/>
            </a:xfrm>
            <a:prstGeom prst="ellipse">
              <a:avLst/>
            </a:prstGeom>
            <a:solidFill>
              <a:srgbClr val="8080ff"/>
            </a:solidFill>
            <a:ln w="5076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2"/>
            <p:cNvSpPr/>
            <p:nvPr/>
          </p:nvSpPr>
          <p:spPr>
            <a:xfrm>
              <a:off x="13258800" y="8318520"/>
              <a:ext cx="1130400" cy="190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93"/>
            <p:cNvSpPr/>
            <p:nvPr/>
          </p:nvSpPr>
          <p:spPr>
            <a:xfrm>
              <a:off x="13779720" y="8051760"/>
              <a:ext cx="177840" cy="876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4"/>
            <p:cNvSpPr/>
            <p:nvPr/>
          </p:nvSpPr>
          <p:spPr>
            <a:xfrm>
              <a:off x="14198760" y="8115480"/>
              <a:ext cx="22860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95"/>
            <p:cNvSpPr/>
            <p:nvPr/>
          </p:nvSpPr>
          <p:spPr>
            <a:xfrm>
              <a:off x="14491080" y="7645320"/>
              <a:ext cx="48240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Oval 96"/>
          <p:cNvSpPr/>
          <p:nvPr/>
        </p:nvSpPr>
        <p:spPr>
          <a:xfrm>
            <a:off x="1511280" y="7137360"/>
            <a:ext cx="63360" cy="63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107"/>
          <p:cNvGrpSpPr/>
          <p:nvPr/>
        </p:nvGrpSpPr>
        <p:grpSpPr>
          <a:xfrm>
            <a:off x="546120" y="2908440"/>
            <a:ext cx="1523880" cy="2844720"/>
            <a:chOff x="546120" y="2908440"/>
            <a:chExt cx="1523880" cy="2844720"/>
          </a:xfrm>
        </p:grpSpPr>
        <p:sp>
          <p:nvSpPr>
            <p:cNvPr id="680" name="Freeform 87"/>
            <p:cNvSpPr/>
            <p:nvPr/>
          </p:nvSpPr>
          <p:spPr>
            <a:xfrm>
              <a:off x="1206360" y="3848040"/>
              <a:ext cx="8636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89"/>
            <p:cNvSpPr/>
            <p:nvPr/>
          </p:nvSpPr>
          <p:spPr>
            <a:xfrm>
              <a:off x="546120" y="3276720"/>
              <a:ext cx="393480" cy="2476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97"/>
            <p:cNvSpPr/>
            <p:nvPr/>
          </p:nvSpPr>
          <p:spPr>
            <a:xfrm>
              <a:off x="1473120" y="2908440"/>
              <a:ext cx="380880" cy="393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3" name="Freeform 98"/>
          <p:cNvSpPr/>
          <p:nvPr/>
        </p:nvSpPr>
        <p:spPr>
          <a:xfrm>
            <a:off x="15430680" y="6819840"/>
            <a:ext cx="63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48120" y="1816200"/>
            <a:ext cx="11023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1 Determine the total number of degre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interior angles of a polygon in 3-8 sided fig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(formula provided on the 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2 Determine the measurement of on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 of a regular polygon (3-8 sided polygons, form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provided on the reference shee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3 Determine the number of degrees in th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s (3 - 8 sided polygons, formula provid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6480" y="762120"/>
            <a:ext cx="463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PA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723960"/>
            <a:ext cx="10731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a closed figure with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segments for sides.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s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can have a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number of s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** The sum of the 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ny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riangle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tempimage32.tiff"/>
          <p:cNvPicPr/>
          <p:nvPr/>
        </p:nvPicPr>
        <p:blipFill>
          <a:blip r:embed="rId1"/>
          <a:stretch/>
        </p:blipFill>
        <p:spPr>
          <a:xfrm>
            <a:off x="6553080" y="6375240"/>
            <a:ext cx="2552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27200" y="241200"/>
            <a:ext cx="11010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Use the following formula to find the su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the measures of the angles of a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180 x (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- 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124080" y="2806560"/>
            <a:ext cx="9740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** this formula is on the reference 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tempimage43.tiff"/>
          <p:cNvPicPr/>
          <p:nvPr/>
        </p:nvPicPr>
        <p:blipFill>
          <a:blip r:embed="rId1"/>
          <a:stretch/>
        </p:blipFill>
        <p:spPr>
          <a:xfrm>
            <a:off x="457200" y="5334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200400" y="5842080"/>
            <a:ext cx="1092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the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e penta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444600" y="5143680"/>
            <a:ext cx="15087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51.tiff"/>
          <p:cNvPicPr/>
          <p:nvPr/>
        </p:nvPicPr>
        <p:blipFill>
          <a:blip r:embed="rId1"/>
          <a:stretch/>
        </p:blipFill>
        <p:spPr>
          <a:xfrm>
            <a:off x="6934320" y="635040"/>
            <a:ext cx="2514600" cy="2324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603520" y="3225960"/>
            <a:ext cx="1057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all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is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828800" y="838080"/>
            <a:ext cx="11010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Quintana measures the angles of a polyg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and finds that the sum is 360</a:t>
            </a:r>
            <a:r>
              <a:rPr b="1" lang="en-US" sz="1600" spc="-1" strike="noStrike" baseline="-25000">
                <a:solidFill>
                  <a:srgbClr val="00c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. What kind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polygon did she mea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27280" y="1359000"/>
            <a:ext cx="1101096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s a special type of a fig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hat has congruent sides and congru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ng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o find the measure of any interior angle i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,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you can use the formu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80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(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-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97360" y="7658280"/>
            <a:ext cx="905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5943600" y="6616800"/>
            <a:ext cx="26542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32120" y="1600200"/>
            <a:ext cx="10642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one interior angl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regular hex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692440" y="927000"/>
            <a:ext cx="10045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How many degrees are there in a 7-s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7:48Z</dcterms:created>
  <dc:creator>Wendy</dc:creator>
  <dc:description/>
  <dc:language>en-US</dc:language>
  <cp:lastModifiedBy>Wendy</cp:lastModifiedBy>
  <dcterms:modified xsi:type="dcterms:W3CDTF">2008-03-24T14:48:08Z</dcterms:modified>
  <cp:revision>1</cp:revision>
  <dc:subject/>
  <dc:title>Slide 1</dc:title>
</cp:coreProperties>
</file>