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85A-AE15-4678-B064-38AD43E7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BB9-D0AD-4FA5-9231-95E6C1E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D36-886A-425B-9EA8-5C0EFD3A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629-1876-4019-9F1F-84A2FE6D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056-3517-493B-9709-BE4A0E0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1B3-C8C5-406A-AD5D-448A4590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145-27EE-4BD8-B656-DB0D34E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746-1DDE-43C1-8AEC-22E77839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CC9-4227-4B8D-A7C7-F5530B5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0E8-45CB-4DC4-8421-6D62A19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F3F-E2B4-40E5-B7D1-803F43E7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C07-E54C-4091-800C-7F33A27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4BB9-5D06-4E8C-9478-89F43B5B8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rot="20592000">
            <a:off x="-1320480" y="558360"/>
            <a:ext cx="9258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Converting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Measurem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63"/>
          <p:cNvGrpSpPr/>
          <p:nvPr/>
        </p:nvGrpSpPr>
        <p:grpSpPr>
          <a:xfrm>
            <a:off x="11010960" y="584280"/>
            <a:ext cx="2349360" cy="6121440"/>
            <a:chOff x="11010960" y="584280"/>
            <a:chExt cx="2349360" cy="6121440"/>
          </a:xfrm>
        </p:grpSpPr>
        <p:sp>
          <p:nvSpPr>
            <p:cNvPr id="43" name="Freeform 2"/>
            <p:cNvSpPr/>
            <p:nvPr/>
          </p:nvSpPr>
          <p:spPr>
            <a:xfrm>
              <a:off x="11239560" y="2781360"/>
              <a:ext cx="1841400" cy="38228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3" descr="tempimage13.tiff"/>
            <p:cNvPicPr/>
            <p:nvPr/>
          </p:nvPicPr>
          <p:blipFill>
            <a:blip r:embed="rId1"/>
            <a:stretch/>
          </p:blipFill>
          <p:spPr>
            <a:xfrm>
              <a:off x="11010960" y="584280"/>
              <a:ext cx="2349360" cy="612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4"/>
          <p:cNvSpPr/>
          <p:nvPr/>
        </p:nvSpPr>
        <p:spPr>
          <a:xfrm>
            <a:off x="9651960" y="7226280"/>
            <a:ext cx="889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9969480" y="7074000"/>
            <a:ext cx="279360" cy="24120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6"/>
          <p:cNvSpPr/>
          <p:nvPr/>
        </p:nvSpPr>
        <p:spPr>
          <a:xfrm flipH="1" flipV="1">
            <a:off x="9563040" y="5969160"/>
            <a:ext cx="101520" cy="101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7"/>
          <p:cNvSpPr/>
          <p:nvPr/>
        </p:nvSpPr>
        <p:spPr>
          <a:xfrm flipV="1">
            <a:off x="10477440" y="5955840"/>
            <a:ext cx="76320" cy="101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 flipV="1">
            <a:off x="9448920" y="7213320"/>
            <a:ext cx="2030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H="1" flipV="1">
            <a:off x="10528200" y="7213320"/>
            <a:ext cx="1778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8813880" y="7467480"/>
            <a:ext cx="2539800" cy="16509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1"/>
          <p:cNvSpPr/>
          <p:nvPr/>
        </p:nvSpPr>
        <p:spPr>
          <a:xfrm>
            <a:off x="9448920" y="7048440"/>
            <a:ext cx="1244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2"/>
          <p:cNvSpPr/>
          <p:nvPr/>
        </p:nvSpPr>
        <p:spPr>
          <a:xfrm>
            <a:off x="9550440" y="5994360"/>
            <a:ext cx="97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3"/>
          <p:cNvSpPr/>
          <p:nvPr/>
        </p:nvSpPr>
        <p:spPr>
          <a:xfrm flipH="1" flipV="1">
            <a:off x="10503000" y="6794640"/>
            <a:ext cx="164880" cy="241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H="1" flipV="1">
            <a:off x="10426680" y="5829480"/>
            <a:ext cx="114480" cy="139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5"/>
          <p:cNvSpPr/>
          <p:nvPr/>
        </p:nvSpPr>
        <p:spPr>
          <a:xfrm flipV="1">
            <a:off x="9487080" y="6806880"/>
            <a:ext cx="16488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6"/>
          <p:cNvSpPr/>
          <p:nvPr/>
        </p:nvSpPr>
        <p:spPr>
          <a:xfrm flipV="1">
            <a:off x="9575640" y="5816520"/>
            <a:ext cx="12708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7"/>
          <p:cNvSpPr/>
          <p:nvPr/>
        </p:nvSpPr>
        <p:spPr>
          <a:xfrm>
            <a:off x="9664560" y="6959520"/>
            <a:ext cx="81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9690120" y="5829480"/>
            <a:ext cx="736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9258480" y="7873920"/>
            <a:ext cx="1676160" cy="9525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0"/>
          <p:cNvSpPr/>
          <p:nvPr/>
        </p:nvSpPr>
        <p:spPr>
          <a:xfrm>
            <a:off x="9182160" y="8813880"/>
            <a:ext cx="181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V="1">
            <a:off x="10452240" y="7937280"/>
            <a:ext cx="3780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2"/>
          <p:cNvSpPr/>
          <p:nvPr/>
        </p:nvSpPr>
        <p:spPr>
          <a:xfrm flipV="1">
            <a:off x="10693440" y="8165880"/>
            <a:ext cx="38160" cy="3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 flipV="1">
            <a:off x="10871280" y="8470440"/>
            <a:ext cx="5076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 flipV="1">
            <a:off x="9258120" y="8445600"/>
            <a:ext cx="5076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 flipH="1" flipV="1">
            <a:off x="9702720" y="7911720"/>
            <a:ext cx="3816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26"/>
          <p:cNvSpPr/>
          <p:nvPr/>
        </p:nvSpPr>
        <p:spPr>
          <a:xfrm flipH="1" flipV="1">
            <a:off x="9461520" y="8128080"/>
            <a:ext cx="381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7"/>
          <p:cNvSpPr/>
          <p:nvPr/>
        </p:nvSpPr>
        <p:spPr>
          <a:xfrm flipV="1">
            <a:off x="10096560" y="7810200"/>
            <a:ext cx="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8"/>
          <p:cNvSpPr/>
          <p:nvPr/>
        </p:nvSpPr>
        <p:spPr>
          <a:xfrm flipV="1">
            <a:off x="10109160" y="7899480"/>
            <a:ext cx="0" cy="774720"/>
          </a:xfrm>
          <a:prstGeom prst="line">
            <a:avLst/>
          </a:prstGeom>
          <a:ln w="9360">
            <a:solidFill>
              <a:srgbClr val="4a7ebb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9" descr="tempimage160.tiff"/>
          <p:cNvPicPr/>
          <p:nvPr/>
        </p:nvPicPr>
        <p:blipFill>
          <a:blip r:embed="rId2"/>
          <a:stretch/>
        </p:blipFill>
        <p:spPr>
          <a:xfrm rot="20363400">
            <a:off x="990360" y="4165200"/>
            <a:ext cx="830556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4457880" y="6464160"/>
            <a:ext cx="2501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 GREEK"/>
              </a:rPr>
              <a:t>PSSA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4254480" y="7188120"/>
            <a:ext cx="2603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GREEK"/>
              </a:rPr>
              <a:t>Practi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9931320" y="7264440"/>
            <a:ext cx="30492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0198080" y="7289640"/>
            <a:ext cx="6336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9944280" y="7340760"/>
            <a:ext cx="13968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1027440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1026144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10236240" y="7340760"/>
            <a:ext cx="25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024884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10248840" y="7289640"/>
            <a:ext cx="1260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40"/>
          <p:cNvSpPr/>
          <p:nvPr/>
        </p:nvSpPr>
        <p:spPr>
          <a:xfrm>
            <a:off x="99313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9918720" y="7353360"/>
            <a:ext cx="12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2"/>
          <p:cNvSpPr/>
          <p:nvPr/>
        </p:nvSpPr>
        <p:spPr>
          <a:xfrm>
            <a:off x="99187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43"/>
          <p:cNvSpPr/>
          <p:nvPr/>
        </p:nvSpPr>
        <p:spPr>
          <a:xfrm>
            <a:off x="99313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44"/>
          <p:cNvSpPr/>
          <p:nvPr/>
        </p:nvSpPr>
        <p:spPr>
          <a:xfrm>
            <a:off x="99187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10274400" y="7251840"/>
            <a:ext cx="12600" cy="75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102870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10299600" y="7302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10299600" y="728964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102996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10287000" y="73152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10299600" y="7289640"/>
            <a:ext cx="360" cy="12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10274400" y="73407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10287000" y="7238880"/>
            <a:ext cx="3816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4"/>
          <p:cNvSpPr/>
          <p:nvPr/>
        </p:nvSpPr>
        <p:spPr>
          <a:xfrm>
            <a:off x="9867960" y="7048440"/>
            <a:ext cx="63360" cy="63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9702720" y="5867280"/>
            <a:ext cx="129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10414080" y="5829480"/>
            <a:ext cx="12600" cy="152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9715680" y="5943600"/>
            <a:ext cx="36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8"/>
          <p:cNvSpPr/>
          <p:nvPr/>
        </p:nvSpPr>
        <p:spPr>
          <a:xfrm>
            <a:off x="9702720" y="5943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9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0"/>
          <p:cNvSpPr/>
          <p:nvPr/>
        </p:nvSpPr>
        <p:spPr>
          <a:xfrm>
            <a:off x="9702720" y="59310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1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2"/>
          <p:cNvSpPr/>
          <p:nvPr/>
        </p:nvSpPr>
        <p:spPr>
          <a:xfrm>
            <a:off x="9715680" y="59310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95480" y="774720"/>
            <a:ext cx="6375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Converting Units of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9906120" y="203040"/>
            <a:ext cx="2450880" cy="2451240"/>
            <a:chOff x="9906120" y="203040"/>
            <a:chExt cx="2450880" cy="2451240"/>
          </a:xfrm>
        </p:grpSpPr>
        <p:sp>
          <p:nvSpPr>
            <p:cNvPr id="183" name="Freeform 2"/>
            <p:cNvSpPr/>
            <p:nvPr/>
          </p:nvSpPr>
          <p:spPr>
            <a:xfrm>
              <a:off x="9906120" y="203040"/>
              <a:ext cx="2450880" cy="2451240"/>
            </a:xfrm>
            <a:prstGeom prst="pi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3"/>
            <p:cNvSpPr/>
            <p:nvPr/>
          </p:nvSpPr>
          <p:spPr>
            <a:xfrm>
              <a:off x="10858320" y="228240"/>
              <a:ext cx="457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10985400" y="213372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12014280" y="1180800"/>
              <a:ext cx="2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9956880" y="118080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11036160" y="1346040"/>
              <a:ext cx="152280" cy="1522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8"/>
            <p:cNvSpPr/>
            <p:nvPr/>
          </p:nvSpPr>
          <p:spPr>
            <a:xfrm>
              <a:off x="11531520" y="4060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9"/>
            <p:cNvSpPr/>
            <p:nvPr/>
          </p:nvSpPr>
          <p:spPr>
            <a:xfrm>
              <a:off x="11874600" y="7617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1182384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1"/>
            <p:cNvSpPr/>
            <p:nvPr/>
          </p:nvSpPr>
          <p:spPr>
            <a:xfrm>
              <a:off x="11468160" y="19684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2"/>
            <p:cNvSpPr/>
            <p:nvPr/>
          </p:nvSpPr>
          <p:spPr>
            <a:xfrm>
              <a:off x="10503000" y="19558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1015992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10083600" y="7617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10375920" y="3934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16"/>
            <p:cNvSpPr/>
            <p:nvPr/>
          </p:nvSpPr>
          <p:spPr>
            <a:xfrm flipH="1">
              <a:off x="10845360" y="1409760"/>
              <a:ext cx="291960" cy="54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17"/>
            <p:cNvSpPr/>
            <p:nvPr/>
          </p:nvSpPr>
          <p:spPr>
            <a:xfrm flipH="1">
              <a:off x="10236240" y="1384200"/>
              <a:ext cx="9014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18"/>
          <p:cNvSpPr/>
          <p:nvPr/>
        </p:nvSpPr>
        <p:spPr>
          <a:xfrm>
            <a:off x="2019240" y="1994040"/>
            <a:ext cx="9194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s marisa 10,800 secon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o run a race. How many hou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does she take to finish t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2933640" y="6058080"/>
            <a:ext cx="8775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098880" y="127080"/>
            <a:ext cx="1008360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tak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marisa 10,800 seconds to ru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. How many hours does s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 to finish the 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562040" y="3886200"/>
            <a:ext cx="2616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rateg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120760" y="5600880"/>
            <a:ext cx="19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082960" y="7391520"/>
            <a:ext cx="19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2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1498680" y="8712360"/>
            <a:ext cx="259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521240" y="3657600"/>
            <a:ext cx="6629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seconds to minut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then convert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83080" y="5537160"/>
            <a:ext cx="5829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Convert 10,800 seconds t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minu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521240" y="7404120"/>
            <a:ext cx="6527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180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4432320" y="8788320"/>
            <a:ext cx="6972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Marisa runs the race in 3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330800" y="3594240"/>
            <a:ext cx="6997680" cy="6337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65360" y="177840"/>
            <a:ext cx="1134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0"/>
                </a:solidFill>
                <a:latin typeface="Curlz MT"/>
              </a:rPr>
              <a:t>Converting Units of Temper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4902120" y="1917720"/>
            <a:ext cx="8089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Use your formula sheet t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convert betwe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Fahrenheit and Celciu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283360" y="4724280"/>
            <a:ext cx="4572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F = 9/5 x C + 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270400" y="6273720"/>
            <a:ext cx="482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C = 5/9 x (F - 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165240" y="1790640"/>
            <a:ext cx="4368600" cy="7721640"/>
            <a:chOff x="165240" y="1790640"/>
            <a:chExt cx="4368600" cy="7721640"/>
          </a:xfrm>
        </p:grpSpPr>
        <p:pic>
          <p:nvPicPr>
            <p:cNvPr id="216" name="Picture 5" descr="tempimage125.tiff"/>
            <p:cNvPicPr/>
            <p:nvPr/>
          </p:nvPicPr>
          <p:blipFill>
            <a:blip r:embed="rId1"/>
            <a:stretch/>
          </p:blipFill>
          <p:spPr>
            <a:xfrm>
              <a:off x="165240" y="1790640"/>
              <a:ext cx="4368600" cy="77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bject 2" descr=""/>
            <p:cNvPicPr/>
            <p:nvPr/>
          </p:nvPicPr>
          <p:blipFill>
            <a:blip r:embed="rId2"/>
            <a:stretch/>
          </p:blipFill>
          <p:spPr>
            <a:xfrm>
              <a:off x="1617840" y="5308560"/>
              <a:ext cx="1461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714680" y="888840"/>
            <a:ext cx="106041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Philadelphia 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one day in February is 5</a:t>
            </a:r>
            <a:r>
              <a:rPr b="1" lang="en-US" sz="2200" spc="-1" strike="noStrike" baseline="-25000">
                <a:solidFill>
                  <a:srgbClr val="f00000"/>
                </a:solidFill>
                <a:latin typeface="ARIAL GREEK"/>
              </a:rPr>
              <a:t>0</a:t>
            </a: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 C. What 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degre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Fahrenhe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041480" y="4673520"/>
            <a:ext cx="1778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rateg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1434960" y="5549760"/>
            <a:ext cx="14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1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460520" y="640080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498680" y="716292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1130400" y="8178840"/>
            <a:ext cx="1663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060720" y="4711680"/>
            <a:ext cx="9766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Use the temperature formula for Celsius to Fahrenhe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3060720" y="5638680"/>
            <a:ext cx="33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Write the formu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022560" y="64008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ubstitute the Celsius tempera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3035160" y="7175520"/>
            <a:ext cx="127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ol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3035160" y="8242200"/>
            <a:ext cx="4635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The temperature is 41 </a:t>
            </a:r>
            <a:r>
              <a:rPr b="1" lang="en-US" sz="1200" spc="-1" strike="noStrike" baseline="-25000">
                <a:solidFill>
                  <a:srgbClr val="00ff00"/>
                </a:solidFill>
                <a:latin typeface="ARIAL GREEK"/>
              </a:rPr>
              <a:t>0</a:t>
            </a: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2"/>
          <p:cNvSpPr/>
          <p:nvPr/>
        </p:nvSpPr>
        <p:spPr>
          <a:xfrm>
            <a:off x="2921040" y="4330800"/>
            <a:ext cx="10045800" cy="454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222640" y="330120"/>
            <a:ext cx="85215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PRACTICE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How many seconds are in 2.5 hou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120760" y="3340080"/>
            <a:ext cx="11976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1 hour = __________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Do you want to multiply or divide?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minutes in 2.5 hours.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Next, convert minutes to seconds.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seconds.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here are _____________ seconds in 2.5 hou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56"/>
          <p:cNvGrpSpPr/>
          <p:nvPr/>
        </p:nvGrpSpPr>
        <p:grpSpPr>
          <a:xfrm>
            <a:off x="3327480" y="939960"/>
            <a:ext cx="9144000" cy="2260440"/>
            <a:chOff x="3327480" y="939960"/>
            <a:chExt cx="9144000" cy="2260440"/>
          </a:xfrm>
        </p:grpSpPr>
        <p:sp>
          <p:nvSpPr>
            <p:cNvPr id="233" name="Freeform 1"/>
            <p:cNvSpPr/>
            <p:nvPr/>
          </p:nvSpPr>
          <p:spPr>
            <a:xfrm>
              <a:off x="3327480" y="939960"/>
              <a:ext cx="9144000" cy="2260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" descr="tempimage152.tiff"/>
            <p:cNvPicPr/>
            <p:nvPr/>
          </p:nvPicPr>
          <p:blipFill>
            <a:blip r:embed="rId1"/>
            <a:stretch/>
          </p:blipFill>
          <p:spPr>
            <a:xfrm>
              <a:off x="3429000" y="1155600"/>
              <a:ext cx="1689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Freeform 3"/>
            <p:cNvSpPr/>
            <p:nvPr/>
          </p:nvSpPr>
          <p:spPr>
            <a:xfrm>
              <a:off x="3403440" y="1041480"/>
              <a:ext cx="8991720" cy="20448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57"/>
          <p:cNvGrpSpPr/>
          <p:nvPr/>
        </p:nvGrpSpPr>
        <p:grpSpPr>
          <a:xfrm>
            <a:off x="5118120" y="3225960"/>
            <a:ext cx="5511960" cy="4991040"/>
            <a:chOff x="5118120" y="3225960"/>
            <a:chExt cx="5511960" cy="4991040"/>
          </a:xfrm>
        </p:grpSpPr>
        <p:sp>
          <p:nvSpPr>
            <p:cNvPr id="237" name="Freeform 4"/>
            <p:cNvSpPr/>
            <p:nvPr/>
          </p:nvSpPr>
          <p:spPr>
            <a:xfrm>
              <a:off x="5740200" y="713772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10096920" y="71377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5740200" y="582948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096920" y="58294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5740200" y="457200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0096920" y="457200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5740200" y="326376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10096920" y="32637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587920" y="72136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10020600" y="72136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5587920" y="591840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0020600" y="59184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5587920" y="464832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0020600" y="464832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5587920" y="33400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0020600" y="33400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5842080" y="72518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740200" y="805212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842760" y="72518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9728640" y="8052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0528560" y="72900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5842080" y="595656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740200" y="674388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9842760" y="59565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728640" y="6743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0528560" y="59947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5842080" y="468648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5740200" y="548640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9842760" y="46864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9728640" y="5486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0528560" y="47246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5842080" y="33782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5740200" y="417816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9842760" y="33782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9728640" y="41781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0528560" y="34164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Picture 40" descr="tempimage1540.tiff"/>
            <p:cNvPicPr/>
            <p:nvPr/>
          </p:nvPicPr>
          <p:blipFill>
            <a:blip r:embed="rId2"/>
            <a:stretch/>
          </p:blipFill>
          <p:spPr>
            <a:xfrm>
              <a:off x="5118120" y="32259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1" descr="tempimage1541.tiff"/>
            <p:cNvPicPr/>
            <p:nvPr/>
          </p:nvPicPr>
          <p:blipFill>
            <a:blip r:embed="rId3"/>
            <a:stretch/>
          </p:blipFill>
          <p:spPr>
            <a:xfrm>
              <a:off x="5118120" y="4533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tempimage1542.tiff"/>
            <p:cNvPicPr/>
            <p:nvPr/>
          </p:nvPicPr>
          <p:blipFill>
            <a:blip r:embed="rId4"/>
            <a:stretch/>
          </p:blipFill>
          <p:spPr>
            <a:xfrm>
              <a:off x="5143320" y="5791320"/>
              <a:ext cx="11174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3" descr="tempimage1543.tiff"/>
            <p:cNvPicPr/>
            <p:nvPr/>
          </p:nvPicPr>
          <p:blipFill>
            <a:blip r:embed="rId5"/>
            <a:stretch/>
          </p:blipFill>
          <p:spPr>
            <a:xfrm>
              <a:off x="5118120" y="7099560"/>
              <a:ext cx="1117440" cy="11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44"/>
          <p:cNvSpPr/>
          <p:nvPr/>
        </p:nvSpPr>
        <p:spPr>
          <a:xfrm>
            <a:off x="4889520" y="1689120"/>
            <a:ext cx="748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How many feet are in 12 in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45"/>
          <p:cNvSpPr/>
          <p:nvPr/>
        </p:nvSpPr>
        <p:spPr>
          <a:xfrm>
            <a:off x="7480440" y="3492360"/>
            <a:ext cx="1409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44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6"/>
          <p:cNvSpPr/>
          <p:nvPr/>
        </p:nvSpPr>
        <p:spPr>
          <a:xfrm>
            <a:off x="7061040" y="4851360"/>
            <a:ext cx="1803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5,292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7"/>
          <p:cNvSpPr/>
          <p:nvPr/>
        </p:nvSpPr>
        <p:spPr>
          <a:xfrm>
            <a:off x="6794640" y="6045120"/>
            <a:ext cx="2070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63,36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8"/>
          <p:cNvSpPr/>
          <p:nvPr/>
        </p:nvSpPr>
        <p:spPr>
          <a:xfrm>
            <a:off x="6819840" y="7378560"/>
            <a:ext cx="2070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79,20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58"/>
          <p:cNvGrpSpPr/>
          <p:nvPr/>
        </p:nvGrpSpPr>
        <p:grpSpPr>
          <a:xfrm>
            <a:off x="10363320" y="1231920"/>
            <a:ext cx="1460520" cy="863640"/>
            <a:chOff x="10363320" y="1231920"/>
            <a:chExt cx="1460520" cy="863640"/>
          </a:xfrm>
        </p:grpSpPr>
        <p:sp>
          <p:nvSpPr>
            <p:cNvPr id="283" name="Freeform 49"/>
            <p:cNvSpPr/>
            <p:nvPr/>
          </p:nvSpPr>
          <p:spPr>
            <a:xfrm>
              <a:off x="10363320" y="1828800"/>
              <a:ext cx="1460520" cy="266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"/>
            <p:cNvSpPr/>
            <p:nvPr/>
          </p:nvSpPr>
          <p:spPr>
            <a:xfrm>
              <a:off x="10515600" y="1396800"/>
              <a:ext cx="3427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1"/>
            <p:cNvSpPr/>
            <p:nvPr/>
          </p:nvSpPr>
          <p:spPr>
            <a:xfrm>
              <a:off x="10909440" y="1447560"/>
              <a:ext cx="50760" cy="177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2"/>
            <p:cNvSpPr/>
            <p:nvPr/>
          </p:nvSpPr>
          <p:spPr>
            <a:xfrm>
              <a:off x="10871280" y="1257120"/>
              <a:ext cx="25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53"/>
            <p:cNvSpPr/>
            <p:nvPr/>
          </p:nvSpPr>
          <p:spPr>
            <a:xfrm>
              <a:off x="11061720" y="1231920"/>
              <a:ext cx="17784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4"/>
            <p:cNvSpPr/>
            <p:nvPr/>
          </p:nvSpPr>
          <p:spPr>
            <a:xfrm>
              <a:off x="11226960" y="1333440"/>
              <a:ext cx="34272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5"/>
            <p:cNvSpPr/>
            <p:nvPr/>
          </p:nvSpPr>
          <p:spPr>
            <a:xfrm>
              <a:off x="11506320" y="133344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9"/>
          <p:cNvGrpSpPr/>
          <p:nvPr/>
        </p:nvGrpSpPr>
        <p:grpSpPr>
          <a:xfrm>
            <a:off x="6019920" y="3200400"/>
            <a:ext cx="5600520" cy="5067360"/>
            <a:chOff x="6019920" y="3200400"/>
            <a:chExt cx="5600520" cy="5067360"/>
          </a:xfrm>
        </p:grpSpPr>
        <p:sp>
          <p:nvSpPr>
            <p:cNvPr id="291" name="Freeform 1"/>
            <p:cNvSpPr/>
            <p:nvPr/>
          </p:nvSpPr>
          <p:spPr>
            <a:xfrm>
              <a:off x="6654600" y="717552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"/>
            <p:cNvSpPr/>
            <p:nvPr/>
          </p:nvSpPr>
          <p:spPr>
            <a:xfrm>
              <a:off x="11074680" y="717552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6654600" y="5854680"/>
              <a:ext cx="44323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11074680" y="5854680"/>
              <a:ext cx="545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6654600" y="45594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11074680" y="45594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6654600" y="32382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11074680" y="32382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6489720" y="725184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10998360" y="725184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6489720" y="593100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10998360" y="593100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6489720" y="464832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10998360" y="464832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6489720" y="331452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0998360" y="33145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6756480" y="729000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654600" y="810288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0820520" y="72900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0706040" y="8102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11518920" y="73281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6756480" y="59691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6654600" y="678204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10820520" y="5969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10706040" y="6782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11518920" y="6007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6756480" y="4686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6654600" y="54990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10820520" y="4686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10706040" y="5499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11518920" y="47242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6756480" y="33526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6654600" y="41655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10820520" y="3352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10706040" y="4165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11518920" y="34034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Picture 37" descr="tempimage1637.tiff"/>
            <p:cNvPicPr/>
            <p:nvPr/>
          </p:nvPicPr>
          <p:blipFill>
            <a:blip r:embed="rId1"/>
            <a:stretch/>
          </p:blipFill>
          <p:spPr>
            <a:xfrm>
              <a:off x="6019920" y="3200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8" descr="tempimage1638.tiff"/>
            <p:cNvPicPr/>
            <p:nvPr/>
          </p:nvPicPr>
          <p:blipFill>
            <a:blip r:embed="rId2"/>
            <a:stretch/>
          </p:blipFill>
          <p:spPr>
            <a:xfrm>
              <a:off x="6019920" y="4521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9" descr="tempimage1639.tiff"/>
            <p:cNvPicPr/>
            <p:nvPr/>
          </p:nvPicPr>
          <p:blipFill>
            <a:blip r:embed="rId3"/>
            <a:stretch/>
          </p:blipFill>
          <p:spPr>
            <a:xfrm>
              <a:off x="6045120" y="580392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0" descr="tempimage1640.tiff"/>
            <p:cNvPicPr/>
            <p:nvPr/>
          </p:nvPicPr>
          <p:blipFill>
            <a:blip r:embed="rId4"/>
            <a:stretch/>
          </p:blipFill>
          <p:spPr>
            <a:xfrm>
              <a:off x="6019920" y="713772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0"/>
          <p:cNvGrpSpPr/>
          <p:nvPr/>
        </p:nvGrpSpPr>
        <p:grpSpPr>
          <a:xfrm>
            <a:off x="4635360" y="901800"/>
            <a:ext cx="8433000" cy="2082600"/>
            <a:chOff x="4635360" y="901800"/>
            <a:chExt cx="8433000" cy="2082600"/>
          </a:xfrm>
        </p:grpSpPr>
        <p:sp>
          <p:nvSpPr>
            <p:cNvPr id="332" name="Freeform 41"/>
            <p:cNvSpPr/>
            <p:nvPr/>
          </p:nvSpPr>
          <p:spPr>
            <a:xfrm>
              <a:off x="4635360" y="901800"/>
              <a:ext cx="8433000" cy="20826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3" name="Picture 42" descr="tempimage1642.tiff"/>
            <p:cNvPicPr/>
            <p:nvPr/>
          </p:nvPicPr>
          <p:blipFill>
            <a:blip r:embed="rId5"/>
            <a:stretch/>
          </p:blipFill>
          <p:spPr>
            <a:xfrm>
              <a:off x="4736880" y="1104840"/>
              <a:ext cx="1562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Freeform 43"/>
            <p:cNvSpPr/>
            <p:nvPr/>
          </p:nvSpPr>
          <p:spPr>
            <a:xfrm>
              <a:off x="4723920" y="1003320"/>
              <a:ext cx="8268120" cy="187956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TextBox 44"/>
          <p:cNvSpPr/>
          <p:nvPr/>
        </p:nvSpPr>
        <p:spPr>
          <a:xfrm>
            <a:off x="6235560" y="1104840"/>
            <a:ext cx="642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At 6:00pm, the temper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was 2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 C. What w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emperature in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5"/>
          <p:cNvSpPr/>
          <p:nvPr/>
        </p:nvSpPr>
        <p:spPr>
          <a:xfrm>
            <a:off x="7683480" y="34923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9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46"/>
          <p:cNvSpPr/>
          <p:nvPr/>
        </p:nvSpPr>
        <p:spPr>
          <a:xfrm>
            <a:off x="7696080" y="48639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8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7696080" y="6121440"/>
            <a:ext cx="1117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7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8"/>
          <p:cNvSpPr/>
          <p:nvPr/>
        </p:nvSpPr>
        <p:spPr>
          <a:xfrm>
            <a:off x="7709040" y="7442280"/>
            <a:ext cx="111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6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9"/>
          <p:cNvGrpSpPr/>
          <p:nvPr/>
        </p:nvGrpSpPr>
        <p:grpSpPr>
          <a:xfrm>
            <a:off x="4203720" y="774720"/>
            <a:ext cx="7416720" cy="1828800"/>
            <a:chOff x="4203720" y="774720"/>
            <a:chExt cx="7416720" cy="1828800"/>
          </a:xfrm>
        </p:grpSpPr>
        <p:sp>
          <p:nvSpPr>
            <p:cNvPr id="341" name="Freeform 1"/>
            <p:cNvSpPr/>
            <p:nvPr/>
          </p:nvSpPr>
          <p:spPr>
            <a:xfrm>
              <a:off x="4203720" y="774720"/>
              <a:ext cx="7416720" cy="1828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2" name="Picture 2" descr="tempimage172.tiff"/>
            <p:cNvPicPr/>
            <p:nvPr/>
          </p:nvPicPr>
          <p:blipFill>
            <a:blip r:embed="rId1"/>
            <a:stretch/>
          </p:blipFill>
          <p:spPr>
            <a:xfrm>
              <a:off x="4292280" y="952200"/>
              <a:ext cx="1371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Freeform 3"/>
            <p:cNvSpPr/>
            <p:nvPr/>
          </p:nvSpPr>
          <p:spPr>
            <a:xfrm>
              <a:off x="4267080" y="863280"/>
              <a:ext cx="7290000" cy="16513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50"/>
          <p:cNvGrpSpPr/>
          <p:nvPr/>
        </p:nvGrpSpPr>
        <p:grpSpPr>
          <a:xfrm>
            <a:off x="5130720" y="2933640"/>
            <a:ext cx="5613480" cy="5079960"/>
            <a:chOff x="5130720" y="2933640"/>
            <a:chExt cx="5613480" cy="5079960"/>
          </a:xfrm>
        </p:grpSpPr>
        <p:sp>
          <p:nvSpPr>
            <p:cNvPr id="345" name="Freeform 4"/>
            <p:cNvSpPr/>
            <p:nvPr/>
          </p:nvSpPr>
          <p:spPr>
            <a:xfrm>
              <a:off x="5765760" y="692136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10198080" y="69213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5765760" y="558792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10198080" y="558792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765760" y="43052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10198080" y="43052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5765760" y="29714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10198080" y="29714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5600520" y="69976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10122120" y="69976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5600520" y="56642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0122120" y="56642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5600520" y="43812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0122120" y="43812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5600520" y="30477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0122120" y="30477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867280" y="703584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5765760" y="78487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9944280" y="70358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9829800" y="7848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10642680" y="70740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5867280" y="570240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5765760" y="65149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944280" y="5702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8"/>
            <p:cNvSpPr/>
            <p:nvPr/>
          </p:nvSpPr>
          <p:spPr>
            <a:xfrm>
              <a:off x="9829800" y="6514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9"/>
            <p:cNvSpPr/>
            <p:nvPr/>
          </p:nvSpPr>
          <p:spPr>
            <a:xfrm>
              <a:off x="10642680" y="575316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0"/>
            <p:cNvSpPr/>
            <p:nvPr/>
          </p:nvSpPr>
          <p:spPr>
            <a:xfrm>
              <a:off x="5867280" y="441936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1"/>
            <p:cNvSpPr/>
            <p:nvPr/>
          </p:nvSpPr>
          <p:spPr>
            <a:xfrm>
              <a:off x="5765760" y="523224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2"/>
            <p:cNvSpPr/>
            <p:nvPr/>
          </p:nvSpPr>
          <p:spPr>
            <a:xfrm>
              <a:off x="9944280" y="44193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9829800" y="52322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10642680" y="44575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5"/>
            <p:cNvSpPr/>
            <p:nvPr/>
          </p:nvSpPr>
          <p:spPr>
            <a:xfrm>
              <a:off x="5867280" y="308592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6"/>
            <p:cNvSpPr/>
            <p:nvPr/>
          </p:nvSpPr>
          <p:spPr>
            <a:xfrm>
              <a:off x="5765760" y="38988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7"/>
            <p:cNvSpPr/>
            <p:nvPr/>
          </p:nvSpPr>
          <p:spPr>
            <a:xfrm>
              <a:off x="9944280" y="3085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8"/>
            <p:cNvSpPr/>
            <p:nvPr/>
          </p:nvSpPr>
          <p:spPr>
            <a:xfrm>
              <a:off x="982980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9"/>
            <p:cNvSpPr/>
            <p:nvPr/>
          </p:nvSpPr>
          <p:spPr>
            <a:xfrm>
              <a:off x="10642680" y="31366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1" name="Picture 40" descr="tempimage1740.tiff"/>
            <p:cNvPicPr/>
            <p:nvPr/>
          </p:nvPicPr>
          <p:blipFill>
            <a:blip r:embed="rId2"/>
            <a:stretch/>
          </p:blipFill>
          <p:spPr>
            <a:xfrm>
              <a:off x="5130720" y="2933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1" descr="tempimage1741.tiff"/>
            <p:cNvPicPr/>
            <p:nvPr/>
          </p:nvPicPr>
          <p:blipFill>
            <a:blip r:embed="rId3"/>
            <a:stretch/>
          </p:blipFill>
          <p:spPr>
            <a:xfrm>
              <a:off x="5130720" y="4267080"/>
              <a:ext cx="114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2" descr="tempimage1742.tiff"/>
            <p:cNvPicPr/>
            <p:nvPr/>
          </p:nvPicPr>
          <p:blipFill>
            <a:blip r:embed="rId4"/>
            <a:stretch/>
          </p:blipFill>
          <p:spPr>
            <a:xfrm>
              <a:off x="5155920" y="554976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3" descr="tempimage1743.tiff"/>
            <p:cNvPicPr/>
            <p:nvPr/>
          </p:nvPicPr>
          <p:blipFill>
            <a:blip r:embed="rId5"/>
            <a:stretch/>
          </p:blipFill>
          <p:spPr>
            <a:xfrm>
              <a:off x="5130720" y="688356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TextBox 44"/>
          <p:cNvSpPr/>
          <p:nvPr/>
        </p:nvSpPr>
        <p:spPr>
          <a:xfrm>
            <a:off x="5651640" y="1346040"/>
            <a:ext cx="61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 pitcher holds 1800 mL of water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liters of water does the pitc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45"/>
          <p:cNvSpPr/>
          <p:nvPr/>
        </p:nvSpPr>
        <p:spPr>
          <a:xfrm>
            <a:off x="6464160" y="3263760"/>
            <a:ext cx="876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.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6"/>
          <p:cNvSpPr/>
          <p:nvPr/>
        </p:nvSpPr>
        <p:spPr>
          <a:xfrm>
            <a:off x="6502320" y="4635360"/>
            <a:ext cx="800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47"/>
          <p:cNvSpPr/>
          <p:nvPr/>
        </p:nvSpPr>
        <p:spPr>
          <a:xfrm>
            <a:off x="6566040" y="5918040"/>
            <a:ext cx="965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8"/>
          <p:cNvSpPr/>
          <p:nvPr/>
        </p:nvSpPr>
        <p:spPr>
          <a:xfrm>
            <a:off x="6718320" y="739152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,00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49"/>
          <p:cNvGrpSpPr/>
          <p:nvPr/>
        </p:nvGrpSpPr>
        <p:grpSpPr>
          <a:xfrm>
            <a:off x="4343400" y="2933640"/>
            <a:ext cx="5549760" cy="5016600"/>
            <a:chOff x="4343400" y="2933640"/>
            <a:chExt cx="5549760" cy="5016600"/>
          </a:xfrm>
        </p:grpSpPr>
        <p:sp>
          <p:nvSpPr>
            <p:cNvPr id="391" name="Freeform 1"/>
            <p:cNvSpPr/>
            <p:nvPr/>
          </p:nvSpPr>
          <p:spPr>
            <a:xfrm>
              <a:off x="4965480" y="687096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"/>
            <p:cNvSpPr/>
            <p:nvPr/>
          </p:nvSpPr>
          <p:spPr>
            <a:xfrm>
              <a:off x="9360000" y="6870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"/>
            <p:cNvSpPr/>
            <p:nvPr/>
          </p:nvSpPr>
          <p:spPr>
            <a:xfrm>
              <a:off x="4965480" y="5549760"/>
              <a:ext cx="4406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9360000" y="5549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4965480" y="427968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9360000" y="42796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4965480" y="297144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9360000" y="297144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4813200" y="694692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9283680" y="694692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4813200" y="5638680"/>
              <a:ext cx="4610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9283680" y="563868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4813200" y="435600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9283680" y="435600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4813200" y="304776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9283680" y="304776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5067000" y="698508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4965480" y="778536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9105840" y="698508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8991720" y="77853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9791640" y="70232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5067000" y="567684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4965480" y="647712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9105840" y="567684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8991720" y="6477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9791640" y="5715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5067000" y="440676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4965480" y="520704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9105840" y="440676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8991720" y="5207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9791640" y="44449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5067000" y="308592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4965480" y="389880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9105840" y="308592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899172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9791640" y="31240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7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43400" y="293364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43400" y="424152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368600" y="5511960"/>
              <a:ext cx="1117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43400" y="6832800"/>
              <a:ext cx="1130040" cy="11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50"/>
          <p:cNvGrpSpPr/>
          <p:nvPr/>
        </p:nvGrpSpPr>
        <p:grpSpPr>
          <a:xfrm>
            <a:off x="3225960" y="762120"/>
            <a:ext cx="7861320" cy="1942920"/>
            <a:chOff x="3225960" y="762120"/>
            <a:chExt cx="7861320" cy="1942920"/>
          </a:xfrm>
        </p:grpSpPr>
        <p:sp>
          <p:nvSpPr>
            <p:cNvPr id="432" name="Freeform 41"/>
            <p:cNvSpPr/>
            <p:nvPr/>
          </p:nvSpPr>
          <p:spPr>
            <a:xfrm>
              <a:off x="3225960" y="762120"/>
              <a:ext cx="786132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314520" y="95256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Freeform 43"/>
            <p:cNvSpPr/>
            <p:nvPr/>
          </p:nvSpPr>
          <p:spPr>
            <a:xfrm>
              <a:off x="3301920" y="850680"/>
              <a:ext cx="7709040" cy="17654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TextBox 44"/>
          <p:cNvSpPr/>
          <p:nvPr/>
        </p:nvSpPr>
        <p:spPr>
          <a:xfrm>
            <a:off x="4902120" y="1206360"/>
            <a:ext cx="5740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How many minutes are in 2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45"/>
          <p:cNvSpPr/>
          <p:nvPr/>
        </p:nvSpPr>
        <p:spPr>
          <a:xfrm>
            <a:off x="5905440" y="344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44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6"/>
          <p:cNvSpPr/>
          <p:nvPr/>
        </p:nvSpPr>
        <p:spPr>
          <a:xfrm>
            <a:off x="5918040" y="46609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6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47"/>
          <p:cNvSpPr/>
          <p:nvPr/>
        </p:nvSpPr>
        <p:spPr>
          <a:xfrm>
            <a:off x="6058080" y="5943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,4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6045120" y="721368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2,800 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9"/>
          <p:cNvGrpSpPr/>
          <p:nvPr/>
        </p:nvGrpSpPr>
        <p:grpSpPr>
          <a:xfrm>
            <a:off x="4432320" y="622440"/>
            <a:ext cx="7505640" cy="1854000"/>
            <a:chOff x="4432320" y="622440"/>
            <a:chExt cx="7505640" cy="1854000"/>
          </a:xfrm>
        </p:grpSpPr>
        <p:sp>
          <p:nvSpPr>
            <p:cNvPr id="441" name="Freeform 1"/>
            <p:cNvSpPr/>
            <p:nvPr/>
          </p:nvSpPr>
          <p:spPr>
            <a:xfrm>
              <a:off x="4432320" y="622440"/>
              <a:ext cx="7505640" cy="1854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2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4520880" y="799920"/>
              <a:ext cx="1384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Freeform 3"/>
            <p:cNvSpPr/>
            <p:nvPr/>
          </p:nvSpPr>
          <p:spPr>
            <a:xfrm>
              <a:off x="4495680" y="711000"/>
              <a:ext cx="737892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50"/>
          <p:cNvGrpSpPr/>
          <p:nvPr/>
        </p:nvGrpSpPr>
        <p:grpSpPr>
          <a:xfrm>
            <a:off x="5321160" y="2857680"/>
            <a:ext cx="5753160" cy="5206680"/>
            <a:chOff x="5321160" y="2857680"/>
            <a:chExt cx="5753160" cy="5206680"/>
          </a:xfrm>
        </p:grpSpPr>
        <p:sp>
          <p:nvSpPr>
            <p:cNvPr id="445" name="Freeform 4"/>
            <p:cNvSpPr/>
            <p:nvPr/>
          </p:nvSpPr>
          <p:spPr>
            <a:xfrm>
              <a:off x="5968800" y="693432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>
              <a:off x="10515600" y="693432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5968800" y="557532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0515600" y="557532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5968800" y="425448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10515600" y="42544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5968800" y="289548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10515600" y="28954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>
              <a:off x="5803560" y="7023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10439280" y="7023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5803560" y="5664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10439280" y="5664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5803560" y="4343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7"/>
            <p:cNvSpPr/>
            <p:nvPr/>
          </p:nvSpPr>
          <p:spPr>
            <a:xfrm>
              <a:off x="10439280" y="4343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803560" y="2984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10439280" y="2984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070320" y="7061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5968800" y="78994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10248840" y="7061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10134720" y="78994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4"/>
            <p:cNvSpPr/>
            <p:nvPr/>
          </p:nvSpPr>
          <p:spPr>
            <a:xfrm>
              <a:off x="10960200" y="7099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>
              <a:off x="6070320" y="5702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>
              <a:off x="5968800" y="6527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10248840" y="5702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10134720" y="6527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960200" y="574056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6070320" y="4381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5968800" y="52196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0248840" y="4381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10134720" y="5219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10960200" y="4419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6070320" y="3022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5968800" y="38480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10248840" y="3022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134720" y="38480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9"/>
            <p:cNvSpPr/>
            <p:nvPr/>
          </p:nvSpPr>
          <p:spPr>
            <a:xfrm>
              <a:off x="10960200" y="3060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321160" y="28576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321160" y="42163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346360" y="5537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321160" y="6896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TextBox 44"/>
          <p:cNvSpPr/>
          <p:nvPr/>
        </p:nvSpPr>
        <p:spPr>
          <a:xfrm>
            <a:off x="5854680" y="1054080"/>
            <a:ext cx="589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The design for a house showes that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s 252 inches tall. How tall is the hou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n yard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5"/>
          <p:cNvSpPr/>
          <p:nvPr/>
        </p:nvSpPr>
        <p:spPr>
          <a:xfrm>
            <a:off x="6985080" y="32385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7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6"/>
          <p:cNvSpPr/>
          <p:nvPr/>
        </p:nvSpPr>
        <p:spPr>
          <a:xfrm>
            <a:off x="6934320" y="45338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9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6908760" y="590544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2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6896160" y="7289640"/>
            <a:ext cx="1536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1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32120" y="139680"/>
            <a:ext cx="10845720" cy="72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40"/>
                </a:solidFill>
                <a:latin typeface="Curlz MT"/>
              </a:rPr>
              <a:t>PA Standard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ing among metric measure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milli, centi, kilo using meter, liter, and gra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customary measurments up to 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above or below the given unit (eg.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rds, pints to 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time to up to 2 units above or be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n unit (eg. secondes to hou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4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from Fahrenheit or Celsius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hrenhe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91960" y="1295280"/>
            <a:ext cx="2349720" cy="6121440"/>
            <a:chOff x="291960" y="1295280"/>
            <a:chExt cx="2349720" cy="6121440"/>
          </a:xfrm>
        </p:grpSpPr>
        <p:sp>
          <p:nvSpPr>
            <p:cNvPr id="106" name="Freeform 2"/>
            <p:cNvSpPr/>
            <p:nvPr/>
          </p:nvSpPr>
          <p:spPr>
            <a:xfrm>
              <a:off x="507600" y="3429000"/>
              <a:ext cx="1841760" cy="38354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3" descr="tempimage23.tiff"/>
            <p:cNvPicPr/>
            <p:nvPr/>
          </p:nvPicPr>
          <p:blipFill>
            <a:blip r:embed="rId1"/>
            <a:stretch/>
          </p:blipFill>
          <p:spPr>
            <a:xfrm>
              <a:off x="291960" y="1295280"/>
              <a:ext cx="2349720" cy="612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4" descr="tempimage24.tiff"/>
          <p:cNvPicPr/>
          <p:nvPr/>
        </p:nvPicPr>
        <p:blipFill>
          <a:blip r:embed="rId2"/>
          <a:stretch/>
        </p:blipFill>
        <p:spPr>
          <a:xfrm>
            <a:off x="622440" y="7950240"/>
            <a:ext cx="830556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9"/>
          <p:cNvGrpSpPr/>
          <p:nvPr/>
        </p:nvGrpSpPr>
        <p:grpSpPr>
          <a:xfrm>
            <a:off x="9524880" y="6946920"/>
            <a:ext cx="2248200" cy="3149640"/>
            <a:chOff x="9524880" y="6946920"/>
            <a:chExt cx="2248200" cy="3149640"/>
          </a:xfrm>
        </p:grpSpPr>
        <p:pic>
          <p:nvPicPr>
            <p:cNvPr id="110" name="Picture 5" descr="tempimage25.tiff"/>
            <p:cNvPicPr/>
            <p:nvPr/>
          </p:nvPicPr>
          <p:blipFill>
            <a:blip r:embed="rId3"/>
            <a:stretch/>
          </p:blipFill>
          <p:spPr>
            <a:xfrm>
              <a:off x="9524880" y="6946920"/>
              <a:ext cx="224820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tempimage26.tiff"/>
            <p:cNvPicPr/>
            <p:nvPr/>
          </p:nvPicPr>
          <p:blipFill>
            <a:blip r:embed="rId4"/>
            <a:stretch/>
          </p:blipFill>
          <p:spPr>
            <a:xfrm>
              <a:off x="10541160" y="8089920"/>
              <a:ext cx="21564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7" descr="tempimage27.tiff"/>
          <p:cNvPicPr/>
          <p:nvPr/>
        </p:nvPicPr>
        <p:blipFill>
          <a:blip r:embed="rId5"/>
          <a:stretch/>
        </p:blipFill>
        <p:spPr>
          <a:xfrm>
            <a:off x="13373280" y="2565360"/>
            <a:ext cx="21207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9"/>
          <p:cNvGrpSpPr/>
          <p:nvPr/>
        </p:nvGrpSpPr>
        <p:grpSpPr>
          <a:xfrm>
            <a:off x="5321160" y="3187800"/>
            <a:ext cx="5778720" cy="5232240"/>
            <a:chOff x="5321160" y="3187800"/>
            <a:chExt cx="5778720" cy="5232240"/>
          </a:xfrm>
        </p:grpSpPr>
        <p:sp>
          <p:nvSpPr>
            <p:cNvPr id="491" name="Freeform 1"/>
            <p:cNvSpPr/>
            <p:nvPr/>
          </p:nvSpPr>
          <p:spPr>
            <a:xfrm>
              <a:off x="5968800" y="72900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"/>
            <p:cNvSpPr/>
            <p:nvPr/>
          </p:nvSpPr>
          <p:spPr>
            <a:xfrm>
              <a:off x="10541160" y="72900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"/>
            <p:cNvSpPr/>
            <p:nvPr/>
          </p:nvSpPr>
          <p:spPr>
            <a:xfrm>
              <a:off x="5968800" y="59184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10541160" y="59184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5968800" y="4597200"/>
              <a:ext cx="458496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10541160" y="459720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968800" y="32256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10541160" y="32256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816160" y="736596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0464840" y="73659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5816160" y="600696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10464840" y="60069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5816160" y="467352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10464840" y="467352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5816160" y="331452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10464840" y="33145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7"/>
            <p:cNvSpPr/>
            <p:nvPr/>
          </p:nvSpPr>
          <p:spPr>
            <a:xfrm>
              <a:off x="6070320" y="74167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5968800" y="82551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10274400" y="74167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10160280" y="82551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10985760" y="74548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6070320" y="60451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5968800" y="68835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10274400" y="60451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10160280" y="68835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10985760" y="608328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6070320" y="47242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5968800" y="55497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9"/>
            <p:cNvSpPr/>
            <p:nvPr/>
          </p:nvSpPr>
          <p:spPr>
            <a:xfrm>
              <a:off x="10274400" y="47242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0"/>
            <p:cNvSpPr/>
            <p:nvPr/>
          </p:nvSpPr>
          <p:spPr>
            <a:xfrm>
              <a:off x="10160280" y="55497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10985760" y="4762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6070320" y="33526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5968800" y="419112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10274400" y="33526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10160280" y="41911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10985760" y="339084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7" name="Picture 37" descr="tempimage2037.tiff"/>
            <p:cNvPicPr/>
            <p:nvPr/>
          </p:nvPicPr>
          <p:blipFill>
            <a:blip r:embed="rId1"/>
            <a:stretch/>
          </p:blipFill>
          <p:spPr>
            <a:xfrm>
              <a:off x="5321160" y="3187800"/>
              <a:ext cx="11811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38" descr="tempimage2038.tiff"/>
            <p:cNvPicPr/>
            <p:nvPr/>
          </p:nvPicPr>
          <p:blipFill>
            <a:blip r:embed="rId2"/>
            <a:stretch/>
          </p:blipFill>
          <p:spPr>
            <a:xfrm>
              <a:off x="5321160" y="4559400"/>
              <a:ext cx="11811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9" descr="tempimage2039.tiff"/>
            <p:cNvPicPr/>
            <p:nvPr/>
          </p:nvPicPr>
          <p:blipFill>
            <a:blip r:embed="rId3"/>
            <a:stretch/>
          </p:blipFill>
          <p:spPr>
            <a:xfrm>
              <a:off x="5346360" y="5880240"/>
              <a:ext cx="116820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0" descr="tempimage2040.tiff"/>
            <p:cNvPicPr/>
            <p:nvPr/>
          </p:nvPicPr>
          <p:blipFill>
            <a:blip r:embed="rId4"/>
            <a:stretch/>
          </p:blipFill>
          <p:spPr>
            <a:xfrm>
              <a:off x="5321160" y="7251840"/>
              <a:ext cx="118116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50"/>
          <p:cNvGrpSpPr/>
          <p:nvPr/>
        </p:nvGrpSpPr>
        <p:grpSpPr>
          <a:xfrm>
            <a:off x="4178160" y="876240"/>
            <a:ext cx="7747200" cy="1917720"/>
            <a:chOff x="4178160" y="876240"/>
            <a:chExt cx="7747200" cy="1917720"/>
          </a:xfrm>
        </p:grpSpPr>
        <p:sp>
          <p:nvSpPr>
            <p:cNvPr id="532" name="Freeform 41"/>
            <p:cNvSpPr/>
            <p:nvPr/>
          </p:nvSpPr>
          <p:spPr>
            <a:xfrm>
              <a:off x="4178160" y="876240"/>
              <a:ext cx="7747200" cy="19177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3" name="Picture 42" descr="tempimage2042.tiff"/>
            <p:cNvPicPr/>
            <p:nvPr/>
          </p:nvPicPr>
          <p:blipFill>
            <a:blip r:embed="rId5"/>
            <a:stretch/>
          </p:blipFill>
          <p:spPr>
            <a:xfrm>
              <a:off x="4266720" y="1053720"/>
              <a:ext cx="1434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Freeform 43"/>
            <p:cNvSpPr/>
            <p:nvPr/>
          </p:nvSpPr>
          <p:spPr>
            <a:xfrm>
              <a:off x="4254120" y="964800"/>
              <a:ext cx="7594920" cy="17402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Box 44"/>
          <p:cNvSpPr/>
          <p:nvPr/>
        </p:nvSpPr>
        <p:spPr>
          <a:xfrm>
            <a:off x="5626080" y="1308240"/>
            <a:ext cx="5803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gata buys 1.4 kg of apples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grams of apples does she bu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7124760" y="3556080"/>
            <a:ext cx="105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0.14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6"/>
          <p:cNvSpPr/>
          <p:nvPr/>
        </p:nvSpPr>
        <p:spPr>
          <a:xfrm>
            <a:off x="7238880" y="49658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7"/>
          <p:cNvSpPr/>
          <p:nvPr/>
        </p:nvSpPr>
        <p:spPr>
          <a:xfrm>
            <a:off x="7226280" y="627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0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48"/>
          <p:cNvSpPr/>
          <p:nvPr/>
        </p:nvSpPr>
        <p:spPr>
          <a:xfrm>
            <a:off x="7277040" y="7683480"/>
            <a:ext cx="1486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1,400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3720960" y="457200"/>
            <a:ext cx="8102880" cy="1994040"/>
            <a:chOff x="3720960" y="457200"/>
            <a:chExt cx="8102880" cy="1994040"/>
          </a:xfrm>
        </p:grpSpPr>
        <p:sp>
          <p:nvSpPr>
            <p:cNvPr id="541" name="Freeform 1"/>
            <p:cNvSpPr/>
            <p:nvPr/>
          </p:nvSpPr>
          <p:spPr>
            <a:xfrm>
              <a:off x="3720960" y="457200"/>
              <a:ext cx="8102880" cy="1994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2" name="Picture 2" descr="tempimage212.tiff"/>
            <p:cNvPicPr/>
            <p:nvPr/>
          </p:nvPicPr>
          <p:blipFill>
            <a:blip r:embed="rId1"/>
            <a:stretch/>
          </p:blipFill>
          <p:spPr>
            <a:xfrm>
              <a:off x="3822480" y="647640"/>
              <a:ext cx="14986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Freeform 3"/>
            <p:cNvSpPr/>
            <p:nvPr/>
          </p:nvSpPr>
          <p:spPr>
            <a:xfrm>
              <a:off x="3796920" y="558720"/>
              <a:ext cx="7963200" cy="18036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50"/>
          <p:cNvGrpSpPr/>
          <p:nvPr/>
        </p:nvGrpSpPr>
        <p:grpSpPr>
          <a:xfrm>
            <a:off x="4648320" y="2793960"/>
            <a:ext cx="5587920" cy="5054760"/>
            <a:chOff x="4648320" y="2793960"/>
            <a:chExt cx="5587920" cy="5054760"/>
          </a:xfrm>
        </p:grpSpPr>
        <p:sp>
          <p:nvSpPr>
            <p:cNvPr id="545" name="Freeform 4"/>
            <p:cNvSpPr/>
            <p:nvPr/>
          </p:nvSpPr>
          <p:spPr>
            <a:xfrm>
              <a:off x="5283000" y="675648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9703080" y="675648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5283000" y="543564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9703080" y="543564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5283000" y="41529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9703080" y="41529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5283000" y="28317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9703080" y="2831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5118120" y="683280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9614160" y="68328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118120" y="551196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614160" y="55119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5118120" y="422892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9614160" y="4228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118120" y="290808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9614160" y="290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5371920" y="68709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283000" y="768384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9436320" y="6870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9321840" y="7683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0134720" y="6909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5371920" y="5550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5283000" y="636300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9436320" y="5550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321840" y="6363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0134720" y="558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5371920" y="42670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5283000" y="507996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436320" y="4267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9321840" y="50799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10134720" y="43178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5371920" y="294624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5283000" y="375912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9436320" y="294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9321840" y="375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0134720" y="2997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0" descr="tempimage2140.tiff"/>
            <p:cNvPicPr/>
            <p:nvPr/>
          </p:nvPicPr>
          <p:blipFill>
            <a:blip r:embed="rId2"/>
            <a:stretch/>
          </p:blipFill>
          <p:spPr>
            <a:xfrm>
              <a:off x="4648320" y="2793960"/>
              <a:ext cx="11430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1" descr="tempimage2141.tiff"/>
            <p:cNvPicPr/>
            <p:nvPr/>
          </p:nvPicPr>
          <p:blipFill>
            <a:blip r:embed="rId3"/>
            <a:stretch/>
          </p:blipFill>
          <p:spPr>
            <a:xfrm>
              <a:off x="4648320" y="4114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2" descr="tempimage2142.tiff"/>
            <p:cNvPicPr/>
            <p:nvPr/>
          </p:nvPicPr>
          <p:blipFill>
            <a:blip r:embed="rId4"/>
            <a:stretch/>
          </p:blipFill>
          <p:spPr>
            <a:xfrm>
              <a:off x="4673520" y="539748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3" descr="tempimage2143.tiff"/>
            <p:cNvPicPr/>
            <p:nvPr/>
          </p:nvPicPr>
          <p:blipFill>
            <a:blip r:embed="rId5"/>
            <a:stretch/>
          </p:blipFill>
          <p:spPr>
            <a:xfrm>
              <a:off x="4648320" y="6718320"/>
              <a:ext cx="114300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TextBox 44"/>
          <p:cNvSpPr/>
          <p:nvPr/>
        </p:nvSpPr>
        <p:spPr>
          <a:xfrm>
            <a:off x="5524560" y="965160"/>
            <a:ext cx="627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hours is 5,760 secon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>
            <a:off x="6019920" y="320040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0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>
            <a:off x="6159600" y="4622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2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>
            <a:off x="6222960" y="5778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4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>
            <a:off x="6362640" y="7061040"/>
            <a:ext cx="1676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6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9"/>
          <p:cNvGrpSpPr/>
          <p:nvPr/>
        </p:nvGrpSpPr>
        <p:grpSpPr>
          <a:xfrm>
            <a:off x="5549760" y="3060720"/>
            <a:ext cx="5410440" cy="4889520"/>
            <a:chOff x="5549760" y="3060720"/>
            <a:chExt cx="5410440" cy="4889520"/>
          </a:xfrm>
        </p:grpSpPr>
        <p:sp>
          <p:nvSpPr>
            <p:cNvPr id="591" name="Freeform 1"/>
            <p:cNvSpPr/>
            <p:nvPr/>
          </p:nvSpPr>
          <p:spPr>
            <a:xfrm>
              <a:off x="6159240" y="68961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"/>
            <p:cNvSpPr/>
            <p:nvPr/>
          </p:nvSpPr>
          <p:spPr>
            <a:xfrm>
              <a:off x="10439640" y="68961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6159240" y="561348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10439640" y="561348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6159240" y="43815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10439640" y="43815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159240" y="309852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10439640" y="309852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006960" y="697248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0363320" y="697248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006960" y="568980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10363320" y="568980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6006960" y="445752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10363320" y="445752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6006960" y="317484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6"/>
            <p:cNvSpPr/>
            <p:nvPr/>
          </p:nvSpPr>
          <p:spPr>
            <a:xfrm>
              <a:off x="10363320" y="317484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6260760" y="701064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6159240" y="778536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10185480" y="70106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"/>
            <p:cNvSpPr/>
            <p:nvPr/>
          </p:nvSpPr>
          <p:spPr>
            <a:xfrm>
              <a:off x="10071360" y="778536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1"/>
            <p:cNvSpPr/>
            <p:nvPr/>
          </p:nvSpPr>
          <p:spPr>
            <a:xfrm>
              <a:off x="10858680" y="70488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6260760" y="57276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6159240" y="651528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4"/>
            <p:cNvSpPr/>
            <p:nvPr/>
          </p:nvSpPr>
          <p:spPr>
            <a:xfrm>
              <a:off x="10185480" y="57276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5"/>
            <p:cNvSpPr/>
            <p:nvPr/>
          </p:nvSpPr>
          <p:spPr>
            <a:xfrm>
              <a:off x="10071360" y="651528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6"/>
            <p:cNvSpPr/>
            <p:nvPr/>
          </p:nvSpPr>
          <p:spPr>
            <a:xfrm>
              <a:off x="10858680" y="57657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7"/>
            <p:cNvSpPr/>
            <p:nvPr/>
          </p:nvSpPr>
          <p:spPr>
            <a:xfrm>
              <a:off x="6260760" y="449568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6159240" y="527040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10185480" y="44956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10071360" y="527040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10858680" y="45338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6260760" y="32130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159240" y="400032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10185480" y="3213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10071360" y="400032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10858680" y="32511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37" descr="tempimage2237.tiff"/>
            <p:cNvPicPr/>
            <p:nvPr/>
          </p:nvPicPr>
          <p:blipFill>
            <a:blip r:embed="rId1"/>
            <a:stretch/>
          </p:blipFill>
          <p:spPr>
            <a:xfrm>
              <a:off x="5549760" y="306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8" descr="tempimage2238.tiff"/>
            <p:cNvPicPr/>
            <p:nvPr/>
          </p:nvPicPr>
          <p:blipFill>
            <a:blip r:embed="rId2"/>
            <a:stretch/>
          </p:blipFill>
          <p:spPr>
            <a:xfrm>
              <a:off x="5549760" y="4343400"/>
              <a:ext cx="11048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9" descr="tempimage2239.tiff"/>
            <p:cNvPicPr/>
            <p:nvPr/>
          </p:nvPicPr>
          <p:blipFill>
            <a:blip r:embed="rId3"/>
            <a:stretch/>
          </p:blipFill>
          <p:spPr>
            <a:xfrm>
              <a:off x="5574960" y="5575320"/>
              <a:ext cx="10922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40" descr="tempimage2240.tiff"/>
            <p:cNvPicPr/>
            <p:nvPr/>
          </p:nvPicPr>
          <p:blipFill>
            <a:blip r:embed="rId4"/>
            <a:stretch/>
          </p:blipFill>
          <p:spPr>
            <a:xfrm>
              <a:off x="5549760" y="6858000"/>
              <a:ext cx="110484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Group 50"/>
          <p:cNvGrpSpPr/>
          <p:nvPr/>
        </p:nvGrpSpPr>
        <p:grpSpPr>
          <a:xfrm>
            <a:off x="4305240" y="609480"/>
            <a:ext cx="8153640" cy="2006640"/>
            <a:chOff x="4305240" y="609480"/>
            <a:chExt cx="8153640" cy="2006640"/>
          </a:xfrm>
        </p:grpSpPr>
        <p:sp>
          <p:nvSpPr>
            <p:cNvPr id="632" name="Freeform 41"/>
            <p:cNvSpPr/>
            <p:nvPr/>
          </p:nvSpPr>
          <p:spPr>
            <a:xfrm>
              <a:off x="4305240" y="609480"/>
              <a:ext cx="815364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42" descr="tempimage2242.tiff"/>
            <p:cNvPicPr/>
            <p:nvPr/>
          </p:nvPicPr>
          <p:blipFill>
            <a:blip r:embed="rId5"/>
            <a:stretch/>
          </p:blipFill>
          <p:spPr>
            <a:xfrm>
              <a:off x="4406760" y="799920"/>
              <a:ext cx="151128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Freeform 43"/>
            <p:cNvSpPr/>
            <p:nvPr/>
          </p:nvSpPr>
          <p:spPr>
            <a:xfrm>
              <a:off x="4381200" y="711000"/>
              <a:ext cx="8013960" cy="18162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TextBox 44"/>
          <p:cNvSpPr/>
          <p:nvPr/>
        </p:nvSpPr>
        <p:spPr>
          <a:xfrm>
            <a:off x="6006960" y="9270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Evan stores soup in a 3 - quart contain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w many cups of soup will the contai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45"/>
          <p:cNvSpPr/>
          <p:nvPr/>
        </p:nvSpPr>
        <p:spPr>
          <a:xfrm>
            <a:off x="7277040" y="342900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4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6"/>
          <p:cNvSpPr/>
          <p:nvPr/>
        </p:nvSpPr>
        <p:spPr>
          <a:xfrm>
            <a:off x="7365960" y="47498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6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7"/>
          <p:cNvSpPr/>
          <p:nvPr/>
        </p:nvSpPr>
        <p:spPr>
          <a:xfrm>
            <a:off x="7416720" y="605808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2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8"/>
          <p:cNvSpPr/>
          <p:nvPr/>
        </p:nvSpPr>
        <p:spPr>
          <a:xfrm>
            <a:off x="7404120" y="725184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8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49"/>
          <p:cNvGrpSpPr/>
          <p:nvPr/>
        </p:nvGrpSpPr>
        <p:grpSpPr>
          <a:xfrm>
            <a:off x="3543480" y="495360"/>
            <a:ext cx="7962840" cy="1968480"/>
            <a:chOff x="3543480" y="495360"/>
            <a:chExt cx="7962840" cy="1968480"/>
          </a:xfrm>
        </p:grpSpPr>
        <p:sp>
          <p:nvSpPr>
            <p:cNvPr id="641" name="Freeform 1"/>
            <p:cNvSpPr/>
            <p:nvPr/>
          </p:nvSpPr>
          <p:spPr>
            <a:xfrm>
              <a:off x="3543480" y="495360"/>
              <a:ext cx="7962840" cy="19684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2" descr="tempimage232.tiff"/>
            <p:cNvPicPr/>
            <p:nvPr/>
          </p:nvPicPr>
          <p:blipFill>
            <a:blip r:embed="rId1"/>
            <a:stretch/>
          </p:blipFill>
          <p:spPr>
            <a:xfrm>
              <a:off x="3632040" y="685800"/>
              <a:ext cx="14731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Freeform 3"/>
            <p:cNvSpPr/>
            <p:nvPr/>
          </p:nvSpPr>
          <p:spPr>
            <a:xfrm>
              <a:off x="3619440" y="583920"/>
              <a:ext cx="7810560" cy="17910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4800600" y="2921040"/>
            <a:ext cx="5727600" cy="5181480"/>
            <a:chOff x="4800600" y="2921040"/>
            <a:chExt cx="5727600" cy="5181480"/>
          </a:xfrm>
        </p:grpSpPr>
        <p:sp>
          <p:nvSpPr>
            <p:cNvPr id="645" name="Freeform 4"/>
            <p:cNvSpPr/>
            <p:nvPr/>
          </p:nvSpPr>
          <p:spPr>
            <a:xfrm>
              <a:off x="5448240" y="6985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9969480" y="6985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"/>
            <p:cNvSpPr/>
            <p:nvPr/>
          </p:nvSpPr>
          <p:spPr>
            <a:xfrm>
              <a:off x="5448240" y="5626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7"/>
            <p:cNvSpPr/>
            <p:nvPr/>
          </p:nvSpPr>
          <p:spPr>
            <a:xfrm>
              <a:off x="9969480" y="5626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448240" y="4317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9"/>
            <p:cNvSpPr/>
            <p:nvPr/>
          </p:nvSpPr>
          <p:spPr>
            <a:xfrm>
              <a:off x="9969480" y="4317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5448240" y="2958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9969480" y="2958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2"/>
            <p:cNvSpPr/>
            <p:nvPr/>
          </p:nvSpPr>
          <p:spPr>
            <a:xfrm>
              <a:off x="5283000" y="70614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9893520" y="7061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14"/>
            <p:cNvSpPr/>
            <p:nvPr/>
          </p:nvSpPr>
          <p:spPr>
            <a:xfrm>
              <a:off x="5283000" y="57150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15"/>
            <p:cNvSpPr/>
            <p:nvPr/>
          </p:nvSpPr>
          <p:spPr>
            <a:xfrm>
              <a:off x="9893520" y="57150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6"/>
            <p:cNvSpPr/>
            <p:nvPr/>
          </p:nvSpPr>
          <p:spPr>
            <a:xfrm>
              <a:off x="5283000" y="43941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7"/>
            <p:cNvSpPr/>
            <p:nvPr/>
          </p:nvSpPr>
          <p:spPr>
            <a:xfrm>
              <a:off x="9893520" y="43941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5283000" y="30477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9"/>
            <p:cNvSpPr/>
            <p:nvPr/>
          </p:nvSpPr>
          <p:spPr>
            <a:xfrm>
              <a:off x="9893520" y="30477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549760" y="70992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>
              <a:off x="5448240" y="7937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2"/>
            <p:cNvSpPr/>
            <p:nvPr/>
          </p:nvSpPr>
          <p:spPr>
            <a:xfrm>
              <a:off x="9715680" y="709920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9588600" y="7937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0414080" y="7150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5"/>
            <p:cNvSpPr/>
            <p:nvPr/>
          </p:nvSpPr>
          <p:spPr>
            <a:xfrm>
              <a:off x="5549760" y="57531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26"/>
            <p:cNvSpPr/>
            <p:nvPr/>
          </p:nvSpPr>
          <p:spPr>
            <a:xfrm>
              <a:off x="5448240" y="6578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27"/>
            <p:cNvSpPr/>
            <p:nvPr/>
          </p:nvSpPr>
          <p:spPr>
            <a:xfrm>
              <a:off x="9715680" y="5753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8"/>
            <p:cNvSpPr/>
            <p:nvPr/>
          </p:nvSpPr>
          <p:spPr>
            <a:xfrm>
              <a:off x="9588600" y="6578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9"/>
            <p:cNvSpPr/>
            <p:nvPr/>
          </p:nvSpPr>
          <p:spPr>
            <a:xfrm>
              <a:off x="10414080" y="5791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0"/>
            <p:cNvSpPr/>
            <p:nvPr/>
          </p:nvSpPr>
          <p:spPr>
            <a:xfrm>
              <a:off x="5549760" y="44323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1"/>
            <p:cNvSpPr/>
            <p:nvPr/>
          </p:nvSpPr>
          <p:spPr>
            <a:xfrm>
              <a:off x="5448240" y="5270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2"/>
            <p:cNvSpPr/>
            <p:nvPr/>
          </p:nvSpPr>
          <p:spPr>
            <a:xfrm>
              <a:off x="9715680" y="44323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3"/>
            <p:cNvSpPr/>
            <p:nvPr/>
          </p:nvSpPr>
          <p:spPr>
            <a:xfrm>
              <a:off x="9588600" y="5270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4"/>
            <p:cNvSpPr/>
            <p:nvPr/>
          </p:nvSpPr>
          <p:spPr>
            <a:xfrm>
              <a:off x="10414080" y="44830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5"/>
            <p:cNvSpPr/>
            <p:nvPr/>
          </p:nvSpPr>
          <p:spPr>
            <a:xfrm>
              <a:off x="5549760" y="30859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36"/>
            <p:cNvSpPr/>
            <p:nvPr/>
          </p:nvSpPr>
          <p:spPr>
            <a:xfrm>
              <a:off x="5448240" y="3911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37"/>
            <p:cNvSpPr/>
            <p:nvPr/>
          </p:nvSpPr>
          <p:spPr>
            <a:xfrm>
              <a:off x="9715680" y="30859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8"/>
            <p:cNvSpPr/>
            <p:nvPr/>
          </p:nvSpPr>
          <p:spPr>
            <a:xfrm>
              <a:off x="9588600" y="3911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39"/>
            <p:cNvSpPr/>
            <p:nvPr/>
          </p:nvSpPr>
          <p:spPr>
            <a:xfrm>
              <a:off x="10414080" y="31240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Picture 40" descr="tempimage2340.tiff"/>
            <p:cNvPicPr/>
            <p:nvPr/>
          </p:nvPicPr>
          <p:blipFill>
            <a:blip r:embed="rId2"/>
            <a:stretch/>
          </p:blipFill>
          <p:spPr>
            <a:xfrm>
              <a:off x="4800600" y="292104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41" descr="tempimage2341.tiff"/>
            <p:cNvPicPr/>
            <p:nvPr/>
          </p:nvPicPr>
          <p:blipFill>
            <a:blip r:embed="rId3"/>
            <a:stretch/>
          </p:blipFill>
          <p:spPr>
            <a:xfrm>
              <a:off x="4800600" y="4279680"/>
              <a:ext cx="11682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42" descr="tempimage2342.tiff"/>
            <p:cNvPicPr/>
            <p:nvPr/>
          </p:nvPicPr>
          <p:blipFill>
            <a:blip r:embed="rId4"/>
            <a:stretch/>
          </p:blipFill>
          <p:spPr>
            <a:xfrm>
              <a:off x="4825800" y="5587920"/>
              <a:ext cx="11556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43" descr="tempimage2343.tiff"/>
            <p:cNvPicPr/>
            <p:nvPr/>
          </p:nvPicPr>
          <p:blipFill>
            <a:blip r:embed="rId5"/>
            <a:stretch/>
          </p:blipFill>
          <p:spPr>
            <a:xfrm>
              <a:off x="4800600" y="6946920"/>
              <a:ext cx="116820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TextBox 44"/>
          <p:cNvSpPr/>
          <p:nvPr/>
        </p:nvSpPr>
        <p:spPr>
          <a:xfrm>
            <a:off x="5105520" y="749160"/>
            <a:ext cx="5765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If the temperature in a room is 68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F, what 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the temperature in 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C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5"/>
          <p:cNvSpPr/>
          <p:nvPr/>
        </p:nvSpPr>
        <p:spPr>
          <a:xfrm>
            <a:off x="6515280" y="3289320"/>
            <a:ext cx="1002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6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46"/>
          <p:cNvSpPr/>
          <p:nvPr/>
        </p:nvSpPr>
        <p:spPr>
          <a:xfrm>
            <a:off x="6464160" y="4749840"/>
            <a:ext cx="1003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47"/>
          <p:cNvSpPr/>
          <p:nvPr/>
        </p:nvSpPr>
        <p:spPr>
          <a:xfrm>
            <a:off x="6591240" y="6083280"/>
            <a:ext cx="1003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35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48"/>
          <p:cNvSpPr/>
          <p:nvPr/>
        </p:nvSpPr>
        <p:spPr>
          <a:xfrm>
            <a:off x="6642000" y="7391520"/>
            <a:ext cx="927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43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5600880" y="3314880"/>
            <a:ext cx="5626080" cy="5092560"/>
            <a:chOff x="5600880" y="3314880"/>
            <a:chExt cx="5626080" cy="5092560"/>
          </a:xfrm>
        </p:grpSpPr>
        <p:sp>
          <p:nvSpPr>
            <p:cNvPr id="691" name="Freeform 1"/>
            <p:cNvSpPr/>
            <p:nvPr/>
          </p:nvSpPr>
          <p:spPr>
            <a:xfrm>
              <a:off x="6235560" y="730260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"/>
            <p:cNvSpPr/>
            <p:nvPr/>
          </p:nvSpPr>
          <p:spPr>
            <a:xfrm>
              <a:off x="10680840" y="7302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"/>
            <p:cNvSpPr/>
            <p:nvPr/>
          </p:nvSpPr>
          <p:spPr>
            <a:xfrm>
              <a:off x="6235560" y="598176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4"/>
            <p:cNvSpPr/>
            <p:nvPr/>
          </p:nvSpPr>
          <p:spPr>
            <a:xfrm>
              <a:off x="10680840" y="59817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"/>
            <p:cNvSpPr/>
            <p:nvPr/>
          </p:nvSpPr>
          <p:spPr>
            <a:xfrm>
              <a:off x="6235560" y="46864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"/>
            <p:cNvSpPr/>
            <p:nvPr/>
          </p:nvSpPr>
          <p:spPr>
            <a:xfrm>
              <a:off x="10680840" y="46864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"/>
            <p:cNvSpPr/>
            <p:nvPr/>
          </p:nvSpPr>
          <p:spPr>
            <a:xfrm>
              <a:off x="6235560" y="3352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10680840" y="3352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6083280" y="739152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10604880" y="73915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1"/>
            <p:cNvSpPr/>
            <p:nvPr/>
          </p:nvSpPr>
          <p:spPr>
            <a:xfrm>
              <a:off x="6083280" y="60580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"/>
            <p:cNvSpPr/>
            <p:nvPr/>
          </p:nvSpPr>
          <p:spPr>
            <a:xfrm>
              <a:off x="10604880" y="605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3"/>
            <p:cNvSpPr/>
            <p:nvPr/>
          </p:nvSpPr>
          <p:spPr>
            <a:xfrm>
              <a:off x="6083280" y="47624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10604880" y="47624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5"/>
            <p:cNvSpPr/>
            <p:nvPr/>
          </p:nvSpPr>
          <p:spPr>
            <a:xfrm>
              <a:off x="6083280" y="3429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6"/>
            <p:cNvSpPr/>
            <p:nvPr/>
          </p:nvSpPr>
          <p:spPr>
            <a:xfrm>
              <a:off x="10604880" y="3429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"/>
            <p:cNvSpPr/>
            <p:nvPr/>
          </p:nvSpPr>
          <p:spPr>
            <a:xfrm>
              <a:off x="6337440" y="7429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8"/>
            <p:cNvSpPr/>
            <p:nvPr/>
          </p:nvSpPr>
          <p:spPr>
            <a:xfrm>
              <a:off x="6235560" y="8242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9"/>
            <p:cNvSpPr/>
            <p:nvPr/>
          </p:nvSpPr>
          <p:spPr>
            <a:xfrm>
              <a:off x="10427040" y="7429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0"/>
            <p:cNvSpPr/>
            <p:nvPr/>
          </p:nvSpPr>
          <p:spPr>
            <a:xfrm>
              <a:off x="10312560" y="8242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1"/>
            <p:cNvSpPr/>
            <p:nvPr/>
          </p:nvSpPr>
          <p:spPr>
            <a:xfrm>
              <a:off x="11125440" y="7467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6337440" y="60962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6235560" y="690912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4"/>
            <p:cNvSpPr/>
            <p:nvPr/>
          </p:nvSpPr>
          <p:spPr>
            <a:xfrm>
              <a:off x="10427040" y="609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10312560" y="690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6"/>
            <p:cNvSpPr/>
            <p:nvPr/>
          </p:nvSpPr>
          <p:spPr>
            <a:xfrm>
              <a:off x="11125440" y="6134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7"/>
            <p:cNvSpPr/>
            <p:nvPr/>
          </p:nvSpPr>
          <p:spPr>
            <a:xfrm>
              <a:off x="6337440" y="4800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6235560" y="5613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10427040" y="4800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10312560" y="5613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11125440" y="4838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6337440" y="34797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3"/>
            <p:cNvSpPr/>
            <p:nvPr/>
          </p:nvSpPr>
          <p:spPr>
            <a:xfrm>
              <a:off x="6235560" y="42926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4"/>
            <p:cNvSpPr/>
            <p:nvPr/>
          </p:nvSpPr>
          <p:spPr>
            <a:xfrm>
              <a:off x="10427040" y="3479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5"/>
            <p:cNvSpPr/>
            <p:nvPr/>
          </p:nvSpPr>
          <p:spPr>
            <a:xfrm>
              <a:off x="10312560" y="4292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6"/>
            <p:cNvSpPr/>
            <p:nvPr/>
          </p:nvSpPr>
          <p:spPr>
            <a:xfrm>
              <a:off x="11125440" y="351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37" descr="tempimage2437.tiff"/>
            <p:cNvPicPr/>
            <p:nvPr/>
          </p:nvPicPr>
          <p:blipFill>
            <a:blip r:embed="rId1"/>
            <a:stretch/>
          </p:blipFill>
          <p:spPr>
            <a:xfrm>
              <a:off x="5600880" y="3314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38" descr="tempimage2438.tiff"/>
            <p:cNvPicPr/>
            <p:nvPr/>
          </p:nvPicPr>
          <p:blipFill>
            <a:blip r:embed="rId2"/>
            <a:stretch/>
          </p:blipFill>
          <p:spPr>
            <a:xfrm>
              <a:off x="560088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9" descr="tempimage2439.tiff"/>
            <p:cNvPicPr/>
            <p:nvPr/>
          </p:nvPicPr>
          <p:blipFill>
            <a:blip r:embed="rId3"/>
            <a:stretch/>
          </p:blipFill>
          <p:spPr>
            <a:xfrm>
              <a:off x="5626080" y="593100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0" descr="tempimage2440.tiff"/>
            <p:cNvPicPr/>
            <p:nvPr/>
          </p:nvPicPr>
          <p:blipFill>
            <a:blip r:embed="rId4"/>
            <a:stretch/>
          </p:blipFill>
          <p:spPr>
            <a:xfrm>
              <a:off x="5600880" y="726444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50"/>
          <p:cNvGrpSpPr/>
          <p:nvPr/>
        </p:nvGrpSpPr>
        <p:grpSpPr>
          <a:xfrm>
            <a:off x="4610160" y="914400"/>
            <a:ext cx="7531200" cy="1854360"/>
            <a:chOff x="4610160" y="914400"/>
            <a:chExt cx="7531200" cy="1854360"/>
          </a:xfrm>
        </p:grpSpPr>
        <p:sp>
          <p:nvSpPr>
            <p:cNvPr id="732" name="Freeform 41"/>
            <p:cNvSpPr/>
            <p:nvPr/>
          </p:nvSpPr>
          <p:spPr>
            <a:xfrm>
              <a:off x="4610160" y="914400"/>
              <a:ext cx="753120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3" name="Picture 42" descr="tempimage2442.tiff"/>
            <p:cNvPicPr/>
            <p:nvPr/>
          </p:nvPicPr>
          <p:blipFill>
            <a:blip r:embed="rId5"/>
            <a:stretch/>
          </p:blipFill>
          <p:spPr>
            <a:xfrm>
              <a:off x="4698720" y="1092240"/>
              <a:ext cx="13968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Freeform 43"/>
            <p:cNvSpPr/>
            <p:nvPr/>
          </p:nvSpPr>
          <p:spPr>
            <a:xfrm>
              <a:off x="4673520" y="1003320"/>
              <a:ext cx="740448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extBox 44"/>
          <p:cNvSpPr/>
          <p:nvPr/>
        </p:nvSpPr>
        <p:spPr>
          <a:xfrm>
            <a:off x="6121440" y="1308240"/>
            <a:ext cx="4952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millimeters 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equivalent to 4 kilomete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45"/>
          <p:cNvSpPr/>
          <p:nvPr/>
        </p:nvSpPr>
        <p:spPr>
          <a:xfrm>
            <a:off x="7404120" y="3784680"/>
            <a:ext cx="134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6"/>
          <p:cNvSpPr/>
          <p:nvPr/>
        </p:nvSpPr>
        <p:spPr>
          <a:xfrm>
            <a:off x="7505640" y="5143680"/>
            <a:ext cx="185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47"/>
          <p:cNvSpPr/>
          <p:nvPr/>
        </p:nvSpPr>
        <p:spPr>
          <a:xfrm>
            <a:off x="7467480" y="6388200"/>
            <a:ext cx="2057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48"/>
          <p:cNvSpPr/>
          <p:nvPr/>
        </p:nvSpPr>
        <p:spPr>
          <a:xfrm>
            <a:off x="7543800" y="7759800"/>
            <a:ext cx="256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"/>
          <p:cNvSpPr/>
          <p:nvPr/>
        </p:nvSpPr>
        <p:spPr>
          <a:xfrm>
            <a:off x="2222640" y="3416400"/>
            <a:ext cx="12445920" cy="3936960"/>
          </a:xfrm>
          <a:prstGeom prst="pie">
            <a:avLst/>
          </a:prstGeom>
          <a:solidFill>
            <a:srgbClr val="404040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 rot="18000">
            <a:off x="4965480" y="-37800"/>
            <a:ext cx="9232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40"/>
                </a:solidFill>
                <a:latin typeface="Curlz MT"/>
              </a:rPr>
              <a:t>Conversion Rul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616120" y="5105520"/>
            <a:ext cx="1067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441600" y="5079960"/>
            <a:ext cx="19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676840" y="5079960"/>
            <a:ext cx="1270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277040" y="5092560"/>
            <a:ext cx="1575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9067680" y="516888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10680840" y="5054760"/>
            <a:ext cx="12826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230280" y="5067360"/>
            <a:ext cx="1104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581280" y="6908760"/>
            <a:ext cx="63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09640" y="405144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 rot="21047400">
            <a:off x="1358640" y="7835760"/>
            <a:ext cx="1492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2. When converting from a smaller unit to a larger unit, div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 rot="510000">
            <a:off x="1345680" y="1803240"/>
            <a:ext cx="14973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1. When converting from a larger unit to a smaller unit, multi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235240" y="3403440"/>
            <a:ext cx="360" cy="393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3987720" y="3251160"/>
            <a:ext cx="8331120" cy="1346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6"/>
          <p:cNvSpPr/>
          <p:nvPr/>
        </p:nvSpPr>
        <p:spPr>
          <a:xfrm>
            <a:off x="4432320" y="6146640"/>
            <a:ext cx="8013600" cy="1371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"/>
          <p:cNvSpPr/>
          <p:nvPr/>
        </p:nvSpPr>
        <p:spPr>
          <a:xfrm>
            <a:off x="2260440" y="5423040"/>
            <a:ext cx="12471480" cy="1930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8"/>
          <p:cNvSpPr/>
          <p:nvPr/>
        </p:nvSpPr>
        <p:spPr>
          <a:xfrm>
            <a:off x="2273400" y="3403440"/>
            <a:ext cx="12484080" cy="1981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930320" y="2755800"/>
            <a:ext cx="360" cy="5321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1752480" y="1333440"/>
            <a:ext cx="15354360" cy="7556400"/>
          </a:xfrm>
          <a:prstGeom prst="pi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33400" y="264960"/>
            <a:ext cx="608508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Equivalencie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km = 10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hm = 1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am = 1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m = 0.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cm = 0.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mm = 0.0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7196040" y="1852560"/>
            <a:ext cx="5769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01 k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1 hm -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1 da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 d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0 c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Amienne"/>
              </a:rPr>
              <a:t>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tempimage43.tiff"/>
          <p:cNvPicPr/>
          <p:nvPr/>
        </p:nvPicPr>
        <p:blipFill>
          <a:blip r:embed="rId1"/>
          <a:stretch/>
        </p:blipFill>
        <p:spPr>
          <a:xfrm>
            <a:off x="2567160" y="7223040"/>
            <a:ext cx="8651880" cy="1535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465360" y="7275600"/>
            <a:ext cx="92473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10 mm = 1 cm; 100 cm = 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meter; 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2567160" y="6997680"/>
            <a:ext cx="938160" cy="939960"/>
          </a:xfrm>
          <a:prstGeom prst="pie">
            <a:avLst/>
          </a:prstGeom>
          <a:noFill/>
          <a:ln w="63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94000" y="-92160"/>
            <a:ext cx="72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urlz MT"/>
              </a:rPr>
              <a:t>Using the "T" Metho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793800" y="3294000"/>
            <a:ext cx="1168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rst draw a straight line and put the given information from the problem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left hand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95640" y="1282680"/>
            <a:ext cx="796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ARIAL GREEK"/>
              </a:rPr>
              <a:t>How many cups are in 3 gallon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 rot="2346600">
            <a:off x="9167760" y="2354400"/>
            <a:ext cx="1560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i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 rot="19446000">
            <a:off x="4298760" y="2222280"/>
            <a:ext cx="1284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o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639800" y="7064280"/>
            <a:ext cx="23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3 gall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793800" y="4378320"/>
            <a:ext cx="11258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Second, use the reference page to find equivalencies that will get you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your goal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009000" y="7183440"/>
            <a:ext cx="1349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cu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820800" y="5424480"/>
            <a:ext cx="1162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ird, make sure like units are opposite each other in the "t" chart so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cancel each other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793800" y="8823240"/>
            <a:ext cx="11045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nally, multiply the numbers on top together and divide the answer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product of the numbers on the bott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1614600" y="7726320"/>
            <a:ext cx="8915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7394400" y="1071720"/>
            <a:ext cx="2832120" cy="97920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829040" y="1389240"/>
            <a:ext cx="1216080" cy="55548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921200" y="1468440"/>
            <a:ext cx="79560" cy="7920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048200" y="6997680"/>
            <a:ext cx="360" cy="1468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150920" y="2738520"/>
            <a:ext cx="11390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257480" y="965160"/>
            <a:ext cx="3889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1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31760" y="5754600"/>
            <a:ext cx="91411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004760" y="542880"/>
            <a:ext cx="113904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381400" y="2527200"/>
            <a:ext cx="6932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81200" y="3598920"/>
            <a:ext cx="175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81200" y="4749840"/>
            <a:ext cx="1401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766800" y="5821200"/>
            <a:ext cx="14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781200" y="6905520"/>
            <a:ext cx="14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790720" y="3584520"/>
            <a:ext cx="484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Convert milliliters to li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698920" y="4735440"/>
            <a:ext cx="9551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What is the equivalency between milliliters and li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830680" y="5821200"/>
            <a:ext cx="705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ecide if you should multiply or 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2817720" y="6878520"/>
            <a:ext cx="1389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2606760" y="3479760"/>
            <a:ext cx="9855000" cy="408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87240" y="8123400"/>
            <a:ext cx="178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243080" y="1098720"/>
            <a:ext cx="38894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2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138320" y="25797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996920" y="5648400"/>
            <a:ext cx="914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912960" y="9399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98720" y="3889440"/>
            <a:ext cx="175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111320" y="5079960"/>
            <a:ext cx="1401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11320" y="6297480"/>
            <a:ext cx="140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098720" y="7567560"/>
            <a:ext cx="1785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346560" y="3941640"/>
            <a:ext cx="877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yards to feet, then convert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346560" y="5052960"/>
            <a:ext cx="4233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2 yards to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00560" y="6164280"/>
            <a:ext cx="4417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6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360600" y="7580160"/>
            <a:ext cx="4961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The deck is 72 inches w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3162240" y="3691080"/>
            <a:ext cx="9406080" cy="485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6:23Z</dcterms:created>
  <dc:creator>Wendy</dc:creator>
  <dc:description/>
  <dc:language>en-US</dc:language>
  <cp:lastModifiedBy>Wendy</cp:lastModifiedBy>
  <dcterms:modified xsi:type="dcterms:W3CDTF">2008-03-24T14:47:02Z</dcterms:modified>
  <cp:revision>1</cp:revision>
  <dc:subject/>
  <dc:title>Slide 1</dc:title>
</cp:coreProperties>
</file>