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4DF19-423C-47F2-B978-7407202A7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0324F-6ECA-4B86-B046-1F27AE530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7601A-E8FA-41B9-B37F-B7343BAA5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BF002-3F3B-4D9C-B8A1-FC8E5C5ED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CBE26-EE55-4AE0-94BF-B354D71B1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0C7AC-9CF8-42B9-A1B9-F3505EC8E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7B382-6A17-44DB-8807-5F42B5F67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7A756-5651-4439-982B-75E7FC5BD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4CAF1-45A8-485F-9DFC-7A3C29072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BF5D2-564A-4730-87F2-1F4A97112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E06C5-76B0-4C8C-88BD-D7F7626DE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7A566-2D15-47A3-8799-8143D063B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B86F0-6CDD-4C14-87CA-5FF29B357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192D4-2220-4806-B8C4-5960849EF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C433F-7927-4860-A0C0-D4869408E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33306-6F76-480E-8300-40FA06CED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BF6FA-66AD-4CE0-9382-AA207FD1A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5118E-3317-4870-91B9-833850DD0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F0853-D2FD-4DB8-B35F-CF7C1385F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51697-6ABC-40B3-8B4C-081838EA4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E1336-D87B-44C7-A930-977F5EBFC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CF8EE-0173-4A98-ADFD-E109209C7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3989F-6F87-4EDE-A8E0-0B808CF4E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E706A-A513-46B6-895B-FA321F0F3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E60F-6FAB-4C19-B72E-CEB26F16D2B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E7E9-F560-421C-BE8E-65F22802821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PSSA Math Review</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32 Choosing a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s. Yoon wants to organize the math test scores of all her students. Which type of display should she u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 - Strategy</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 Yoon wants to include each data poi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__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 - Answer</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M AND 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ya records the daily high temperature at her school for two week. Which display would best show this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 - Strategy</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sider the type of dat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a recorded the temperature each day for 2 week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nts to show ho the temperature changes over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st choice is a ___________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 - Answer</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INE GRAP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mple Test Questions</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following slides to create a fun review game for your student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s are on the slides following the question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ank surveys 50 people about their favorite sports. Which type of display should he use to present the </a:t>
            </a:r>
            <a:r>
              <a:rPr b="0" lang="en-US" sz="2800" spc="-1" strike="noStrike">
                <a:solidFill>
                  <a:srgbClr val="ff3300"/>
                </a:solidFill>
                <a:latin typeface="Arial"/>
              </a:rPr>
              <a:t>number of people choosing each sport</a:t>
            </a:r>
            <a:r>
              <a:rPr b="0" lang="en-US" sz="2800" spc="-1" strike="noStrike">
                <a:solidFill>
                  <a:srgbClr val="ffffff"/>
                </a:solidFill>
                <a:latin typeface="Arial"/>
              </a:rPr>
              <a:t> to the total </a:t>
            </a:r>
            <a:r>
              <a:rPr b="0" lang="en-US" sz="2800" spc="-1" strike="noStrike">
                <a:solidFill>
                  <a:srgbClr val="ffcc66"/>
                </a:solidFill>
                <a:latin typeface="Arial"/>
              </a:rPr>
              <a:t>number of people surveye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best used for comparing a part of the group to another part of to the wh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2</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scientist heats a chemical and records the temperature every minute for an hour. Which type of display is best suited to showing these data?</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tandard</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1.1.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nd/or explain the correct representation graph for a set of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2 - Answer</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for showing chang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3</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museum curator collects data on the number of paintings in each room of the museum. Which display is best suited to showing these data? </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3 - Answer</a:t>
            </a: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0" lang="en-US" sz="3200" spc="-1" strike="noStrike">
                <a:solidFill>
                  <a:srgbClr val="ff3300"/>
                </a:solidFill>
                <a:latin typeface="Arial"/>
              </a:rPr>
              <a:t>STEM-and-LEAF PLOT</a:t>
            </a:r>
            <a:r>
              <a:rPr b="0" lang="en-US" sz="3200" spc="-1" strike="noStrike">
                <a:solidFill>
                  <a:srgbClr val="ffffff"/>
                </a:solidFill>
                <a:latin typeface="Arial"/>
              </a:rPr>
              <a:t> shows all of the individual items in a data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4</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r. Daly has the results of the last science test. Which display can he use to organize all of the scores in his clas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4 - Answer</a:t>
            </a:r>
            <a:endParaRPr b="0" lang="en-US" sz="4400" spc="-1" strike="noStrike">
              <a:solidFill>
                <a:srgbClr val="b2b2b2"/>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STEM-AND-LEAF PLOT</a:t>
            </a:r>
            <a:r>
              <a:rPr b="0" lang="en-US" sz="3200" spc="-1" strike="noStrike">
                <a:solidFill>
                  <a:srgbClr val="ffffff"/>
                </a:solidFill>
                <a:latin typeface="Arial"/>
              </a:rPr>
              <a:t> shows all of the individual items in a data se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5</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ch type of graph should Ted use to show the results of his survey of 100 students’ favorite television shows if he wants to compare the precents of the shows chosen?</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grap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5 - Answer</a:t>
            </a: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used best for comparing a part of the group to another part or to the wh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6</a:t>
            </a: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mpany president wants to track profits for the first six months of the year. What type of display should she 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6 - Answer</a:t>
            </a:r>
            <a:endParaRPr b="0" lang="en-US" sz="4400" spc="-1" strike="noStrike">
              <a:solidFill>
                <a:srgbClr val="b2b2b2"/>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for showing change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7</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ana wants to show what part of her total allowance she spends on clothes, entertainment, books ,and other categories. Which display should she us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view – Main Concept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ways to represent </a:t>
            </a:r>
            <a:r>
              <a:rPr b="0" lang="en-US" sz="3200" spc="-1" strike="noStrike">
                <a:solidFill>
                  <a:srgbClr val="ff3300"/>
                </a:solidFill>
                <a:latin typeface="Arial"/>
              </a:rPr>
              <a:t>DATA</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BAR GRAPH</a:t>
            </a:r>
            <a:r>
              <a:rPr b="0" lang="en-US" sz="2800" spc="-1" strike="noStrike">
                <a:solidFill>
                  <a:srgbClr val="ffffff"/>
                </a:solidFill>
                <a:latin typeface="Arial"/>
              </a:rPr>
              <a:t> is used to compare numbers and amounts.</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CIRCLE GRAPH</a:t>
            </a:r>
            <a:r>
              <a:rPr b="0" lang="en-US" sz="2800" spc="-1" strike="noStrike">
                <a:solidFill>
                  <a:srgbClr val="ffffff"/>
                </a:solidFill>
                <a:latin typeface="Arial"/>
              </a:rPr>
              <a:t> is used for comparing a part of the group to another part or to the whol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LINE GRAPH</a:t>
            </a:r>
            <a:r>
              <a:rPr b="0" lang="en-US" sz="2800" spc="-1" strike="noStrike">
                <a:solidFill>
                  <a:srgbClr val="ffffff"/>
                </a:solidFill>
                <a:latin typeface="Arial"/>
              </a:rPr>
              <a:t> is used for showing changes over tim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STEM-AND-LEAF</a:t>
            </a:r>
            <a:r>
              <a:rPr b="0" lang="en-US" sz="2800" spc="-1" strike="noStrike">
                <a:solidFill>
                  <a:srgbClr val="ffffff"/>
                </a:solidFill>
                <a:latin typeface="Arial"/>
              </a:rPr>
              <a:t> plot shows all of the individual items in a data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7 - Answer</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best used for comparing a part of the group to another part or to the who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8</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ach wants organize the scores of his team’s last 15 games. Which display should he 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8 - Answer</a:t>
            </a: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used for showing changes of a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9</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mantha wants to chart the daily price of a share of a corporation’s stock over a month. Which type of graph should she use?</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9 - Answer</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used for showing chang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0</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personnel director at ABC Company collects information on how employees travel to work (bus, car, train, etc.). Which type of display should she use to present these data?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0 – Answer</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BAR GRAPH</a:t>
            </a:r>
            <a:r>
              <a:rPr b="0" lang="en-US" sz="3200" spc="-1" strike="noStrike">
                <a:solidFill>
                  <a:srgbClr val="ffffff"/>
                </a:solidFill>
                <a:latin typeface="Arial"/>
              </a:rPr>
              <a:t> is usually used to compare numbers or amou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pen Ended Question</a:t>
            </a:r>
            <a:endParaRPr b="0" lang="en-US" sz="4400" spc="-1" strike="noStrike">
              <a:solidFill>
                <a:srgbClr val="b2b2b2"/>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data represents the number of hours that five students studied for a final exam.</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ry: 6 hou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Lisa: 4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na: 5 hou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lga: 2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ca: 3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ype of graph would best display the data?</a:t>
            </a: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at you know about choosing a graph to explain why your answer is correct. Use words and/or numbers in your explan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ecil conducted a school survey about the lunch preferences of students. Of 100 students, he found that 42% preferred pizza, 28% preferred hamburgers, 20% preferred sandwiches, and 10% preferred hotdogs. Which graph would best display the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 Strategy</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ta include groups that are part of a who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aph should show how the groups compare to each other and to the tot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___.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 - Answer</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IRCLE GRAP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ipal of Engel Middle School collected data on the amount of money each grade (5</a:t>
            </a:r>
            <a:r>
              <a:rPr b="0" lang="en-US" sz="3200" spc="-1" strike="noStrike" baseline="30000">
                <a:solidFill>
                  <a:srgbClr val="ffffff"/>
                </a:solidFill>
                <a:latin typeface="Arial"/>
              </a:rPr>
              <a:t>th</a:t>
            </a:r>
            <a:r>
              <a:rPr b="0" lang="en-US" sz="3200" spc="-1" strike="noStrike">
                <a:solidFill>
                  <a:srgbClr val="ffffff"/>
                </a:solidFill>
                <a:latin typeface="Arial"/>
              </a:rPr>
              <a:t> , 6</a:t>
            </a:r>
            <a:r>
              <a:rPr b="0" lang="en-US" sz="3200" spc="-1" strike="noStrike" baseline="30000">
                <a:solidFill>
                  <a:srgbClr val="ffffff"/>
                </a:solidFill>
                <a:latin typeface="Arial"/>
              </a:rPr>
              <a:t>th</a:t>
            </a:r>
            <a:r>
              <a:rPr b="0" lang="en-US" sz="3200" spc="-1" strike="noStrike">
                <a:solidFill>
                  <a:srgbClr val="ffffff"/>
                </a:solidFill>
                <a:latin typeface="Arial"/>
              </a:rPr>
              <a:t>, 7</a:t>
            </a:r>
            <a:r>
              <a:rPr b="0" lang="en-US" sz="3200" spc="-1" strike="noStrike" baseline="30000">
                <a:solidFill>
                  <a:srgbClr val="ffffff"/>
                </a:solidFill>
                <a:latin typeface="Arial"/>
              </a:rPr>
              <a:t>th</a:t>
            </a:r>
            <a:r>
              <a:rPr b="0" lang="en-US" sz="3200" spc="-1" strike="noStrike">
                <a:solidFill>
                  <a:srgbClr val="ffffff"/>
                </a:solidFill>
                <a:latin typeface="Arial"/>
              </a:rPr>
              <a:t>, and 8</a:t>
            </a:r>
            <a:r>
              <a:rPr b="0" lang="en-US" sz="3200" spc="-1" strike="noStrike" baseline="30000">
                <a:solidFill>
                  <a:srgbClr val="ffffff"/>
                </a:solidFill>
                <a:latin typeface="Arial"/>
              </a:rPr>
              <a:t>th</a:t>
            </a:r>
            <a:r>
              <a:rPr b="0" lang="en-US" sz="3200" spc="-1" strike="noStrike">
                <a:solidFill>
                  <a:srgbClr val="ffffff"/>
                </a:solidFill>
                <a:latin typeface="Arial"/>
              </a:rPr>
              <a:t>) raised in a charity drive. Which choice would best display this inform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 – Strategy</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cipal wants to compare four quantiti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 - Answer</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AR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4:11:30Z</dcterms:created>
  <dc:creator>schottw</dc:creator>
  <dc:description/>
  <dc:language>en-US</dc:language>
  <cp:lastModifiedBy>schottw</cp:lastModifiedBy>
  <dcterms:modified xsi:type="dcterms:W3CDTF">2008-03-18T14:58:41Z</dcterms:modified>
  <cp:revision>4</cp:revision>
  <dc:subject/>
  <dc:title>PSSA Math Review</dc:title>
</cp:coreProperties>
</file>