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28.png" ContentType="image/png"/>
  <Override PartName="/ppt/media/image27.png" ContentType="image/png"/>
  <Override PartName="/ppt/media/image33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30.png" ContentType="image/png"/>
  <Override PartName="/ppt/media/image60.jpeg" ContentType="image/jpeg"/>
  <Override PartName="/ppt/media/image15.png" ContentType="image/png"/>
  <Override PartName="/ppt/media/image24.jpeg" ContentType="image/jpeg"/>
  <Override PartName="/ppt/media/image59.png" ContentType="image/png"/>
  <Override PartName="/ppt/media/image36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61.png" ContentType="image/png"/>
  <Override PartName="/ppt/media/image49.png" ContentType="image/png"/>
  <Override PartName="/ppt/media/image12.png" ContentType="image/png"/>
  <Override PartName="/ppt/media/image23.jpeg" ContentType="image/jpeg"/>
  <Override PartName="/ppt/media/image14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7.jpeg" ContentType="image/jpeg"/>
  <Override PartName="/ppt/media/image4.png" ContentType="image/png"/>
  <Override PartName="/ppt/media/image16.png" ContentType="image/png"/>
  <Override PartName="/ppt/media/image25.jpeg" ContentType="image/jpeg"/>
  <Override PartName="/ppt/media/image32.png" ContentType="image/png"/>
  <Override PartName="/ppt/media/image21.jpeg" ContentType="image/jpeg"/>
  <Override PartName="/ppt/media/image29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6.png" ContentType="image/png"/>
  <Override PartName="/ppt/media/image18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2.jpeg" ContentType="image/jpeg"/>
  <Override PartName="/ppt/media/image31.png" ContentType="image/png"/>
  <Override PartName="/ppt/media/image34.jpeg" ContentType="image/jpeg"/>
  <Override PartName="/ppt/media/image37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20.jpeg" ContentType="image/jpe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99AB-3EDF-4500-83F8-953CEC4E2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of people who got their jobs from their blog or public onlin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 at Dis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of lifetime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documenting the events of their life in real time.  Need to be putting best foot for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know where internet is taking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hopping on the covered wagons and taking the trip with or without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ither blaze the trail, or follow behind them, cleaning up behind them and blaming them for making a mess of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is only the first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to just be awar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be modeling appropriat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ng students for the workplace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students for the real internet, not a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encounter controversial material.  Need to learn to react to it appropri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one does a Google search for you, what do you want them to fi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wnership of your perman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your Google search delibe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use your alias with things that you want associated with your name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res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Res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b res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gle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anga/My Space 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getting fired for their b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getting in trouble for their online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ger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/ alcohol 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modeling appropriate use for these stud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we as educators doing to guide stud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what has chan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is read and write, accessible to everyone, blogs/wikis/myspace are sites, but entire internet is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you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ppropriate and what is inappropri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ppropriate for incorporating into the students’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omething.  Doesn’t have to be quick, doesn’t have to be ‘out there’.  But schools need to be active in figuring out new technolog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, not p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53.png"/><Relationship Id="rId19" Type="http://schemas.openxmlformats.org/officeDocument/2006/relationships/image" Target="../media/image54.png"/><Relationship Id="rId20" Type="http://schemas.openxmlformats.org/officeDocument/2006/relationships/image" Target="../media/image55.png"/><Relationship Id="rId21" Type="http://schemas.openxmlformats.org/officeDocument/2006/relationships/image" Target="../media/image56.png"/><Relationship Id="rId2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304920"/>
            <a:ext cx="51894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Just the facts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everyone is going to see ever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on the internet is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ias provides only minim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% of teens only use one scree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Pew Internet &amp; American Life Project Teens and Parents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d does not mean 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467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 Extra Bold"/>
              </a:rPr>
              <a:t>10 personal items students should avoid sharing online</a:t>
            </a:r>
            <a:endParaRPr b="0" lang="en-US" sz="40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17226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IM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Ph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Pho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treet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La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Keeping private things private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public photos from priv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 MySpace and Xanga accounts to invitatio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Journal privac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http://www.wesecure.com/Merchant2/graphics/00000001/40mm-padlock.jpg"/>
          <p:cNvPicPr/>
          <p:nvPr/>
        </p:nvPicPr>
        <p:blipFill>
          <a:blip r:embed="rId2"/>
          <a:srcRect l="15999" t="0" r="22676" b="0"/>
          <a:stretch/>
        </p:blipFill>
        <p:spPr>
          <a:xfrm>
            <a:off x="6019920" y="2133720"/>
            <a:ext cx="2733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3 Basic questions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828440"/>
            <a:ext cx="6019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share this with my parents or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 want a college recruiter or job interviewer to see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this allow someone to find me and put me in dan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content.answers.com/main/content/wp/en-commons/thumb/d/dc/200px-Question_mark_alternate.png"/>
          <p:cNvPicPr/>
          <p:nvPr/>
        </p:nvPicPr>
        <p:blipFill>
          <a:blip r:embed="rId2"/>
          <a:stretch/>
        </p:blipFill>
        <p:spPr>
          <a:xfrm>
            <a:off x="228600" y="1523880"/>
            <a:ext cx="1062000" cy="1343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content.answers.com/main/content/wp/en-commons/thumb/d/dc/200px-Question_mark_alternate.png"/>
          <p:cNvPicPr/>
          <p:nvPr/>
        </p:nvPicPr>
        <p:blipFill>
          <a:blip r:embed="rId3"/>
          <a:stretch/>
        </p:blipFill>
        <p:spPr>
          <a:xfrm>
            <a:off x="7853400" y="4829040"/>
            <a:ext cx="10620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Make it work for you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7086600" cy="2798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0" t="0" r="0" b="34824"/>
          <a:stretch/>
        </p:blipFill>
        <p:spPr>
          <a:xfrm>
            <a:off x="1266840" y="3124080"/>
            <a:ext cx="78771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Trailblazing or trailing behind?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pic>
        <p:nvPicPr>
          <p:cNvPr id="122" name="" descr="http://www.rmpbs.org/byways/images/sft/sft_wagon.jpg"/>
          <p:cNvPicPr/>
          <p:nvPr/>
        </p:nvPicPr>
        <p:blipFill>
          <a:blip r:embed="rId2"/>
          <a:stretch/>
        </p:blipFill>
        <p:spPr>
          <a:xfrm>
            <a:off x="1219320" y="1981080"/>
            <a:ext cx="655308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00200" y="466560"/>
            <a:ext cx="5896080" cy="3876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3240" y="4267080"/>
            <a:ext cx="915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There’s a time to think, and a time to act.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And this, gentlemen, is no time to thin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0880" y="23796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http://www.microsoft.com/presspass/images/features/2002/09-26ciw-lg.jpg"/>
          <p:cNvPicPr/>
          <p:nvPr/>
        </p:nvPicPr>
        <p:blipFill>
          <a:blip r:embed="rId4"/>
          <a:stretch/>
        </p:blipFill>
        <p:spPr>
          <a:xfrm>
            <a:off x="3733920" y="2666880"/>
            <a:ext cx="510516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6324480" cy="6127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000160" y="1014480"/>
            <a:ext cx="5143680" cy="4829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000160" y="990720"/>
            <a:ext cx="5143680" cy="487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976400" y="1214280"/>
            <a:ext cx="5191200" cy="442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014560" y="1200240"/>
            <a:ext cx="5114880" cy="445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2023920" y="1481040"/>
            <a:ext cx="5096160" cy="38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2004840" y="852480"/>
            <a:ext cx="5134320" cy="5153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2023920" y="809640"/>
            <a:ext cx="5096160" cy="523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2019240" y="814320"/>
            <a:ext cx="5105520" cy="522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1371600" y="957240"/>
            <a:ext cx="6400800" cy="494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1386000" y="804960"/>
            <a:ext cx="6372000" cy="524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1371600" y="1300320"/>
            <a:ext cx="6400800" cy="425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4"/>
          <a:stretch/>
        </p:blipFill>
        <p:spPr>
          <a:xfrm>
            <a:off x="1357200" y="909720"/>
            <a:ext cx="6429600" cy="503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5"/>
          <a:stretch/>
        </p:blipFill>
        <p:spPr>
          <a:xfrm>
            <a:off x="2066760" y="1214280"/>
            <a:ext cx="5010480" cy="4429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6"/>
          <a:stretch/>
        </p:blipFill>
        <p:spPr>
          <a:xfrm>
            <a:off x="2028960" y="995400"/>
            <a:ext cx="5086080" cy="4867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7"/>
          <a:stretch/>
        </p:blipFill>
        <p:spPr>
          <a:xfrm>
            <a:off x="2023920" y="828720"/>
            <a:ext cx="5096160" cy="5200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8"/>
          <a:stretch/>
        </p:blipFill>
        <p:spPr>
          <a:xfrm>
            <a:off x="1990800" y="871560"/>
            <a:ext cx="5162400" cy="511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9"/>
          <a:stretch/>
        </p:blipFill>
        <p:spPr>
          <a:xfrm>
            <a:off x="2052720" y="919080"/>
            <a:ext cx="5038560" cy="5019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0"/>
          <a:stretch/>
        </p:blipFill>
        <p:spPr>
          <a:xfrm>
            <a:off x="2052720" y="938160"/>
            <a:ext cx="5038560" cy="4981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1"/>
          <a:stretch/>
        </p:blipFill>
        <p:spPr>
          <a:xfrm>
            <a:off x="2019240" y="900000"/>
            <a:ext cx="510552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35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7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4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7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1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4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8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1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http://www.veraislerleiner.com/images/pics/hands.jpg"/>
          <p:cNvPicPr/>
          <p:nvPr/>
        </p:nvPicPr>
        <p:blipFill>
          <a:blip r:embed="rId2"/>
          <a:stretch/>
        </p:blipFill>
        <p:spPr>
          <a:xfrm>
            <a:off x="1066680" y="91440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Google"/>
          <p:cNvPicPr/>
          <p:nvPr/>
        </p:nvPicPr>
        <p:blipFill>
          <a:blip r:embed="rId3"/>
          <a:stretch/>
        </p:blipFill>
        <p:spPr>
          <a:xfrm>
            <a:off x="3200400" y="2590920"/>
            <a:ext cx="26272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2571840" cy="2666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-533520" y="3168720"/>
            <a:ext cx="525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 Extra Bold"/>
              </a:rPr>
              <a:t>Steve Dembo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Steve_Dembo@Discover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05240" y="304920"/>
            <a:ext cx="4591080" cy="5438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4800600"/>
            <a:ext cx="41911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The image “http://www.myownbrand.com.hk/shared_images/clipart/resume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380880" y="380880"/>
            <a:ext cx="5334120" cy="332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5120" y="1523880"/>
            <a:ext cx="5553000" cy="3791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457440" y="3181320"/>
            <a:ext cx="5686560" cy="3676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676520" y="838080"/>
            <a:ext cx="6153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210360" cy="413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http://www.umainetoday.umaine.edu/Issues/v4i1/Images/Principal.jpg"/>
          <p:cNvPicPr/>
          <p:nvPr/>
        </p:nvPicPr>
        <p:blipFill>
          <a:blip r:embed="rId3"/>
          <a:stretch/>
        </p:blipFill>
        <p:spPr>
          <a:xfrm>
            <a:off x="2438280" y="533520"/>
            <a:ext cx="3743280" cy="533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90600" y="228600"/>
            <a:ext cx="4689720" cy="624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676520" y="609480"/>
            <a:ext cx="6686280" cy="556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89200" y="304920"/>
            <a:ext cx="51591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28800" y="21337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Michael Hans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9144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Heather B Arm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611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essica Cu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838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Daniel P. Fin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514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Steve Olaf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Lain Mu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60020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Penny Cholmond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5410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Matthew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809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Trout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97180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oe (Waterst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343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Vibor Kalog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4874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eremy 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5029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Amy Norah B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09480" y="1905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ob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86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achel Most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30492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Peter Whi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5638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David Hi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2133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Paul Andrew Jul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3048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Vero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144792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Gregg Easterb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6278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achel Cha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Kelly K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457200" y="4800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Silver Tre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685800" y="5943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ichard 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380880" y="2468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Lance Sal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Nadine Haobo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3429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oe Gor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382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Angelo Villagom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3886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oyc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6248520" cy="92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038480" y="2170080"/>
            <a:ext cx="4648320" cy="725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28600" y="3581280"/>
            <a:ext cx="7772400" cy="577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95280" y="4495680"/>
            <a:ext cx="76107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% of children 12-17 have created their own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% of online teens share their own creations online (artwork, videos, pho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7% of online teens have created content for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w Internet &amp; American Life Project survey of teens and par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– Nov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585960" cy="909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666880" y="0"/>
            <a:ext cx="3552840" cy="1181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MySpace"/>
          <p:cNvPicPr/>
          <p:nvPr/>
        </p:nvPicPr>
        <p:blipFill>
          <a:blip r:embed="rId4"/>
          <a:stretch/>
        </p:blipFill>
        <p:spPr>
          <a:xfrm>
            <a:off x="457200" y="1295280"/>
            <a:ext cx="2743200" cy="828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914400"/>
            <a:ext cx="5486400" cy="4876920"/>
          </a:xfrm>
          <a:prstGeom prst="noSmoking">
            <a:avLst>
              <a:gd name="adj" fmla="val 4486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5 0.3 E">
                                      <p:cBhvr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75 0.25069 E">
                                      <p:cBhvr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48148E-006 L -0.13767 0.32269 E">
                                      <p:cBhvr>
                                        <p:cTn id="301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http://www.schneiders.ca/fall_images/crossing.jpg"/>
          <p:cNvPicPr/>
          <p:nvPr/>
        </p:nvPicPr>
        <p:blipFill>
          <a:blip r:embed="rId2"/>
          <a:stretch/>
        </p:blipFill>
        <p:spPr>
          <a:xfrm>
            <a:off x="1752480" y="762120"/>
            <a:ext cx="563904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http://www.crc.ca/images/virtualclassroom/home/program/youngstudents.jpg"/>
          <p:cNvPicPr/>
          <p:nvPr/>
        </p:nvPicPr>
        <p:blipFill>
          <a:blip r:embed="rId2"/>
          <a:stretch/>
        </p:blipFill>
        <p:spPr>
          <a:xfrm>
            <a:off x="1981080" y="1600200"/>
            <a:ext cx="5410440" cy="369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http://dts.ystoretools.com/1289/images/250x1000/dencomdesand1.jpg"/>
          <p:cNvPicPr/>
          <p:nvPr/>
        </p:nvPicPr>
        <p:blipFill>
          <a:blip r:embed="rId3"/>
          <a:stretch/>
        </p:blipFill>
        <p:spPr>
          <a:xfrm>
            <a:off x="228600" y="0"/>
            <a:ext cx="3135240" cy="3962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http://www.alpenacc.edu/programs/bis/images/Library_computer-lab_0140.jpg"/>
          <p:cNvPicPr/>
          <p:nvPr/>
        </p:nvPicPr>
        <p:blipFill>
          <a:blip r:embed="rId4"/>
          <a:stretch/>
        </p:blipFill>
        <p:spPr>
          <a:xfrm>
            <a:off x="2590920" y="22096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http://www.cnet.com/i/tt/ww/starbucks_02.jpg"/>
          <p:cNvPicPr/>
          <p:nvPr/>
        </p:nvPicPr>
        <p:blipFill>
          <a:blip r:embed="rId5"/>
          <a:stretch/>
        </p:blipFill>
        <p:spPr>
          <a:xfrm>
            <a:off x="5562720" y="3733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Steps to Taking Control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ha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ppropriat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appropriat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http://www.unitedwaybroome.org/images%20(new)/graffiti_teen.JPG"/>
          <p:cNvPicPr/>
          <p:nvPr/>
        </p:nvPicPr>
        <p:blipFill>
          <a:blip r:embed="rId2"/>
          <a:stretch/>
        </p:blipFill>
        <p:spPr>
          <a:xfrm>
            <a:off x="4952880" y="257184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http://www.cps-k12.org/students/calculator.jpg"/>
          <p:cNvPicPr/>
          <p:nvPr/>
        </p:nvPicPr>
        <p:blipFill>
          <a:blip r:embed="rId3"/>
          <a:stretch/>
        </p:blipFill>
        <p:spPr>
          <a:xfrm>
            <a:off x="5545080" y="1600200"/>
            <a:ext cx="2836800" cy="3990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867280" y="1523880"/>
            <a:ext cx="2570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Get Proactive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43040" y="2331720"/>
            <a:ext cx="43434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first h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f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The image “http://calusa.dadeschools.net/images/computer%20teacher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914400" y="2133720"/>
            <a:ext cx="2467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23:15:13Z</dcterms:created>
  <dc:creator>Steve Dembo</dc:creator>
  <dc:description/>
  <dc:language>en-US</dc:language>
  <cp:lastModifiedBy>Steve Dembo</cp:lastModifiedBy>
  <dcterms:modified xsi:type="dcterms:W3CDTF">2006-05-09T13:37:09Z</dcterms:modified>
  <cp:revision>7</cp:revision>
  <dc:subject/>
  <dc:title>The New Permanent Record</dc:title>
</cp:coreProperties>
</file>