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F93-7145-4478-83D5-BB0A2BB4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A50-33E7-4D88-8E4D-75E7D2B4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1A9-EB9F-4446-BAEA-210B0AB7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859-DBFC-440D-B447-8F665811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988-20FF-40AF-828A-E2B7D76D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7DE-D18F-444E-A7B9-EC6F3EAD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D17-6D44-42E6-B855-D7D7A91C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DF9-CD4B-4822-A3EF-7884F089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ACA-A9A3-4312-B102-1B3372E5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A7B-0ACB-4547-B1BC-812FD26F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B39-80BE-45B7-8C5C-DDF1F72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451-AFF2-4082-B8DA-7E286970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FC9A-2AEF-49D7-85D5-F3A467114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932120" y="12600"/>
            <a:ext cx="8902440" cy="123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981600" y="1838160"/>
            <a:ext cx="5079960" cy="77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05120" y="2844720"/>
            <a:ext cx="91281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2421000" y="647640"/>
            <a:ext cx="8069040" cy="912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2209680" y="476280"/>
            <a:ext cx="9485280" cy="8678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11350800" y="4259160"/>
            <a:ext cx="66168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693800" y="3083040"/>
            <a:ext cx="101728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1389240" y="1309680"/>
            <a:ext cx="10040760" cy="6164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535800" y="7765920"/>
            <a:ext cx="660240" cy="50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1376280" y="2963880"/>
            <a:ext cx="10569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1004760" y="1428840"/>
            <a:ext cx="10715760" cy="5290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654960" y="699768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825560" y="2805120"/>
            <a:ext cx="10001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1600200" y="2790720"/>
            <a:ext cx="10398240" cy="243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4273560" y="640224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2738520"/>
            <a:ext cx="107949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22640" y="225360"/>
            <a:ext cx="8493120" cy="8969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tempimage22.tiff"/>
          <p:cNvPicPr/>
          <p:nvPr/>
        </p:nvPicPr>
        <p:blipFill>
          <a:blip r:embed="rId2"/>
          <a:stretch/>
        </p:blipFill>
        <p:spPr>
          <a:xfrm>
            <a:off x="6627960" y="6719760"/>
            <a:ext cx="4417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1666800" y="1944720"/>
            <a:ext cx="10821960" cy="2328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4087800" y="59929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2963880"/>
            <a:ext cx="101473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1362240" y="2765520"/>
            <a:ext cx="10769400" cy="3028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497480" y="6694560"/>
            <a:ext cx="662040" cy="50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0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31.tiff"/>
          <p:cNvPicPr/>
          <p:nvPr/>
        </p:nvPicPr>
        <p:blipFill>
          <a:blip r:embed="rId1"/>
          <a:stretch/>
        </p:blipFill>
        <p:spPr>
          <a:xfrm>
            <a:off x="3214800" y="3108240"/>
            <a:ext cx="76197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31.tiff"/>
          <p:cNvPicPr/>
          <p:nvPr/>
        </p:nvPicPr>
        <p:blipFill>
          <a:blip r:embed="rId1"/>
          <a:stretch/>
        </p:blipFill>
        <p:spPr>
          <a:xfrm>
            <a:off x="2473200" y="1084320"/>
            <a:ext cx="845352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2050920" y="1071720"/>
            <a:ext cx="8637840" cy="60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51.tiff"/>
          <p:cNvPicPr/>
          <p:nvPr/>
        </p:nvPicPr>
        <p:blipFill>
          <a:blip r:embed="rId1"/>
          <a:stretch/>
        </p:blipFill>
        <p:spPr>
          <a:xfrm>
            <a:off x="1917720" y="1309680"/>
            <a:ext cx="8745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3187800" y="1560600"/>
            <a:ext cx="79516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71.tiff"/>
          <p:cNvPicPr/>
          <p:nvPr/>
        </p:nvPicPr>
        <p:blipFill>
          <a:blip r:embed="rId1"/>
          <a:stretch/>
        </p:blipFill>
        <p:spPr>
          <a:xfrm>
            <a:off x="2738520" y="912960"/>
            <a:ext cx="6972120" cy="78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81.tiff"/>
          <p:cNvPicPr/>
          <p:nvPr/>
        </p:nvPicPr>
        <p:blipFill>
          <a:blip r:embed="rId1"/>
          <a:stretch/>
        </p:blipFill>
        <p:spPr>
          <a:xfrm>
            <a:off x="1798560" y="1535040"/>
            <a:ext cx="77662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91.tiff"/>
          <p:cNvPicPr/>
          <p:nvPr/>
        </p:nvPicPr>
        <p:blipFill>
          <a:blip r:embed="rId1"/>
          <a:stretch/>
        </p:blipFill>
        <p:spPr>
          <a:xfrm>
            <a:off x="2090880" y="873000"/>
            <a:ext cx="902160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39:07Z</dcterms:created>
  <dc:creator> </dc:creator>
  <dc:description/>
  <dc:language>en-US</dc:language>
  <cp:lastModifiedBy> </cp:lastModifiedBy>
  <dcterms:modified xsi:type="dcterms:W3CDTF">2009-02-17T23:39:10Z</dcterms:modified>
  <cp:revision>1</cp:revision>
  <dc:subject/>
  <dc:title>Slide 1</dc:title>
</cp:coreProperties>
</file>