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82FD-12CB-4DAE-8A3D-DE777150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881-BE8E-4AD6-8E30-3B827F1C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633-0002-4228-98AC-9C8DC694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776-776C-4479-803C-BB3D268E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4BA-E244-4CD3-8FEC-DAEDAA7A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A20-F1BA-40F5-AE77-938781AC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F56-85C3-46DC-8026-8C1A8AF1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294-A549-4333-AAA0-5CFF54EE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B71-F7D9-406B-A5B2-81594F27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5D4-C0DE-4A65-8AF6-22564003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7C5-6D38-46FD-8F8C-8D901A35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5EB-9F64-4163-A1FC-A7A93AEC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FADD-488E-4690-A5F0-13D98007E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627200" y="290520"/>
            <a:ext cx="9829800" cy="12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2222640" y="1495440"/>
            <a:ext cx="8505720" cy="81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101.tiff"/>
          <p:cNvPicPr/>
          <p:nvPr/>
        </p:nvPicPr>
        <p:blipFill>
          <a:blip r:embed="rId1"/>
          <a:stretch/>
        </p:blipFill>
        <p:spPr>
          <a:xfrm>
            <a:off x="2870280" y="622440"/>
            <a:ext cx="7792920" cy="84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11.tiff"/>
          <p:cNvPicPr/>
          <p:nvPr/>
        </p:nvPicPr>
        <p:blipFill>
          <a:blip r:embed="rId1"/>
          <a:stretch/>
        </p:blipFill>
        <p:spPr>
          <a:xfrm>
            <a:off x="1309680" y="1401840"/>
            <a:ext cx="9631440" cy="3467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3201840" y="6759720"/>
            <a:ext cx="660600" cy="5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tempimage121.tiff"/>
          <p:cNvPicPr/>
          <p:nvPr/>
        </p:nvPicPr>
        <p:blipFill>
          <a:blip r:embed="rId1"/>
          <a:stretch/>
        </p:blipFill>
        <p:spPr>
          <a:xfrm>
            <a:off x="1401840" y="1878120"/>
            <a:ext cx="105966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31.tiff"/>
          <p:cNvPicPr/>
          <p:nvPr/>
        </p:nvPicPr>
        <p:blipFill>
          <a:blip r:embed="rId1"/>
          <a:stretch/>
        </p:blipFill>
        <p:spPr>
          <a:xfrm>
            <a:off x="1123920" y="1852560"/>
            <a:ext cx="10199880" cy="3716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4100400" y="5675400"/>
            <a:ext cx="6620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41.tiff"/>
          <p:cNvPicPr/>
          <p:nvPr/>
        </p:nvPicPr>
        <p:blipFill>
          <a:blip r:embed="rId1"/>
          <a:stretch/>
        </p:blipFill>
        <p:spPr>
          <a:xfrm>
            <a:off x="1468440" y="1508040"/>
            <a:ext cx="113238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51.tiff"/>
          <p:cNvPicPr/>
          <p:nvPr/>
        </p:nvPicPr>
        <p:blipFill>
          <a:blip r:embed="rId1"/>
          <a:stretch/>
        </p:blipFill>
        <p:spPr>
          <a:xfrm>
            <a:off x="885960" y="2500200"/>
            <a:ext cx="11563200" cy="3624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5410080" y="7236000"/>
            <a:ext cx="662040" cy="50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1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61.tiff"/>
          <p:cNvPicPr/>
          <p:nvPr/>
        </p:nvPicPr>
        <p:blipFill>
          <a:blip r:embed="rId1"/>
          <a:stretch/>
        </p:blipFill>
        <p:spPr>
          <a:xfrm>
            <a:off x="1639800" y="1812960"/>
            <a:ext cx="1053144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71.tiff"/>
          <p:cNvPicPr/>
          <p:nvPr/>
        </p:nvPicPr>
        <p:blipFill>
          <a:blip r:embed="rId1"/>
          <a:stretch/>
        </p:blipFill>
        <p:spPr>
          <a:xfrm>
            <a:off x="1441440" y="674640"/>
            <a:ext cx="9485280" cy="8877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807560" y="4246560"/>
            <a:ext cx="609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81.tiff"/>
          <p:cNvPicPr/>
          <p:nvPr/>
        </p:nvPicPr>
        <p:blipFill>
          <a:blip r:embed="rId1"/>
          <a:stretch/>
        </p:blipFill>
        <p:spPr>
          <a:xfrm>
            <a:off x="992160" y="463680"/>
            <a:ext cx="10358640" cy="90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91.tiff"/>
          <p:cNvPicPr/>
          <p:nvPr/>
        </p:nvPicPr>
        <p:blipFill>
          <a:blip r:embed="rId1"/>
          <a:stretch/>
        </p:blipFill>
        <p:spPr>
          <a:xfrm>
            <a:off x="952560" y="2209680"/>
            <a:ext cx="11152080" cy="3743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3916440" y="730260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3201840" y="674640"/>
            <a:ext cx="7382160" cy="81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201.tiff"/>
          <p:cNvPicPr/>
          <p:nvPr/>
        </p:nvPicPr>
        <p:blipFill>
          <a:blip r:embed="rId1"/>
          <a:stretch/>
        </p:blipFill>
        <p:spPr>
          <a:xfrm>
            <a:off x="1785960" y="1441440"/>
            <a:ext cx="106488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2195640" y="2408400"/>
            <a:ext cx="90360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2090880" y="2540160"/>
            <a:ext cx="79498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2658960" y="2076480"/>
            <a:ext cx="90885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61.tiff"/>
          <p:cNvPicPr/>
          <p:nvPr/>
        </p:nvPicPr>
        <p:blipFill>
          <a:blip r:embed="rId1"/>
          <a:stretch/>
        </p:blipFill>
        <p:spPr>
          <a:xfrm>
            <a:off x="2949480" y="2222640"/>
            <a:ext cx="8388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71.tiff"/>
          <p:cNvPicPr/>
          <p:nvPr/>
        </p:nvPicPr>
        <p:blipFill>
          <a:blip r:embed="rId1"/>
          <a:stretch/>
        </p:blipFill>
        <p:spPr>
          <a:xfrm>
            <a:off x="2698920" y="2301840"/>
            <a:ext cx="9180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81.tiff"/>
          <p:cNvPicPr/>
          <p:nvPr/>
        </p:nvPicPr>
        <p:blipFill>
          <a:blip r:embed="rId1"/>
          <a:stretch/>
        </p:blipFill>
        <p:spPr>
          <a:xfrm>
            <a:off x="2857680" y="369720"/>
            <a:ext cx="8386560" cy="891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91.tiff"/>
          <p:cNvPicPr/>
          <p:nvPr/>
        </p:nvPicPr>
        <p:blipFill>
          <a:blip r:embed="rId1"/>
          <a:stretch/>
        </p:blipFill>
        <p:spPr>
          <a:xfrm>
            <a:off x="2170080" y="503280"/>
            <a:ext cx="8518680" cy="8280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0358280" y="4365720"/>
            <a:ext cx="6620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3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59:21Z</dcterms:created>
  <dc:creator> </dc:creator>
  <dc:description/>
  <dc:language>en-US</dc:language>
  <cp:lastModifiedBy> </cp:lastModifiedBy>
  <dcterms:modified xsi:type="dcterms:W3CDTF">2009-02-17T23:59:23Z</dcterms:modified>
  <cp:revision>1</cp:revision>
  <dc:subject/>
  <dc:title>Slide 1</dc:title>
</cp:coreProperties>
</file>