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862-3402-42B4-A422-492E651F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858-0D4B-467E-97D8-5C12659B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57A-E278-4500-8613-B95476C0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04C-22BA-430E-9E9A-2807B4E2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98F-318C-47B4-812C-F7948BD2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40F-551A-4877-B6D6-20D9F881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DCB-970F-4CE8-80D3-70F8BF9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3FA-4046-49BA-81A9-B561775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08D-D2FB-4431-A7FA-924C82C1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971-4510-4024-B104-942261A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124-F1E4-47C2-BD18-A3F40B4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A84-A131-4F17-95A6-CF63DA1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91F4-E66A-4847-A21F-EB813EC77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627200" y="290520"/>
            <a:ext cx="9829800" cy="12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2222640" y="1495440"/>
            <a:ext cx="8505720" cy="81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70280" y="622440"/>
            <a:ext cx="7792920" cy="84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1309680" y="1401840"/>
            <a:ext cx="9631440" cy="3467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201840" y="6759720"/>
            <a:ext cx="66060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21.tiff"/>
          <p:cNvPicPr/>
          <p:nvPr/>
        </p:nvPicPr>
        <p:blipFill>
          <a:blip r:embed="rId1"/>
          <a:stretch/>
        </p:blipFill>
        <p:spPr>
          <a:xfrm>
            <a:off x="1401840" y="1878120"/>
            <a:ext cx="105966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123920" y="1852560"/>
            <a:ext cx="101998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100400" y="567540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41.tiff"/>
          <p:cNvPicPr/>
          <p:nvPr/>
        </p:nvPicPr>
        <p:blipFill>
          <a:blip r:embed="rId1"/>
          <a:stretch/>
        </p:blipFill>
        <p:spPr>
          <a:xfrm>
            <a:off x="1468440" y="1508040"/>
            <a:ext cx="11323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885960" y="2500200"/>
            <a:ext cx="11563200" cy="3624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410080" y="7236000"/>
            <a:ext cx="66204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61.tiff"/>
          <p:cNvPicPr/>
          <p:nvPr/>
        </p:nvPicPr>
        <p:blipFill>
          <a:blip r:embed="rId1"/>
          <a:stretch/>
        </p:blipFill>
        <p:spPr>
          <a:xfrm>
            <a:off x="1639800" y="1812960"/>
            <a:ext cx="1053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441440" y="674640"/>
            <a:ext cx="9485280" cy="8877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807560" y="424656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81.tiff"/>
          <p:cNvPicPr/>
          <p:nvPr/>
        </p:nvPicPr>
        <p:blipFill>
          <a:blip r:embed="rId1"/>
          <a:stretch/>
        </p:blipFill>
        <p:spPr>
          <a:xfrm>
            <a:off x="992160" y="463680"/>
            <a:ext cx="10358640" cy="90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952560" y="2209680"/>
            <a:ext cx="1115208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16440" y="73026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201840" y="674640"/>
            <a:ext cx="738216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01.tiff"/>
          <p:cNvPicPr/>
          <p:nvPr/>
        </p:nvPicPr>
        <p:blipFill>
          <a:blip r:embed="rId1"/>
          <a:stretch/>
        </p:blipFill>
        <p:spPr>
          <a:xfrm>
            <a:off x="1785960" y="1441440"/>
            <a:ext cx="106488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195640" y="2408400"/>
            <a:ext cx="9036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2540160"/>
            <a:ext cx="7949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2076480"/>
            <a:ext cx="9088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2949480" y="2222640"/>
            <a:ext cx="838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698920" y="2301840"/>
            <a:ext cx="9180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369720"/>
            <a:ext cx="838656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2170080" y="503280"/>
            <a:ext cx="8518680" cy="828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0358280" y="43657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9:21Z</dcterms:created>
  <dc:creator> </dc:creator>
  <dc:description/>
  <dc:language>en-US</dc:language>
  <cp:lastModifiedBy> </cp:lastModifiedBy>
  <dcterms:modified xsi:type="dcterms:W3CDTF">2009-02-17T23:59:23Z</dcterms:modified>
  <cp:revision>1</cp:revision>
  <dc:subject/>
  <dc:title>Slide 1</dc:title>
</cp:coreProperties>
</file>