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27B-E0FB-4A1B-9F6D-00C4E606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EEA-FA70-4F0B-BAC7-8699D526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F1B-1F85-4F52-A36C-AAD43FA4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854-CBBC-46E7-BB91-D353E05C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F44-A4B4-4B7F-AAFD-F3D97BF5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C47-DC85-43A6-BC08-BD8D7F97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EDB-2DF4-4E22-A810-68A3169E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C04-B00E-4EFB-BFE9-29B211E3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F95-C849-4DC3-87EF-512DB96D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6F3-6EBD-43AF-B47A-A98CA1D9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89C-CED7-42A1-85D4-0A616512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D1D-5D6E-45E9-9540-42DDF111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060B-F8B0-4F17-8598-94F6CF859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70200" y="3911760"/>
            <a:ext cx="5181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Literary Elem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58720" y="723960"/>
            <a:ext cx="108586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had had a nice, good, idle time all the while, plenty of company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ence had three coats of whitewash on it! If he hadn't run ou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wash he would have bankrupted every boy in the vil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640" y="2413080"/>
            <a:ext cx="9258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is work, what does the use of dialect accompl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441600"/>
            <a:ext cx="749304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It makes the boys seem real and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It evokes the feel of small town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It adds to the hum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1168560"/>
            <a:ext cx="106808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What literary elements does Mark Twain use to enhanc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or of this sit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7320" y="2768760"/>
            <a:ext cx="5537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irony and exagg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simile and sym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personification and liter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8280" y="76320"/>
            <a:ext cx="11963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xcerpt below is from a "Song of the Redwood Tree," a se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ves of Grass, by the poet Walt Whitman (1819–1892). Rea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 and answer the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040" y="1600200"/>
            <a:ext cx="110743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"Song of the Redwood Tree"by Walt Whit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lashing and golden pageant of Californ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udden and gorgeous drama, the sunny and ample land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ong and varied stretch from Puget sound to Colorado sout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s bathed in sweeter, rarer, healthier air, valleys and mountain cliff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ields of Nature long prepared and fallow, the silent, cyclic chemist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low and steady ages plodding, the unoccupied surface ripening,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ich ores forming benea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last the New arriving, assuming, taking possess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warming and busy race settling and organizing everyw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ps coming in from the whole round world, and going out to the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le worl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ndia and China and Australia and the thousand island paradises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Pacifi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ous cities, the latest inventions, the steamers on the rivers,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ilroads, with many a thrifty farm, with machine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ool and wheat and the grape, and diggings of yellow g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9040" y="711360"/>
            <a:ext cx="126111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hat does the author's style tell the reader about how to interpret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2184480"/>
            <a:ext cx="1061712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wants to give the readers a sweeping vis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time and place in America's hi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believes that only lofty thoughts ar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 subject of poe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wants to reveal 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—America—through the usual convention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etry—rhyme; symbolism; and imagery, such as simil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phors, and person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author, philosophical views are more import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87320" y="901800"/>
            <a:ext cx="93981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Of the following, which literary device characteriz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tman's poe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51240"/>
            <a:ext cx="26542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Metaph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Ir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Rhy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8720" y="317520"/>
            <a:ext cx="651528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in in the Su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beautiful is th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the dust and he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broad and fiery stree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narrow la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beautiful is th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it clatters along the roof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 the tramp of hoof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it gushes and struggle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the throat of the overflowing spou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ross the windowp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pours and pour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swift and wi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a muddy ti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 a river down the gutter ro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in, the welcom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y Wadsworth Longfe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680" y="635040"/>
            <a:ext cx="86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Which clues help express the tone of this po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720" y="1955880"/>
            <a:ext cx="11074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 In all three stanzas, most of the words that rhyme are related,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, to water. By using the words in this way, the author suggests a t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desperateness. The need for rain is urgent, and it has finally arriv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 Exclamation marks are used throughout the poem to show 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ited the author is about the return of the 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 Words such as muddy, struggles, and fiery are used to descib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omy feeling the author has towards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 Short line lengths suggest an informal tone. The author takes noti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ainstorm with little interest and no show of e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0560" y="774720"/>
            <a:ext cx="11061720" cy="80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Read the passage and answer the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appeared on the sidewalk with a bucket of whitewash an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-handled brush. He surveyed the fence—thirty yards of board f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e feet high. Life to him seemed hollow, and existence but a burden.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ark and hopeless moment an inspiration burst upon him! No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a great, magnificent inspiration. He took up his brush and w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quilly 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 Rogers hove in sight presently—he was eating an apple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ing a long, melodious whoop, at intervals, followed by a deep-to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g-dong-dong, ding-dong-dong, for he was personating a steambo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ent on whitewashing—paid no attention to the steamboat. B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ed a moment and then said: "Hi-YI! YOU'RE up a stump, ain't you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nswer. Tom gave his brush another gentle sweep and surveye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. Ben ranged up alongside of him. Tom's mouth watered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, but he stuck to his work. Ben said: "Hello, old chap, you go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, hey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heeled suddenly and said: "Why, it's you, Ben! I warn't noticing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0280" y="469800"/>
            <a:ext cx="110869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Say—I'm going in a-swimming, I am. Don't you wish you could? Bu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rse you'd druther WORK—wouldn't you? Course you would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contemplated the boy a bit, and said: "What do you call work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 come, now, you don't mean to let on that you LIKE it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Like it? Well, I don't see why I oughtn't to like it. Does a boy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ce to whitewash a fence every day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put the thing in a new light. Ben stopped nibbling his apple. "S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, let ME whitewash a littl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considered, was about to consent, but he altered his m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No—no, I reckon it wouldn't hardly do, Ben. You see, Aunt Polly's awf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ular about this fence. I reckon there ain't one boy in a thousa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be two thousand, that can do it the way it's got to be don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 come, now—lemme just try. Only just a little—I'd let YOU, if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me, Tom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6120" y="393840"/>
            <a:ext cx="11061720" cy="84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Ben, I'd like to, honest injun; but if you was to tackle this fe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thing was to happen to it—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, shucks, I'll be just as careful. Now lemme try. Say—I'll give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of my appl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Well, here—No, Ben, now don't. I'm afeard—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I'll give you ALL of it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gave up the brush with reluctance in his face, but alacrity in 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rt. And while the late steamer Big Missouri worked and sweated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, the retired artist sat on a barrel in the shade close by, dangled 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s, munched his apple, and planned the slaughter of more innoc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was no lack of material; boys happened along every little whi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came to jeer, but remained to whitewash. And when the middl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noon came, from being a poor poverty-stricken boy in the mor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as literally rolling in wealth. He had twelve marbles, part of a har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iece of blue bottle-glass to look through, a spool cannon, a key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uldn't unlock anything, a fragment of chalk, a glass stopper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anter, a tin soldier, a couple of tadpoles, six fire-crackers, a kitte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e eye, a brass door-knob, a dog-collar—but no dog—the handl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nife, four pieces of orange-peel, and a dilapidated old window s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3:37Z</dcterms:created>
  <dc:creator>schottw</dc:creator>
  <dc:description/>
  <dc:language>en-US</dc:language>
  <cp:lastModifiedBy>schottw</cp:lastModifiedBy>
  <dcterms:modified xsi:type="dcterms:W3CDTF">2008-03-18T20:23:49Z</dcterms:modified>
  <cp:revision>1</cp:revision>
  <dc:subject/>
  <dc:title>Slide 1</dc:title>
</cp:coreProperties>
</file>