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DCE-07B1-4F9E-A5EF-DE7380F5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991-94C7-41A3-82C1-4E0E6F8D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A86-00BB-4015-AA31-B54ED1DD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46B-E11D-475E-A1F0-CF4B400F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3A3-BCE6-4494-ABB2-22775F4E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D85-7324-4C42-A944-9528B093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F5C-DF12-4226-8B82-47D91B37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456-7112-490F-830D-91B725A1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BAE-4F79-4FCC-942E-7102488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4A6-06A0-4560-9AFB-3B7B06C1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44D-8722-4A6E-B9B6-A47D86AD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1DA-E365-4A07-901E-F2FE5531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DBE4-686F-44A1-8A0B-BC811674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0200" y="3911760"/>
            <a:ext cx="5181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terary El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8720" y="723960"/>
            <a:ext cx="108586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d had a nice, good, idle time all the while, plenty of compa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ence had three coats of whitewash on it! If he hadn't run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wash he would have bankrupted every boy in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2413080"/>
            <a:ext cx="925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work, what does the use of dialect accompl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41600"/>
            <a:ext cx="74930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t makes the boys seem real and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It evokes the feel of small tow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t adds to the hu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1168560"/>
            <a:ext cx="10680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What literary elements does Mark Twain use to enha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or of this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768760"/>
            <a:ext cx="5537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rony and exagg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 and sym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 and liter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8280" y="76320"/>
            <a:ext cx="11963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cerpt below is from a "Song of the Redwood Tree," a s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s of Grass, by the poet Walt Whitman (1819–1892). Rea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and answer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1600200"/>
            <a:ext cx="11074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"Song of the Redwood Tree"by Walt Whit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lashing and golden pageant of Califor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udden and gorgeous drama, the sunny and ample l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 and varied stretch from Puget sound to Colorado sou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s bathed in sweeter, rarer, healthier air, valleys and mountain cli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s of Nature long prepared and fallow, the silent, cyclic chemist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low and steady ages plodding, the unoccupied surface ripening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ch ores forming bene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ast the New arriving, assuming, taking possess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warming and busy race settling and organizing every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s coming in from the whole round world, and going out to the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wor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dia and China and Australia and the thousand island paradises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Pacif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ous cities, the latest inventions, the steamers on the rivers,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lroads, with many a thrifty farm, with machine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ool and wheat and the grape, and diggings of yellow g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040" y="711360"/>
            <a:ext cx="12611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hat does the author's style tell the reader about how to interpret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184480"/>
            <a:ext cx="1061712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give the readers a sweeping v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ime and place in America's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believes that only lofty thoughts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 subject of po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reveal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—America—through the usual conventio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etry—rhyme; symbolism; and imagery, such as simi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ors, and person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author, philosophical views are more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7320" y="901800"/>
            <a:ext cx="9398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f the following, which literary device characte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man's poe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51240"/>
            <a:ext cx="2654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Metaph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r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8720" y="317520"/>
            <a:ext cx="6515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n in the 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dust and he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broad and fiery stree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narrow 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clatters along the roo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the tramp of hoof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gushes and struggl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the throat of the overflowing sp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ross the window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pours and pou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swift and w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a muddy t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a river down the gutter ro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n, the welcom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680" y="635040"/>
            <a:ext cx="86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hich clues help express the tone of this po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955880"/>
            <a:ext cx="1107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In all three stanzas, most of the words that rhyme are related,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, to water. By using the words in this way, the author suggests a 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sperateness. The need for rain is urgent, and it has finally arri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Exclamation marks are used throughout the poem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ed the author is about the return of th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Words such as muddy, struggles, and fiery are used to descib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omy feeling the author has towards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Short line lengths suggest an informal tone. The author takes not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instorm with little interest and no show of e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560" y="774720"/>
            <a:ext cx="11061720" cy="80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passage and answer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appeared on the sidewalk with a bucket of whitewash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-handled brush. He surveyed the fence—thirty yards of board f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feet high. Life to him seemed hollow, and existence but a burden.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ark and hopeless moment an inspiration burst upon him! No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a great, magnificent inspiration. He took up his brush and w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quilly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Rogers hove in sight presently—he was eating an appl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long, melodious whoop, at intervals, followed by a deep-t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g-dong-dong, ding-dong-dong, for he was personating a steambo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ent on whitewashing—paid no attention to the steamboat. 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ed a moment and then said: "Hi-YI! YOU'RE up a stump, ain't you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nswer. Tom gave his brush another gentle sweep and survey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. Ben ranged up alongside of him. Tom's mouth watered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, but he stuck to his work. Ben said: "Hello, old chap, you go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, he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heeled suddenly and said: "Why, it's you, Ben! I warn't noticing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0280" y="469800"/>
            <a:ext cx="110869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ay—I'm going in a-swimming, I am. Don't you wish you could? B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you'd druther WORK—wouldn't you? Course you would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templated the boy a bit, and said: "What do you call work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, you don't mean to let on that you LIKE it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Like it? Well, I don't see why I oughtn't to like it. Does a boy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to whitewash a fence every da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ut the thing in a new light. Ben stopped nibbling his apple. "S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, let ME whitewash a litt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sidered, was about to consent, but he altered his m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—no, I reckon it wouldn't hardly do, Ben. You see, Aunt Polly's aw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r about this fence. I reckon there ain't one boy in a thous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two thousand, that can do it the way it's got to be don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—lemme just try. Only just a little—I'd let YOU, if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me, Tom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6120" y="393840"/>
            <a:ext cx="11061720" cy="84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en, I'd like to, honest injun; but if you was to tackle this f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was to happen to it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, shucks, I'll be just as careful. Now lemme try. Say—I'll giv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of my app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Well, here—No, Ben, now don't. I'm afeard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'll give you ALL of it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gave up the brush with reluctance in his face, but alacrity in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. And while the late steamer Big Missouri worked and swe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, the retired artist sat on a barrel in the shade close by, dangled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s, munched his apple, and planned the slaughter of more innoc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no lack of material; boys happened along every little whi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ame to jeer, but remained to whitewash. And when the midd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noon came, from being a poor poverty-stricken boy in the mo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as literally rolling in wealth. He had twelve marbles, part of a har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iece of blue bottle-glass to look through, a spool cannon, a ke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n't unlock anything, a fragment of chalk, a glass stopper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nter, a tin soldier, a couple of tadpoles, six fire-crackers, a kitte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eye, a brass door-knob, a dog-collar—but no dog—the handl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nife, four pieces of orange-peel, and a dilapidated old window s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37Z</dcterms:created>
  <dc:creator>schottw</dc:creator>
  <dc:description/>
  <dc:language>en-US</dc:language>
  <cp:lastModifiedBy>schottw</cp:lastModifiedBy>
  <dcterms:modified xsi:type="dcterms:W3CDTF">2008-03-18T20:23:49Z</dcterms:modified>
  <cp:revision>1</cp:revision>
  <dc:subject/>
  <dc:title>Slide 1</dc:title>
</cp:coreProperties>
</file>