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06409-C92A-49DB-8947-235018E6A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50880" y="563796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35C1A-56D0-4EC1-966F-17EE50163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64740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3511C-72D3-4417-AD2C-68B3C45C4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0764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56476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5088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60764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56476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4938E-340B-4065-A8E2-7582C30AE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FE6F9-8333-4294-871A-E009EE380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7DDF6-53C3-4B7D-94CF-65D9BCB06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3E95F-04FF-4E16-ADC5-DD9B4107F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90056-BB49-4A64-A08B-513EDF093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50880" y="390240"/>
            <a:ext cx="11702880" cy="75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1CA27-4083-447C-A2C6-4B2A2FE63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DD567-DA21-496D-A5A2-644E6DE49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64740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A0095-4CE9-4D09-BB24-DAF958806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4C007-94D7-4894-87F1-0948B3234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0520" y="8881560"/>
            <a:ext cx="303372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443120" y="8881560"/>
            <a:ext cx="411804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319680" y="8881560"/>
            <a:ext cx="303372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B5394-7F61-4241-9474-A3297DC58C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670200" y="3911760"/>
            <a:ext cx="518184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Literary Element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558720" y="723960"/>
            <a:ext cx="10858680" cy="18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 had had a nice, good, idle time all the while, plenty of company,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fence had three coats of whitewash on it! If he hadn't run out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tewash he would have bankrupted every boy in the villa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47640" y="2413080"/>
            <a:ext cx="925848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this work, what does the use of dialect accomplish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3441600"/>
            <a:ext cx="7493040" cy="28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.  It makes the boys seem real and natur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.  It evokes the feel of small town lif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.  It adds to the hum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.  All of the abo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5800" y="1168560"/>
            <a:ext cx="10680840" cy="81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.  What literary elements does Mark Twain use to enhance th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umor of this situ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87320" y="2768760"/>
            <a:ext cx="553716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.  irony and exagge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. simile and symboli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. personification and literali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.  all of the abo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68280" y="76320"/>
            <a:ext cx="1196352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excerpt below is from a "Song of the Redwood Tree," a section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eaves of Grass, by the poet Walt Whitman (1819–1892). Read th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cerpt and answer the ques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19040" y="1600200"/>
            <a:ext cx="11074320" cy="60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rom "Song of the Redwood Tree"by Walt Whit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flashing and golden pageant of California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sudden and gorgeous drama, the sunny and ample lands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long and varied stretch from Puget sound to Colorado south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nds bathed in sweeter, rarer, healthier air, valleys and mountain cliffs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fields of Nature long prepared and fallow, the silent, cyclic chemistry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slow and steady ages plodding, the unoccupied surface ripening,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rich ores forming beneath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 last the New arriving, assuming, taking possession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 swarming and busy race settling and organizing everywhere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ips coming in from the whole round world, and going out to the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ole world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o India and China and Australia and the thousand island paradises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f the Pacific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pulous cities, the latest inventions, the steamers on the rivers,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railroads, with many a thrifty farm, with machinery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d wool and wheat and the grape, and diggings of yellow gol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419040" y="711360"/>
            <a:ext cx="12611160" cy="81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What does the author's style tell the reader about how to interpret thi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cerp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07960" y="2184480"/>
            <a:ext cx="10617120" cy="528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1" lang="en-US" sz="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author wants to give the readers a sweeping vision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time and place in America's histo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.  </a:t>
            </a:r>
            <a:r>
              <a:rPr b="1" lang="en-US" sz="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author believes that only lofty thoughts are th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per subject of poet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.  </a:t>
            </a:r>
            <a:r>
              <a:rPr b="1" lang="en-US" sz="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author wants to reveal hi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bject—America—through the usual conventions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etry—rhyme; symbolism; and imagery, such as similes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aphors, and personific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.  </a:t>
            </a:r>
            <a:r>
              <a:rPr b="1" lang="en-US" sz="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the author, philosophical views are more importa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an observ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87320" y="901800"/>
            <a:ext cx="939816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 Of the following, which literary device characteriz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itman's poetr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00280" y="2451240"/>
            <a:ext cx="265428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.  Metaph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.  Li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.  Iro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.  Rhy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558720" y="317520"/>
            <a:ext cx="6515280" cy="762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ain in the Summ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ow beautiful is the rai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ter the dust and heat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he broad and fiery street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he narrow lane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ow beautiful is the rai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ow it clatters along the roofs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ike the tramp of hoofs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ow it gushes and struggles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rom the throat of the overflowing spout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cross the windowp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 pours and pours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d swift and wide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th a muddy tide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ike a river down the gutter roa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rain, the welcome rai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nry Wadsworth Longfell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571680" y="635040"/>
            <a:ext cx="863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  Which clues help express the tone of this poem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58720" y="1955880"/>
            <a:ext cx="1107432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.  In all three stanzas, most of the words that rhyme are related, in so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ay, to water. By using the words in this way, the author suggests a to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desperateness. The need for rain is urgent, and it has finally arrived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.  Exclamation marks are used throughout the poem to show how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cited the author is about the return of the r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.  Words such as muddy, struggles, and fiery are used to descibe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loomy feeling the author has towards r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.  Short line lengths suggest an informal tone. The author takes notice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rainstorm with little interest and no show of emo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520560" y="774720"/>
            <a:ext cx="11061720" cy="803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.  Read the passage and answer the ques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m appeared on the sidewalk with a bucket of whitewash and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ng-handled brush. He surveyed the fence—thirty yards of board fen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ine feet high. Life to him seemed hollow, and existence but a burden. A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dark and hopeless moment an inspiration burst upon him! Noth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ss than a great, magnificent inspiration. He took up his brush and w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nquilly to 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n Rogers hove in sight presently—he was eating an apple,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iving a long, melodious whoop, at intervals, followed by a deep-ton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ng-dong-dong, ding-dong-dong, for he was personating a steamboa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m went on whitewashing—paid no attention to the steamboat. B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ed a moment and then said: "Hi-YI! YOU'RE up a stump, ain't you!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 answer. Tom gave his brush another gentle sweep and surveyed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ult. Ben ranged up alongside of him. Tom's mouth watered for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e, but he stuck to his work. Ben said: "Hello, old chap, you got 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ork, hey?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m wheeled suddenly and said: "Why, it's you, Ben! I warn't noticing.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800280" y="469800"/>
            <a:ext cx="11086920" cy="73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"Say—I'm going in a-swimming, I am. Don't you wish you could? But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urse you'd druther WORK—wouldn't you? Course you would!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m contemplated the boy a bit, and said: "What do you call work?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"Oh come, now, you don't mean to let on that you LIKE it?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"Like it? Well, I don't see why I oughtn't to like it. Does a boy get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ance to whitewash a fence every day?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at put the thing in a new light. Ben stopped nibbling his apple. "Say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m, let ME whitewash a little.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m considered, was about to consent, but he altered his min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"No—no, I reckon it wouldn't hardly do, Ben. You see, Aunt Polly's awfu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icular about this fence. I reckon there ain't one boy in a thousand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ybe two thousand, that can do it the way it's got to be done.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"Oh come, now—lemme just try. Only just a little—I'd let YOU, if yo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as me, Tom.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546120" y="393840"/>
            <a:ext cx="11061720" cy="84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"Ben, I'd like to, honest injun; but if you was to tackle this fence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ything was to happen to it—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"Oh, shucks, I'll be just as careful. Now lemme try. Say—I'll give yo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ore of my apple.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"Well, here—No, Ben, now don't. I'm afeard—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"I'll give you ALL of it!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m gave up the brush with reluctance in his face, but alacrity in hi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art. And while the late steamer Big Missouri worked and sweated in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n, the retired artist sat on a barrel in the shade close by, dangled hi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gs, munched his apple, and planned the slaughter of more innocen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 was no lack of material; boys happened along every little while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y came to jeer, but remained to whitewash. And when the middle of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fternoon came, from being a poor poverty-stricken boy in the morning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m was literally rolling in wealth. He had twelve marbles, part of a harp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iece of blue bottle-glass to look through, a spool cannon, a key tha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ouldn't unlock anything, a fragment of chalk, a glass stopper of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canter, a tin soldier, a couple of tadpoles, six fire-crackers, a kitten wit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ly one eye, a brass door-knob, a dog-collar—but no dog—the handle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knife, four pieces of orange-peel, and a dilapidated old window sas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8T20:23:37Z</dcterms:created>
  <dc:creator>schottw</dc:creator>
  <dc:description/>
  <dc:language>en-US</dc:language>
  <cp:lastModifiedBy>schottw</cp:lastModifiedBy>
  <dcterms:modified xsi:type="dcterms:W3CDTF">2008-03-18T20:23:49Z</dcterms:modified>
  <cp:revision>1</cp:revision>
  <dc:subject/>
  <dc:title>Slide 1</dc:title>
</cp:coreProperties>
</file>