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755-015F-4767-A6F4-54E807BC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2FF-BF74-48A5-BDB1-9E713B8D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623-E53E-4D6E-8CDA-387EA4C5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D68-2591-4384-966E-49B17AF9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A3E-6683-4DCE-8D0A-9AD90236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8EC-2418-4DA7-8EAC-DB937235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23D-D73B-4FD1-824D-A72EE257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948-CB14-4D45-9BE5-B2B92CED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3D4-0A19-47A7-8A95-20780BE1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771-CD0B-4238-AD78-3389EC02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EF9-BE45-4383-8048-123C8AC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076-1901-4AAE-8EE3-F98D5672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C096-8C87-44EB-B2F8-A1B8F1A31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3:08:27Z</dcterms:created>
  <dc:creator>Yocco, Sherry</dc:creator>
  <dc:description/>
  <dc:language>en-US</dc:language>
  <cp:lastModifiedBy>Yocco, Sherry</cp:lastModifiedBy>
  <dcterms:modified xsi:type="dcterms:W3CDTF">2008-11-06T13:08:33Z</dcterms:modified>
  <cp:revision>1</cp:revision>
  <dc:subject/>
  <dc:title>Slide 1</dc:title>
</cp:coreProperties>
</file>