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BCB-09FD-4437-9ACD-7952E19A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FF7-01A0-4560-BF22-20491078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F1B-CB96-41AD-81B0-EF7032B3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91A-AF4F-4AAE-A3F7-59656524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EBB-1B60-43FC-A47B-0E8655B0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104-85ED-47EA-989E-99546888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7B3-B845-4B37-9E01-D47619A5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584-66FD-4106-B06B-0206E0DD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EDE-6499-4C50-B0B4-C24F2885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C57-E86A-4A88-9288-74F47D7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A20-89D3-4378-83F5-7C7DF0D0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6F0-AD6E-4A65-AE33-0E6F5040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AD3E-9761-475D-B137-899A4D8EE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3:08:27Z</dcterms:created>
  <dc:creator>Yocco, Sherry</dc:creator>
  <dc:description/>
  <dc:language>en-US</dc:language>
  <cp:lastModifiedBy>Yocco, Sherry</cp:lastModifiedBy>
  <dcterms:modified xsi:type="dcterms:W3CDTF">2008-11-06T13:08:33Z</dcterms:modified>
  <cp:revision>1</cp:revision>
  <dc:subject/>
  <dc:title>Slide 1</dc:title>
</cp:coreProperties>
</file>