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B401-1F10-4668-9124-C7C4032AD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CD0D-2B36-4AAC-B291-15C6A416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056D-F4BC-412E-8824-1223D4A91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DA6E-2993-402B-B6BF-D2BBEAB4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4A3B-7EC1-4F71-8D74-0091DE3B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94F9-55C6-4544-91B0-8F87FAB3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86E7-0322-4D01-ADD6-8CF86397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846E-39CE-4123-82EB-ABCB598E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3739-6273-493F-9C42-C84A79B9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C7BF-48AF-453B-AAB0-231C1F73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207F-CF7A-4C9E-8CCA-3638E667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1B19-9C92-4B2E-AC5E-AA54B86F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AEA8-C0DF-4770-9895-6C73F48931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7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8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9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3:08:27Z</dcterms:created>
  <dc:creator>Yocco, Sherry</dc:creator>
  <dc:description/>
  <dc:language>en-US</dc:language>
  <cp:lastModifiedBy>Yocco, Sherry</cp:lastModifiedBy>
  <dcterms:modified xsi:type="dcterms:W3CDTF">2008-11-06T13:08:33Z</dcterms:modified>
  <cp:revision>1</cp:revision>
  <dc:subject/>
  <dc:title>Slide 1</dc:title>
</cp:coreProperties>
</file>