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4385-7E33-4EC0-A0DB-FD72AC91E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53E4-8380-4355-8FD4-6CB71D7A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C167-69EA-4D79-B5A4-C77F867D6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09B6-E1D6-47CE-9F91-2A3787376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81D4-F74B-4374-A3FC-AF3A447B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99CE-99E2-477C-B122-C42D05DD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BA5A-9DF1-4259-BF57-F019B762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21EF-BECB-4B2B-8937-221499E0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FB85-0920-441A-B877-8D6EEE56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020D-F8F6-440A-BA91-867B66E9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14ED-47AF-4898-A07D-E396DA6F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3878-1E3E-4F0C-B7CB-743F304C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0C39-F400-4C56-BCF0-727E87E42D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7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8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9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3:08:27Z</dcterms:created>
  <dc:creator>Yocco, Sherry</dc:creator>
  <dc:description/>
  <dc:language>en-US</dc:language>
  <cp:lastModifiedBy>Yocco, Sherry</cp:lastModifiedBy>
  <dcterms:modified xsi:type="dcterms:W3CDTF">2008-11-06T13:08:33Z</dcterms:modified>
  <cp:revision>1</cp:revision>
  <dc:subject/>
  <dc:title>Slide 1</dc:title>
</cp:coreProperties>
</file>