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DE38-9E1F-4CA6-B7A6-AD7023FA8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28C5-F3B2-4B4B-B00E-3833ABF4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68C1-E3B8-4C85-90CD-B64EC32D7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895C-4608-40E2-AE68-8FB8180BC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6B40-B672-4CBA-B315-0B0EBB9E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0A1A-0029-4615-A171-71ADCA6C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9707-9AB1-4FDE-8FBA-B1E39BF2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1578-F48C-46BD-80DC-646E249F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9AB4-A124-4CB7-A238-E2CF0CA9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324F-2614-4E4F-A9E7-E3A73395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F7A9-3FF4-428B-9FF6-29175348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CD3B-557C-4795-BBAB-DD7C0554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7C52-E0E3-450A-A991-DAC3E7815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ur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your favorite book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your least favorite book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kinds of sentence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How hot it is today!  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Have you ever seen a live kangaroo?  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What a great fireworks display that was! 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Construction of the new school will begin in the spring.  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My little brother’s favorite movi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Lion King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Let me help you with those heavy suitcases. 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How hot it is today!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clam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Have you ever seen a live kangaroo?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terro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What a great fireworks display that was!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clam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Construction of the new school will begin in the spring.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cla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My little brother’s favorite movi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Lion King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cla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Let me help you with those heavy suitcases.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ences and Fra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Sentence has two parts: a subject and a predic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mily Dickenson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rote poet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ences and Fra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mily Dickenson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rote poet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ubject pa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sentence names whom or what the sentence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dicate pa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sentence tells what the subject does or has.  It can also tell what the subject is or is 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ences and Fra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ntence frag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es not express a complete thought.  It may also be missing a subject, a predicate, or bo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poem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s a pred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rote about her emo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s a 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f mea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s a subject and a pred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Sentences and Fragment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sentence or fragment for each item.  Underline the subject part once and the predicate part twice.  For each fragment, add a subject or a predicate or both to make it a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Mr. Wilson teaches life science at the middle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Over the river and through the wo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howed me a book about pioneers in Mont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m having a good time at summer cam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Sentences and Fragment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r. Wils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eaches life science at the middle scho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Over the river and through the woods.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rag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Showed me a book about pioneers in Montana.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ra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Am having a good time at summer camp.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ra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Sentences and Fragment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Jacob writes a letter to his parents once a we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Frogs begin life as tadp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This unusual photograph shows a sandstorm in the dese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Everywhere on this planet and throughout the solar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Won the game by just two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  A huge green and white beach umbr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Sentences and Fragment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Jaco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rites a letter to his parents once a wee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n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o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egin life as tadpo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n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is unusual photo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ows a sandstorm in the desert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n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Everywhere on this planet and throughout the solar system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Won the game by just two points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  A huge green and white beach umbrella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ds of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ds of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group of words that expresses a complete thou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ds of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clarative sen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kes a statement.  It ends with a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dgar Allan Poe wrote suspenseful short st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ds of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errogative sen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ks a question.  It ends with a question m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id Poe also write poet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ds of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mperative sen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ves a command or makes a reques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ad “The Pit and the Pendulum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ds of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xclamatory sen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presses strong feeling.  It ends with an exclamation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at a great writer Poe w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w I enjoy his stor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kinds of sentence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declarative, interrogative, imperative, or exclamatory to identify each sentenc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re elephants the largest land animals?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You can reach California by traveling west.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on’t forget your mother’s birthday.  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Bring me those papers on the desk.  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kinds of sentence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declarative, interrogative, imperative, or exclamatory to identify each sentenc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elephants the largest land animals?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terro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You can reach California by traveling west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cla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on’t forget your mother’s birthday.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Bring me those papers on the desk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11:53:42Z</dcterms:created>
  <dc:creator>althofb</dc:creator>
  <dc:description/>
  <dc:language>en-US</dc:language>
  <cp:lastModifiedBy>AlthofB</cp:lastModifiedBy>
  <dcterms:modified xsi:type="dcterms:W3CDTF">2007-08-23T14:38:48Z</dcterms:modified>
  <cp:revision>3</cp:revision>
  <dc:subject/>
  <dc:title>Kinds of Sentences</dc:title>
</cp:coreProperties>
</file>