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7ED-680B-4A5B-AE43-1ED4920E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104-D385-494B-875C-B101D33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951-5711-4130-AB7F-F4291107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EB3-ADBF-4D7C-94AF-EAF3DDE2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4C2-866D-4DC1-B218-C89C05F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DEF-83E7-4563-B7A1-9C7D62C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8FF-C8D5-4F2E-A4A1-532A2B8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124-E4A0-4CB1-9550-9359C470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2D1-AF94-4693-8B87-1C579600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E41-BF50-48A8-ADE0-4221518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D75-AD3D-434B-AD2B-2A52ADC5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968-DA6C-40C5-A8D2-6053024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23B-2F46-41E7-AEB0-0B305DB58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least favorite boo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hot it is today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ave you ever seen a live kangaroo?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What a great fireworks display that was!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clam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Construction of the new school will begin in the spring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My little brother’s favorite movi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on Kin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Let me help you with those heavy suitcases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ntence has two parts: a subject and a predi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ily Dickens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rote poe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names whom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ate p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entence tells what the subject does or has.  It can also tell what the subject is or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and Fra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fra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press a complete thought.  It may also be missing a subject, a predicate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poem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rote about her emo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a subject and a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entence or fragment for each item.  Underline the subject part once and the predicate part twice.  For each fragment, add a subject or a predicate or both to make it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r. Wilson teaches life science at the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ver the river and through the w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howed me a book about pioneers in Mont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m having a good time at summer ca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r. Wil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s life science at the middle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ver the river and through the woods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howed me a book about pioneers in Montana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 having a good time at summer camp.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cob writes a letter to his parents once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Frogs begin life as tad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This unusual photograph shows a sandstorm in the des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Sentences and Frag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c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s a letter to his parents once a we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gin life as tadp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s unusual photo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s a sandstorm in the deser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Everywhere on this planet and throughout the solar system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Won the game by just two points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 A huge green and white beach umbrella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words that expresses a complete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cla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kes a statement.  It ends with a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dgar Allan Poe wrote suspenseful short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og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s a question.  It ends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d Poe also write poe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erative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s a command or makes a requ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d “The Pit and the Pendulu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s of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lamatory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resses strong feeling.  It ends with an exclamatio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 great writer Poe w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I enjoy hi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elephants the largest land animals?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kinds of sentenc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eclarative, interrogative, imperative, or exclamatory to identify each sent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phants the largest land animals?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ro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You can reach California by traveling west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n’t forget your mother’s birthday.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ing me those papers on the desk.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1:53:42Z</dcterms:created>
  <dc:creator>althofb</dc:creator>
  <dc:description/>
  <dc:language>en-US</dc:language>
  <cp:lastModifiedBy>AlthofB</cp:lastModifiedBy>
  <dcterms:modified xsi:type="dcterms:W3CDTF">2007-08-23T14:38:48Z</dcterms:modified>
  <cp:revision>3</cp:revision>
  <dc:subject/>
  <dc:title>Kinds of Sentences</dc:title>
</cp:coreProperties>
</file>