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C2ED-F018-42C5-ADF1-0286E16E1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4727-68D0-42F0-B965-41B2E1FE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3F8B-F551-47DB-B15E-05E9A500E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8A28-663D-4CE1-AEF8-088647D2E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50A0-AD3A-4A07-8604-7727F4AF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A288-BDD8-47B0-8645-585C3DD3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9314-6C5B-435B-9AE8-5A23CAC8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5B29-F536-499F-9DFA-C1621844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6904-32CF-426C-962D-C839112D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C266-D84D-42D7-A370-BF3BD25B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2829-E19B-4282-8073-97D26375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AB7A-CC1C-4D2A-8CBD-6B5A96D0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81FE-7CAB-40AE-9B7C-3DD41D9FB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ur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your favorite book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your least favorite book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kinds of sentence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How hot it is today!  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Have you ever seen a live kangaroo?  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What a great fireworks display that was! 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Construction of the new school will begin in the spring.  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My little brother’s favorite movie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Lion King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Let me help you with those heavy suitcases. 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How hot it is today!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clam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Have you ever seen a live kangaroo?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terro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What a great fireworks display that was!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clam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Construction of the new school will begin in the spring.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cla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My little brother’s favorite movie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Lion King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cla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Let me help you with those heavy suitcases.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pe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tences and Fra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Sentence has two parts: a subject and a predic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mily Dickenson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rote poet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tences and Fra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mily Dickenson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rote poet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ubject pa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sentence names whom or what the sentence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dicate pa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sentence tells what the subject does or has.  It can also tell what the subject is or is 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tences and Fra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ntence frag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es not express a complete thought.  It may also be missing a subject, a predicate, or bo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 poem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s a pred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rote about her emo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s a 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f mea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s a subject and a pred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Sentences and Fragment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sentence or fragment for each item.  Underline the subject part once and the predicate part twice.  For each fragment, add a subject or a predicate or both to make it a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Mr. Wilson teaches life science at the middle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Over the river and through the wo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howed me a book about pioneers in Mont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m having a good time at summer cam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Sentences and Fragment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r. Wils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eaches life science at the middle scho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Over the river and through the woods.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rag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Showed me a book about pioneers in Montana.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ra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Am having a good time at summer camp.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ra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Sentences and Fragment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Jacob writes a letter to his parents once a we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Frogs begin life as tadpo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This unusual photograph shows a sandstorm in the dese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Everywhere on this planet and throughout the solar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Won the game by just two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  A huge green and white beach umbr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Sentences and Fragment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Jaco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rites a letter to his parents once a wee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n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o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egin life as tadpo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n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is unusual photogra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ows a sandstorm in the desert.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n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Everywhere on this planet and throughout the solar system.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Won the game by just two points.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  A huge green and white beach umbrella.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ds of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ds of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group of words that expresses a complete thou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ds of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clarative sen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kes a statement.  It ends with a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dgar Allan Poe wrote suspenseful short st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ds of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errogative sen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ks a question.  It ends with a question m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id Poe also write poet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ds of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mperative sen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ves a command or makes a reques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ead “The Pit and the Pendulum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ds of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xclamatory sen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presses strong feeling.  It ends with an exclamation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at a great writer Poe w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ow I enjoy his stori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kinds of sentence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declarative, interrogative, imperative, or exclamatory to identify each sentenc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re elephants the largest land animals?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You can reach California by traveling west.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on’t forget your mother’s birthday.  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Bring me those papers on the desk.  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kinds of sentence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declarative, interrogative, imperative, or exclamatory to identify each sentenc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elephants the largest land animals?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terro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You can reach California by traveling west.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cla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on’t forget your mother’s birthday.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pe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Bring me those papers on the desk.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pe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9T11:53:42Z</dcterms:created>
  <dc:creator>althofb</dc:creator>
  <dc:description/>
  <dc:language>en-US</dc:language>
  <cp:lastModifiedBy>AlthofB</cp:lastModifiedBy>
  <dcterms:modified xsi:type="dcterms:W3CDTF">2007-08-23T14:38:48Z</dcterms:modified>
  <cp:revision>3</cp:revision>
  <dc:subject/>
  <dc:title>Kinds of Sentences</dc:title>
</cp:coreProperties>
</file>