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6DD-1BAB-438A-BB5F-D52A5879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D96-255F-4A4A-B483-8ADF02C3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4EA-CBAB-4633-81ED-7D65CB07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672-9500-473A-B595-A2E34372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66C-B677-4AAB-9E09-9E710A66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6FC-B0A6-4001-AE6E-2DD2FD57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9D7-1AA9-4AA6-AE13-2271212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8FF-CE00-46F3-AD92-F8D3782C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EEC-346A-42F0-B20B-08276480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F67-CB9A-45B5-A4E4-F39DFA72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E3E-2198-43B2-843C-83452BC9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361-C9C2-4607-83A1-E6FBAC9A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A248-79F5-46CD-BF5D-2C5BBE9B6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entence has two parts: a subject and a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ject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names whom or w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ate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tells what the subject does or has.  It can also tell what the subject is or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ntence frag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express a complete thought.  It may also be missing a subject, a predicate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poem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rote about her emo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f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 and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entence or fragment for each item.  Underline the subject part once and the predicate part twice.  For each fragment, add a subject or a predicate or both to make it a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r. Wilson teaches life science at the middl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ver the river and through the w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howed me a book about pioneers in Mont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m having a good time at summer ca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r. Wil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es life science at the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ver the river and through the woods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howed me a book about pioneers in Montana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 having a good time at summer camp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cob writes a letter to his parents once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Frogs begin life as tad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This unusual photograph shows a sandstorm in the de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ac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s a letter to his parents once a we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gin life as tadp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s unusual photo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ws a sandstorm in the deser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group of words that expresses a complete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cla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kes a statement.  It ends with a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dgar Allan Poe wrote suspenseful short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og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ks a question.  It ends with a ques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Poe also write poe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e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s a command or makes a requ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d “The Pit and the Pendulu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lamatory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resses strong feeling.  It ends with an exclamatio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 great writer Poe w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I enjoy hi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e elephants the largest land animals?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lephants the largest land animals?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1:53:42Z</dcterms:created>
  <dc:creator>althofb</dc:creator>
  <dc:description/>
  <dc:language>en-US</dc:language>
  <cp:lastModifiedBy>AlthofB</cp:lastModifiedBy>
  <dcterms:modified xsi:type="dcterms:W3CDTF">2007-08-23T14:38:48Z</dcterms:modified>
  <cp:revision>3</cp:revision>
  <dc:subject/>
  <dc:title>Kinds of Sentences</dc:title>
</cp:coreProperties>
</file>