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3D4-B069-456B-A40E-22B8765D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F06-00BE-4308-8BEA-8A744A36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E99-5718-46CB-8EB6-F03EB968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511-7AA3-4565-93DA-EEBE71BA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79B-2A39-4D54-8A89-EAAFE043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00F-D5D8-4248-A18A-07ECA240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73E-97D8-47B6-B993-DA21BFC9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CF2-5826-4C3B-A29B-85C8027A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62E-23C1-41E3-85B1-F5533EB3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533-E3BC-43E5-BF8C-88136E20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F71-50DD-4BE1-BB69-09B62B1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ED1-D7DB-4C21-95D4-75ADF65A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1E30-291A-4E42-B36F-C7DB0A6E1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favorite boo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least favorite boo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hot it is today!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ave you ever seen a live kangaroo? 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What a great fireworks display that was! 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onstruction of the new school will begin in the spring.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My little brother’s favorite movi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ion K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Let me help you with those heavy suitcases. 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hot it is today!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lam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ave you ever seen a live kangaroo?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ro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What a great fireworks display that was!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lam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onstruction of the new school will begin in the spring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My little brother’s favorite movi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ion K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Let me help you with those heavy suitcases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entence has two parts: a subject and a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Dickens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po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Dickens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po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ject p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entence names whom or what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ate p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entence tells what the subject does or has.  It can also tell what the subject is or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ntence frag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express a complete thought.  It may also be missing a subject, a predicate, o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poem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rote about her emo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f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subject and a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entence or fragment for each item.  Underline the subject part once and the predicate part twice.  For each fragment, add a subject or a predicate or both to make it a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r. Wilson teaches life science at the middl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Over the river and through the w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howed me a book about pioneers in Mont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m having a good time at summer ca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r. Wil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aches life science at the middle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ver the river and through the woods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howed me a book about pioneers in Montana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 having a good time at summer camp.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cob writes a letter to his parents once a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Frogs begin life as tad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This unusual photograph shows a sandstorm in the de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Everywhere on this planet and throughout the sola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Won the game by just two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A huge green and white beach umbr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ac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s a letter to his parents once a we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gin life as tadp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is unusual photo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ws a sandstorm in the desert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Everywhere on this planet and throughout the solar system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Won the game by just two points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A huge green and white beach umbrella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group of words that expresses a complete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clar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kes a statement.  It ends with a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dgar Allan Poe wrote suspenseful short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rog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ks a question.  It ends with a ques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 Poe also write poe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er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s a command or makes a requ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ad “The Pit and the Pendulu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clamatory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resses strong feeling.  It ends with an exclamatio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a great writer Poe w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I enjoy hi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eclarative, interrogative, imperative, or exclamatory to identify each sent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e elephants the largest land animals?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You can reach California by traveling west.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n’t forget your mother’s birthday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ing me those papers on the desk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eclarative, interrogative, imperative, or exclamatory to identify each sent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lephants the largest land animals?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ro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You can reach California by traveling west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n’t forget your mother’s birthday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ing me those papers on the desk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1:53:42Z</dcterms:created>
  <dc:creator>althofb</dc:creator>
  <dc:description/>
  <dc:language>en-US</dc:language>
  <cp:lastModifiedBy>AlthofB</cp:lastModifiedBy>
  <dcterms:modified xsi:type="dcterms:W3CDTF">2007-08-23T14:38:48Z</dcterms:modified>
  <cp:revision>3</cp:revision>
  <dc:subject/>
  <dc:title>Kinds of Sentences</dc:title>
</cp:coreProperties>
</file>