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2F3-6FB1-49AC-B5D3-6CDE8E0A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1E5-3481-4DA8-ABE6-2EDB5001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DD6-90A2-4745-9B8D-B94F6414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60B-DE4E-4690-88D9-88ABC4C9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68F-FBA2-49BB-80A9-E89D428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D43-A848-434E-AAF6-2F20B694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62D-D8E6-441B-BED0-7100885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478-DFF2-47C6-BD41-BC3D179C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A07-D06F-48A2-B209-E10BBC5D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B1E-7E27-47CC-8BFA-85B8DF1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0D4-233F-4B65-9339-B21F9FA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13B-E6ED-4E7A-B774-4D74861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17D3-34E1-4E09-A6D5-A558C379A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840" y="177840"/>
            <a:ext cx="110617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 The Grapes of Wrath, by John Steinbeck, tells the story of the Jo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mily. Forced by the dust bowl to leave their farm in Oklahoma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30s, they travel to California in search of work. Along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usands of other migrant farm workers who have come to California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ter their lives, the Joads find conditions harsh and work difficult to f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poverty and starvation ever-present, the migrant workers must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ingly kind and charitable towards one another in order to surv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ust also organize against wealthy landowners who, in their quest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it, ignore the desperate conditions of the workers'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ich fictional character below would not be a believable addition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stor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535932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410080"/>
            <a:ext cx="795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A.  Davis "Babe" Claussen, a traveling sales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B.  The James family, owners of a dusty gas station 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the de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C.  Mr. Hennessey, orange grove foreman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Imperial Val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D.  Sharon Mandible, astrona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203040"/>
            <a:ext cx="1066788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Once there was a little rabbit who lived on the edge of a forest. It was a pleasant forest, full of light and 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s to eat. Even though the rabbit had grown up close to this forest, he was somewhat nervous in it.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ten startled when he heard noises. One day as the little rabbit was lumping along nibbling at flowers,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ddenly startled by a rustling noise and a low growling that came from a spot several yards in back of him.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not see through the thick brush and was so terrified, not knowing what the noise could be, that he das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 as fast as his four legs could carry h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hipmunk saw him fleeing and called out, "Why are you running?" The rabbit said,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the chipmunk heard this, he began running with the rabbit. Not long afterward, they met a fox who ask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in such a hurry?" "A monster is coming!" The fox immediately joined them in running. So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s spread in this way through the forest, and soon a great many creatures were running for their lives. Th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d only one thought in mind: they must run. The faster they ran, the more frightened they bec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a cougar saw the fleeing animals. He roared to a bear who had joined the group, "You have such sha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ws, a fearsome growl, and so much strength. What are you running from so fast?"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ar said breathlessly. "What is this monster?" asked the cougar. "Well, I really don't know," he stamme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running then?" asked the cougar. The bear just stared stupidly. "Come on, let's find out what th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ster is. Who told you about it?" asked the cougar. "A deer," said the b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asked the deer, who said that a squirrel had told him. The squirrel said that a racoon had told h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question was passed from animal to animal until the chipmunk said that he had heard it from the rabbit.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gar went over to the rabbit, and the little rabbit said, "I heard it with my own ears. It was terrible! Come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, and I'll show you where I heard it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led the rest of the animals to the spot where he had heard the sound and pointed in the direction from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had come. Sure enough, after a moment or two, they all heard the rustling and the grow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went over to some bushes and found that an ordinary family dog had become entangled and cou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get free. The cougar slashed through the dog's trap, and the two animals went over to where the ot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od. "Now look, all of you. Here is your monster. What is so terrifying about a dog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ls all felt relieved and foolish. They had a good laugh at themselves. So much excitement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h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the stampede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ppens la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820404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208040" y="9245520"/>
            <a:ext cx="546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6880" y="9055080"/>
            <a:ext cx="7238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The bushes hide the moster well, and he is able to sneak up behi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nimals and scare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9800" y="2222640"/>
            <a:ext cx="119127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A. The bushes hide the monster well, and he is able to sneak up behind the animals and s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B.  Because the animals don't want to share the good food in the forest, they get scared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warned of a strange animal nea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C.  Because the growling animal is hidden by the thinck bushes of the forest, the rabbit can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see it and fearfully runs away to warn the other forest cr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D.  Out in the forest, there is a large amount of space in which animals can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9840" y="2209680"/>
            <a:ext cx="12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88840"/>
            <a:ext cx="10731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ampede that happens l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2440" y="-216000"/>
            <a:ext cx="112521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On Their Ow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iver Twist, the main character in Oliver Twist, by Charles Dickens, is a poor orphan who escape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etched orphanage and runs away to London. The time period is the 1830s. In London, Oliver wan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reets with a gang of criminal boys and receives an education in thievery. Throughout, Ol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ains his good heart and never gives up the search for his par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ex, the main character in The Wild Children, by Felice Holman, finds himself wandering through Rus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earch of distant relatives. His family has been stolen and probably imprisoned by the government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math of the Russian Revolution. The time period is the 1920s. Alex, who is twelve, joins up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homeless children running through Russia's cities in packs. The children, desperate and sick,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l to eat and to live. Throughout, Alex attempts to maintain his integrity in these awful conditions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no, the main character in Secret City, by Felice Holman, is a thirteen-year-old in the Bronx,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rk, in contemporary times. Grief stricken after his grandfather dies, Benno and other poor children b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gether. They convert a burned building, in a ravaged part of the city, into a refuge where hom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milies and children can live. They scour the city for what they need and find that they can improv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wn and others' l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three main characters band with other children and act out their stories on the streets of bi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ties. Although they live in different times and different cultures, what is the common motiv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their ac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19920"/>
            <a:ext cx="4102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A.  Love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B.  Peer pressure to do the right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C.  The thrill of a life of c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D.  The will to surv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3840" y="380880"/>
            <a:ext cx="119761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aurence Yep is a third-generation Chinese American, born in San Francisco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48. He has written many young adult novels, as well as an autobiography.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raws on his Chinese heritage and his knowledge of San Francisco'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town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ote one of the following books. Find the one he wr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2692440"/>
            <a:ext cx="1108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.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Hello My Name is Scrambled Eggs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the story of a boy whose fam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sponsers a Vietnamese family that comes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B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Novio Boy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play about dating in a Mexican-Americ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C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Children of the Owl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novel about a young girl who knows no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bout her cultural heritage until she has to move in with 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grandmother in China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D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If You Lived at the Time of the Great San Francisco Earthquake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factual book about the earthquake that occured in San Francisco in 19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14Z</dcterms:created>
  <dc:creator>schottw</dc:creator>
  <dc:description/>
  <dc:language>en-US</dc:language>
  <cp:lastModifiedBy>schottw</cp:lastModifiedBy>
  <dcterms:modified xsi:type="dcterms:W3CDTF">2008-03-18T20:23:14Z</dcterms:modified>
  <cp:revision>1</cp:revision>
  <dc:subject/>
  <dc:title>Slide 1</dc:title>
</cp:coreProperties>
</file>