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2764-4548-44E4-96B4-A219646FA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B46A-2DCC-472B-B95D-FE61DAF6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77A6-FA3A-4B57-ABC0-56880E3D8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6103-FC6C-4863-9E6B-120193A51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900B-A022-4146-AF57-9033D213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0B23-3433-469D-BA02-CBC2CC54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F572-2959-43C9-9102-3DE3E370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A0E0-0984-41B8-B705-959B1AB2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8482-4C21-4FAC-907E-4232599D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7166-5DD4-4409-8AB4-EE9BAC5E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3490-7AD7-49FB-89AD-14909520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25FD-5356-43EA-8142-4CAEFD02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C99A-547B-481A-9666-A8C89998A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3840" y="177840"/>
            <a:ext cx="11061720" cy="48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.  The Grapes of Wrath, by John Steinbeck, tells the story of the Jo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mily. Forced by the dust bowl to leave their farm in Oklahoma in th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d-1930s, they travel to California in search of work. Along wit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ousands of other migrant farm workers who have come to California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tter their lives, the Joads find conditions harsh and work difficult to fin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th poverty and starvation ever-present, the migrant workers must b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reasingly kind and charitable towards one another in order to surviv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y must also organize against wealthy landowners who, in their quest f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fit, ignore the desperate conditions of the workers' liv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hich fictional character below would not be a believable addition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is story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5359320"/>
            <a:ext cx="127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5410080"/>
            <a:ext cx="79502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00000"/>
                </a:solidFill>
                <a:latin typeface="Times New Roman"/>
              </a:rPr>
              <a:t>A.  Davis "Babe" Claussen, a traveling salesm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00000"/>
                </a:solidFill>
                <a:latin typeface="Times New Roman"/>
              </a:rPr>
              <a:t>B.  The James family, owners of a dusty gas station i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00000"/>
                </a:solidFill>
                <a:latin typeface="Times New Roman"/>
              </a:rPr>
              <a:t>the dese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00000"/>
                </a:solidFill>
                <a:latin typeface="Times New Roman"/>
              </a:rPr>
              <a:t>C.  Mr. Hennessey, orange grove foreman in th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00000"/>
                </a:solidFill>
                <a:latin typeface="Times New Roman"/>
              </a:rPr>
              <a:t>Imperial Vall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00000"/>
                </a:solidFill>
                <a:latin typeface="Times New Roman"/>
              </a:rPr>
              <a:t>D.  Sharon Mandible, astrona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07960" y="203040"/>
            <a:ext cx="10667880" cy="9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Once there was a little rabbit who lived on the edge of a forest. It was a pleasant forest, full of light and goo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ngs to eat. Even though the rabbit had grown up close to this forest, he was somewhat nervous in it. He w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ten startled when he heard noises. One day as the little rabbit was lumping along nibbling at flowers, he w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ddenly startled by a rustling noise and a low growling that came from a spot several yards in back of him. 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uld not see through the thick brush and was so terrified, not knowing what the noise could be, that he dash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f as fast as his four legs could carry hi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chipmunk saw him fleeing and called out, "Why are you running?" The rabbit said, "A monster is coming!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en the chipmunk heard this, he began running with the rabbit. Not long afterward, they met a fox who asked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Why are you in such a hurry?" "A monster is coming!" The fox immediately joined them in running. So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s spread in this way through the forest, and soon a great many creatures were running for their lives. The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d only one thought in mind: they must run. The faster they ran, the more frightened they bec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n a cougar saw the fleeing animals. He roared to a bear who had joined the group, "You have such shar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ws, a fearsome growl, and so much strength. What are you running from so fast?" "A monster is coming!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bear said breathlessly. "What is this monster?" asked the cougar. "Well, I really don't know," he stammere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Why are you running then?" asked the cougar. The bear just stared stupidly. "Come on, let's find out what th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nster is. Who told you about it?" asked the cougar. "A deer," said the be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cougar asked the deer, who said that a squirrel had told him. The squirrel said that a racoon had told him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question was passed from animal to animal until the chipmunk said that he had heard it from the rabbit.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ugar went over to the rabbit, and the little rabbit said, "I heard it with my own ears. It was terrible! Come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, and I'll show you where I heard it.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 led the rest of the animals to the spot where he had heard the sound and pointed in the direction from whi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t had come. Sure enough, after a moment or two, they all heard the rustling and the growl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cougar went over to some bushes and found that an ordinary family dog had become entangled and cou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 get free. The cougar slashed through the dog's trap, and the two animals went over to where the oth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ood. "Now look, all of you. Here is your monster. What is so terrifying about a dog?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animals all felt relieved and foolish. They had a good laugh at themselves. So much excitement abou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hi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hich is the best reason why the setting of this story may be one of the causes for the stampede tha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appens late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38560" y="8204040"/>
            <a:ext cx="127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208040" y="9245520"/>
            <a:ext cx="5461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00000"/>
                </a:solidFill>
                <a:latin typeface="Times New Roman"/>
              </a:rPr>
              <a:t>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6880" y="9055080"/>
            <a:ext cx="72388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f00000"/>
                </a:solidFill>
                <a:latin typeface="Times New Roman"/>
              </a:rPr>
              <a:t>.  The bushes hide the moster well, and he is able to sneak up behind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f00000"/>
                </a:solidFill>
                <a:latin typeface="Times New Roman"/>
              </a:rPr>
              <a:t>nimals and scare th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f00000"/>
                </a:solidFill>
                <a:latin typeface="Times New Roman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9800" y="2222640"/>
            <a:ext cx="1191276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0000"/>
                </a:solidFill>
                <a:latin typeface="Times New Roman"/>
              </a:rPr>
              <a:t>A. The bushes hide the monster well, and he is able to sneak up behind the animals and sc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0000"/>
                </a:solidFill>
                <a:latin typeface="Times New Roman"/>
              </a:rPr>
              <a:t>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0000"/>
                </a:solidFill>
                <a:latin typeface="Times New Roman"/>
              </a:rPr>
              <a:t>B.  Because the animals don't want to share the good food in the forest, they get scared w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0000"/>
                </a:solidFill>
                <a:latin typeface="Times New Roman"/>
              </a:rPr>
              <a:t>warned of a strange animal nearb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0000"/>
                </a:solidFill>
                <a:latin typeface="Times New Roman"/>
              </a:rPr>
              <a:t>C.  Because the growling animal is hidden by the thinck bushes of the forest, the rabbit cann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0000"/>
                </a:solidFill>
                <a:latin typeface="Times New Roman"/>
              </a:rPr>
              <a:t>see it and fearfully runs away to warn the other forest crea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0000"/>
                </a:solidFill>
                <a:latin typeface="Times New Roman"/>
              </a:rPr>
              <a:t>D.  Out in the forest, there is a large amount of space in which animals can r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79840" y="2209680"/>
            <a:ext cx="126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888840"/>
            <a:ext cx="107316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ich is the best reason why the setting of this story may be one of the causes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stampede that happens l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22440" y="-216000"/>
            <a:ext cx="11252160" cy="59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 On Their Own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liver Twist, the main character in Oliver Twist, by Charles Dickens, is a poor orphan who escapes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retched orphanage and runs away to London. The time period is the 1830s. In London, Oliver wand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streets with a gang of criminal boys and receives an education in thievery. Throughout, Oli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tains his good heart and never gives up the search for his par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ex, the main character in The Wild Children, by Felice Holman, finds himself wandering through Russ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search of distant relatives. His family has been stolen and probably imprisoned by the government in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math of the Russian Revolution. The time period is the 1920s. Alex, who is twelve, joins up wi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ther homeless children running through Russia's cities in packs. The children, desperate and sick, mu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al to eat and to live. Throughout, Alex attempts to maintain his integrity in these awful conditions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nno, the main character in Secret City, by Felice Holman, is a thirteen-year-old in the Bronx, Ne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rk, in contemporary times. Grief stricken after his grandfather dies, Benno and other poor children b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gether. They convert a burned building, in a ravaged part of the city, into a refuge where homel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milies and children can live. They scour the city for what they need and find that they can improve thei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wn and others' liv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se three main characters band with other children and act out their stories on the streets of bi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ties. Although they live in different times and different cultures, what is the common motiv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 their action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6019920"/>
            <a:ext cx="41022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00000"/>
                </a:solidFill>
                <a:latin typeface="Times New Roman"/>
              </a:rPr>
              <a:t>A.  Love of coun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00000"/>
                </a:solidFill>
                <a:latin typeface="Times New Roman"/>
              </a:rPr>
              <a:t>B.  Peer pressure to do the right 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00000"/>
                </a:solidFill>
                <a:latin typeface="Times New Roman"/>
              </a:rPr>
              <a:t>C.  The thrill of a life of cr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00000"/>
                </a:solidFill>
                <a:latin typeface="Times New Roman"/>
              </a:rPr>
              <a:t>D.  The will to surv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93840" y="380880"/>
            <a:ext cx="11976120" cy="17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 Laurence Yep is a third-generation Chinese American, born in San Francisco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48. He has written many young adult novels, as well as an autobiography. H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ing draws on his Chinese heritage and his knowledge of San Francisco'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natown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e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ote one of the following books. Find the one he wro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960" y="2692440"/>
            <a:ext cx="1108728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0000"/>
                </a:solidFill>
                <a:latin typeface="Times New Roman"/>
              </a:rPr>
              <a:t>A. </a:t>
            </a:r>
            <a:r>
              <a:rPr b="1" lang="en-US" sz="2000" spc="-1" strike="noStrike" u="sng">
                <a:solidFill>
                  <a:srgbClr val="f00000"/>
                </a:solidFill>
                <a:uFillTx/>
                <a:latin typeface="Times New Roman"/>
              </a:rPr>
              <a:t>Hello My Name is Scrambled Eggs, </a:t>
            </a:r>
            <a:r>
              <a:rPr b="1" lang="en-US" sz="2000" spc="-1" strike="noStrike">
                <a:solidFill>
                  <a:srgbClr val="f00000"/>
                </a:solidFill>
                <a:latin typeface="Times New Roman"/>
              </a:rPr>
              <a:t>the story of a boy whose fami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0000"/>
                </a:solidFill>
                <a:latin typeface="Times New Roman"/>
              </a:rPr>
              <a:t>sponsers a Vietnamese family that comes to the United St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0000"/>
                </a:solidFill>
                <a:latin typeface="Times New Roman"/>
              </a:rPr>
              <a:t>B.  </a:t>
            </a:r>
            <a:r>
              <a:rPr b="1" lang="en-US" sz="2000" spc="-1" strike="noStrike" u="sng">
                <a:solidFill>
                  <a:srgbClr val="f00000"/>
                </a:solidFill>
                <a:uFillTx/>
                <a:latin typeface="Times New Roman"/>
              </a:rPr>
              <a:t>Novio Boy</a:t>
            </a:r>
            <a:r>
              <a:rPr b="1" lang="en-US" sz="2000" spc="-1" strike="noStrike">
                <a:solidFill>
                  <a:srgbClr val="f00000"/>
                </a:solidFill>
                <a:latin typeface="Times New Roman"/>
              </a:rPr>
              <a:t>, a play about dating in a Mexican-American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0000"/>
                </a:solidFill>
                <a:latin typeface="Times New Roman"/>
              </a:rPr>
              <a:t>C.  </a:t>
            </a:r>
            <a:r>
              <a:rPr b="1" lang="en-US" sz="2000" spc="-1" strike="noStrike" u="sng">
                <a:solidFill>
                  <a:srgbClr val="f00000"/>
                </a:solidFill>
                <a:uFillTx/>
                <a:latin typeface="Times New Roman"/>
              </a:rPr>
              <a:t>Children of the Owl</a:t>
            </a:r>
            <a:r>
              <a:rPr b="1" lang="en-US" sz="2000" spc="-1" strike="noStrike">
                <a:solidFill>
                  <a:srgbClr val="f00000"/>
                </a:solidFill>
                <a:latin typeface="Times New Roman"/>
              </a:rPr>
              <a:t>, a novel about a young girl who knows noth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0000"/>
                </a:solidFill>
                <a:latin typeface="Times New Roman"/>
              </a:rPr>
              <a:t>about her cultural heritage until she has to move in with 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0000"/>
                </a:solidFill>
                <a:latin typeface="Times New Roman"/>
              </a:rPr>
              <a:t>grandmother in Chinat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0000"/>
                </a:solidFill>
                <a:latin typeface="Times New Roman"/>
              </a:rPr>
              <a:t>D.  </a:t>
            </a:r>
            <a:r>
              <a:rPr b="1" lang="en-US" sz="2000" spc="-1" strike="noStrike" u="sng">
                <a:solidFill>
                  <a:srgbClr val="f00000"/>
                </a:solidFill>
                <a:uFillTx/>
                <a:latin typeface="Times New Roman"/>
              </a:rPr>
              <a:t>If You Lived at the Time of the Great San Francisco Earthquake, </a:t>
            </a:r>
            <a:r>
              <a:rPr b="1" lang="en-US" sz="2000" spc="-1" strike="noStrike">
                <a:solidFill>
                  <a:srgbClr val="f00000"/>
                </a:solidFill>
                <a:latin typeface="Times New Roman"/>
              </a:rPr>
              <a:t>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0000"/>
                </a:solidFill>
                <a:latin typeface="Times New Roman"/>
              </a:rPr>
              <a:t>factual book about the earthquake that occured in San Francisco in 19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3:14Z</dcterms:created>
  <dc:creator>schottw</dc:creator>
  <dc:description/>
  <dc:language>en-US</dc:language>
  <cp:lastModifiedBy>schottw</cp:lastModifiedBy>
  <dcterms:modified xsi:type="dcterms:W3CDTF">2008-03-18T20:23:14Z</dcterms:modified>
  <cp:revision>1</cp:revision>
  <dc:subject/>
  <dc:title>Slide 1</dc:title>
</cp:coreProperties>
</file>