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5402-A5C8-4FF0-8B57-19085851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7541-C42B-4DE5-985E-0CFB019F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420B-C5AA-43D2-AF0E-FC1D22F9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A485-147C-42B6-BCE0-D7356EA3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BDE2-A985-4863-9AC5-944A9323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FA73-F45A-416D-BE92-EC8E5999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FD5A-A088-4AF4-9D49-D518D953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D9AA-632D-4E3E-A5CF-4DC5070D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EDC5-0E6C-4EAB-B904-05C2931D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8863-B6F0-4C4A-A308-85D27C74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E1F0-3A04-4CDB-909E-3A1D24B6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9E01-E9AC-4F43-B970-70F29162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7384-2E0C-48A6-8B8D-9E57DE5C7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27280" y="1193760"/>
            <a:ext cx="185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27280" y="2540160"/>
            <a:ext cx="7518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yperbole is an exaggeration used for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terary effect such as emphasis, drama 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35040" y="888840"/>
            <a:ext cx="8953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"Mom's mashed potatoes taste like dirty socks" 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example of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816200"/>
            <a:ext cx="1028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87600" y="2768760"/>
            <a:ext cx="16128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87600" y="3720960"/>
            <a:ext cx="10666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87600" y="4673520"/>
            <a:ext cx="2450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1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35040" y="888840"/>
            <a:ext cx="6908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es 3-5 are a hyperbole because th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87600" y="1816200"/>
            <a:ext cx="2450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descrip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87600" y="2768760"/>
            <a:ext cx="2235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hum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87600" y="3720960"/>
            <a:ext cx="61848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ggerate how awful the cake tas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7600" y="4673520"/>
            <a:ext cx="64008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ggerate how much the cake weig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2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5040" y="888840"/>
            <a:ext cx="9080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ording to the hyperbole in line 6, Mom's soup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87600" y="1816200"/>
            <a:ext cx="2438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gh but tas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87600" y="2768760"/>
            <a:ext cx="25398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ck and stic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7600" y="3720960"/>
            <a:ext cx="22478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d in s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87600" y="4673520"/>
            <a:ext cx="2793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te and wat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3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35040" y="888840"/>
            <a:ext cx="5854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hyperbole in the third stan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87600" y="1816200"/>
            <a:ext cx="6311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s that her salads are very cle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87600" y="2768760"/>
            <a:ext cx="7238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ggests that her salads are filled with bu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7600" y="3720960"/>
            <a:ext cx="55497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s that her salads are soak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87600" y="4673520"/>
            <a:ext cx="6896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eals that the speaker doesn't like sal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4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35040" y="888840"/>
            <a:ext cx="6045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oet uses hyperbole to cre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87600" y="1816200"/>
            <a:ext cx="1434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d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87600" y="2768760"/>
            <a:ext cx="99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87600" y="3720960"/>
            <a:ext cx="11937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n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87600" y="4673520"/>
            <a:ext cx="11048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5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2:38Z</dcterms:created>
  <dc:creator>schottw</dc:creator>
  <dc:description/>
  <dc:language>en-US</dc:language>
  <cp:lastModifiedBy>schottw</cp:lastModifiedBy>
  <dcterms:modified xsi:type="dcterms:W3CDTF">2008-03-18T20:22:40Z</dcterms:modified>
  <cp:revision>1</cp:revision>
  <dc:subject/>
  <dc:title>Slide 1</dc:title>
</cp:coreProperties>
</file>