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8CC8-7684-467D-BAC5-AEE416586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9025-8716-411B-99E3-2E8C60614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3B0B-7024-4430-92E4-CA6BB4347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E42E-F454-4252-8C42-13C00592E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B55C-9B7C-461F-9CC2-0F6382054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A430-BA8F-453E-9A6F-FA99CD08A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7D0D-DE36-40C1-AF35-998AC0697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6F17-9A43-49DF-90C3-F0CBA2D56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5713-A33E-49E6-88C5-AC213ABA2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4447-82D4-4090-B7EC-F2DF87186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9076-9384-4EB1-8694-CED33B10E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6520-AFCE-44A7-AC7F-53EC1FED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AE33D-92A3-4D10-BF8E-7AED056EED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727280" y="1193760"/>
            <a:ext cx="1854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27280" y="2540160"/>
            <a:ext cx="7518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yperbole is an exaggeration used for 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iterary effect such as emphasis, drama o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umo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35040" y="888840"/>
            <a:ext cx="89535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"Mom's mashed potatoes taste like dirty socks" i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 example of 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52560" y="1816200"/>
            <a:ext cx="419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87600" y="1816200"/>
            <a:ext cx="10285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52560" y="2768760"/>
            <a:ext cx="431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87600" y="2768760"/>
            <a:ext cx="16128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52560" y="3720960"/>
            <a:ext cx="444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87600" y="3720960"/>
            <a:ext cx="106668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hy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52560" y="4673520"/>
            <a:ext cx="444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87600" y="4673520"/>
            <a:ext cx="24508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734920" y="127080"/>
            <a:ext cx="1143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uestion 1 (5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35040" y="888840"/>
            <a:ext cx="6908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ines 3-5 are a hyperbole because the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52560" y="1816200"/>
            <a:ext cx="419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87600" y="1816200"/>
            <a:ext cx="24508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e descrip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52560" y="2768760"/>
            <a:ext cx="431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87600" y="2768760"/>
            <a:ext cx="22352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e hum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52560" y="3720960"/>
            <a:ext cx="444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587600" y="3720960"/>
            <a:ext cx="618480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ggerate how awful the cake tas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52560" y="4673520"/>
            <a:ext cx="444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87600" y="4673520"/>
            <a:ext cx="64008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ggerate how much the cake weigh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734920" y="127080"/>
            <a:ext cx="1143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uestion 2 (5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35040" y="888840"/>
            <a:ext cx="9080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ording to the hyperbole in line 6, Mom's soup 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52560" y="1816200"/>
            <a:ext cx="419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87600" y="1816200"/>
            <a:ext cx="24382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gh but tas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52560" y="2768760"/>
            <a:ext cx="431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87600" y="2768760"/>
            <a:ext cx="25398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ck and stick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52560" y="3720960"/>
            <a:ext cx="444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87600" y="3720960"/>
            <a:ext cx="224784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ld in st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52560" y="4673520"/>
            <a:ext cx="444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587600" y="4673520"/>
            <a:ext cx="27939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te and wate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734920" y="127080"/>
            <a:ext cx="1143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uestion 3 (5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35040" y="888840"/>
            <a:ext cx="58546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hyperbole in the third stanz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52560" y="1816200"/>
            <a:ext cx="419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87600" y="1816200"/>
            <a:ext cx="63118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lains that her salads are very cle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52560" y="2768760"/>
            <a:ext cx="431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87600" y="2768760"/>
            <a:ext cx="72388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ggests that her salads are filled with bu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52560" y="3720960"/>
            <a:ext cx="444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87600" y="3720960"/>
            <a:ext cx="55497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ows that her salads are soak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52560" y="4673520"/>
            <a:ext cx="444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87600" y="4673520"/>
            <a:ext cx="6896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veals that the speaker doesn't like sal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734920" y="127080"/>
            <a:ext cx="1143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uestion 4 (5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35040" y="888840"/>
            <a:ext cx="6045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poet uses hyperbole to cre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52560" y="1816200"/>
            <a:ext cx="419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87600" y="1816200"/>
            <a:ext cx="14349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d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52560" y="2768760"/>
            <a:ext cx="431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87600" y="2768760"/>
            <a:ext cx="99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g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52560" y="3720960"/>
            <a:ext cx="444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87600" y="3720960"/>
            <a:ext cx="11937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ung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52560" y="4673520"/>
            <a:ext cx="444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87600" y="4673520"/>
            <a:ext cx="11048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um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734920" y="127080"/>
            <a:ext cx="1143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uestion 5 (5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20:22:38Z</dcterms:created>
  <dc:creator>schottw</dc:creator>
  <dc:description/>
  <dc:language>en-US</dc:language>
  <cp:lastModifiedBy>schottw</cp:lastModifiedBy>
  <dcterms:modified xsi:type="dcterms:W3CDTF">2008-03-18T20:22:40Z</dcterms:modified>
  <cp:revision>1</cp:revision>
  <dc:subject/>
  <dc:title>Slide 1</dc:title>
</cp:coreProperties>
</file>