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F77-3D4D-43BD-9839-3591CF36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8B9-D5B7-4FEC-B2C1-DFF79E6D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0428-78EA-4CE4-B37D-AA33BECA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96A-90F6-47A9-AA9E-DE4FA52C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F8E-5AE9-46FB-9BE8-CC747B59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138-C6F5-4422-BCE2-C65845A3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ECC-AFB8-4209-8E81-B36CC525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5EA-238F-43A5-BBFA-C9D84D74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386-9022-466F-8F73-99D583F4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CD06-8D9A-4CE7-940C-A5927165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D68-2A7C-406E-916E-9212BB0C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D11-BB85-4403-B853-68469A2E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F8AB-6825-4AE2-942C-E789CA72E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27280" y="1193760"/>
            <a:ext cx="185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27280" y="2540160"/>
            <a:ext cx="7518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yperbole is an exaggeration used for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terary effect such as emphasis, drama 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5040" y="888840"/>
            <a:ext cx="895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"Mom's mashed potatoes taste like dirty socks"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example of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816200"/>
            <a:ext cx="1028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0" y="2768760"/>
            <a:ext cx="1612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0" y="3720960"/>
            <a:ext cx="10666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0" y="4673520"/>
            <a:ext cx="245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1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5040" y="888840"/>
            <a:ext cx="6908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3-5 are a hyperbole because th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0" y="1816200"/>
            <a:ext cx="245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descrip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7600" y="2768760"/>
            <a:ext cx="2235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hu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3720960"/>
            <a:ext cx="6184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ggerate how awful the cake tas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0" y="4673520"/>
            <a:ext cx="6400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ggerate how much the cake weig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2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5040" y="888840"/>
            <a:ext cx="9080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rding to the hyperbole in line 6, Mom's soup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0" y="1816200"/>
            <a:ext cx="2438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gh but tas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0" y="2768760"/>
            <a:ext cx="2539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 and st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3720960"/>
            <a:ext cx="22478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d in s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0" y="4673520"/>
            <a:ext cx="2793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te and wat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3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040" y="888840"/>
            <a:ext cx="5854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hyperbole in the third st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7600" y="1816200"/>
            <a:ext cx="6311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s that her salads are very cl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7600" y="2768760"/>
            <a:ext cx="7238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ggests that her salads are filled with b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0" y="3720960"/>
            <a:ext cx="55497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s that her salads are soa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0" y="4673520"/>
            <a:ext cx="6896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eals that the speaker doesn't like sa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4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5040" y="888840"/>
            <a:ext cx="6045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oet uses hyperbole to cre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7600" y="1816200"/>
            <a:ext cx="1434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d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87600" y="2768760"/>
            <a:ext cx="99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87600" y="3720960"/>
            <a:ext cx="11937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n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7600" y="4673520"/>
            <a:ext cx="11048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5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2:38Z</dcterms:created>
  <dc:creator>schottw</dc:creator>
  <dc:description/>
  <dc:language>en-US</dc:language>
  <cp:lastModifiedBy>schottw</cp:lastModifiedBy>
  <dcterms:modified xsi:type="dcterms:W3CDTF">2008-03-18T20:22:40Z</dcterms:modified>
  <cp:revision>1</cp:revision>
  <dc:subject/>
  <dc:title>Slide 1</dc:title>
</cp:coreProperties>
</file>