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306-42B8-4E70-A888-D067F688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865-E968-4C06-8F8C-71B6F418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11C-FE3F-4210-BCEE-93ACD6D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7F6-8D5C-4152-83BC-39FFB7B1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3CF-52EF-44A1-AA4E-412254E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631-985D-4FFF-AA41-E3F20F02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200-5F9D-49F3-A55F-8119C5D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37A-3CAB-4125-8C7E-12D497F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6F9-0A27-4A9A-87B3-EB2D260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3A7-5760-4AB0-AD6E-810F6C6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837-D59E-45B0-A8C3-D0593B4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BA6-330F-4C68-8143-D951F033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F7DD-892F-405C-9471-9F6C7183B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27280" y="1193760"/>
            <a:ext cx="185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27280" y="2540160"/>
            <a:ext cx="751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erbole is an exaggeration used for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terary effect such as emphasis, drama 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5040" y="888840"/>
            <a:ext cx="895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"Mom's mashed potatoes taste like dirty socks"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816200"/>
            <a:ext cx="1028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87600" y="2768760"/>
            <a:ext cx="1612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87600" y="3720960"/>
            <a:ext cx="1066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7600" y="467352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35040" y="888840"/>
            <a:ext cx="690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s 3-5 are a hyperbole because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0" y="1816200"/>
            <a:ext cx="2450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87600" y="2768760"/>
            <a:ext cx="22352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3720960"/>
            <a:ext cx="6184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awful the cake t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0" y="4673520"/>
            <a:ext cx="6400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ggerate how much the cake weig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5040" y="888840"/>
            <a:ext cx="9080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rding to the hyperbole in line 6, Mom's soup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0" y="181620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gh but tas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87600" y="2768760"/>
            <a:ext cx="2539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 and st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3720960"/>
            <a:ext cx="2247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 in s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0" y="4673520"/>
            <a:ext cx="2793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te and wa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3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040" y="888840"/>
            <a:ext cx="5854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yperbole in the third 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7600" y="1816200"/>
            <a:ext cx="6311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s that her salads are very 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7600" y="2768760"/>
            <a:ext cx="7238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that her salads are filled with b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7600" y="3720960"/>
            <a:ext cx="5549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that her salads are soa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7600" y="4673520"/>
            <a:ext cx="6896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als that the speaker doesn't like sa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4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35040" y="888840"/>
            <a:ext cx="604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oet uses hyperbol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2560" y="1816200"/>
            <a:ext cx="419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600" y="1816200"/>
            <a:ext cx="1434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2560" y="276876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7600" y="2768760"/>
            <a:ext cx="99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2560" y="372096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7600" y="3720960"/>
            <a:ext cx="119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4673520"/>
            <a:ext cx="444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0" y="4673520"/>
            <a:ext cx="11048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734920" y="127080"/>
            <a:ext cx="1143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estion 5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2:38Z</dcterms:created>
  <dc:creator>schottw</dc:creator>
  <dc:description/>
  <dc:language>en-US</dc:language>
  <cp:lastModifiedBy>schottw</cp:lastModifiedBy>
  <dcterms:modified xsi:type="dcterms:W3CDTF">2008-03-18T20:22:40Z</dcterms:modified>
  <cp:revision>1</cp:revision>
  <dc:subject/>
  <dc:title>Slide 1</dc:title>
</cp:coreProperties>
</file>