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DD1-A43B-47F1-8B50-991A41C6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8ED-7E68-4F46-84B4-E8575E32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540-2B02-4028-A6B2-4A23504A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FCC-381B-4FFA-9B6B-672CDC66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600-1E0C-4985-8B17-B0F8C89F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D41-F133-4AB8-BD8C-EA569BB3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975-C1CA-4F43-B20C-5C896EA4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106-2FF2-47EE-86E1-A3A3E36D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451-640C-4B75-8B07-1428D53B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419-5182-4DDD-A109-53148133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E7A-6673-40A5-B4B8-4EA06353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C0D-11AD-49D8-9857-EA76D4A7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4900-8CDC-4D42-BB2D-EDE3BB72B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What continent is Greece 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Who was kidnapped by Hades and taken to the under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s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ers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 How did Cronos attempt to remain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 defeated his r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ate his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 asked his brother fo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 killed all of the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. Who is responsible for giving fire to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rometh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phae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. Who did not want man to receive f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rometh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 Who created wom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phaes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 Who opened the box which brought evil into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ers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osei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 What did Persephone eat in the under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Fried Chick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omegranate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Nec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mbro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. Who is Apollo’s sis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te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Pan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. What did King Midas wish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ability to turn whatever he touched into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Goo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. What made him change his mind about what he wish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is food turned into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fell into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e turned his daughter into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is son’s wings me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hat is the purpose of a my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To give the people something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To explain the marvels of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To give people stories to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To teach children about their anc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. Who was the greatest architect and inven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ing M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ca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aed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. What did Minos have Daedalus build the labyrinth to h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Thes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Minota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Centa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2. What did the inventor Daedalus build for his 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Flying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 m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 cas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. Who was Hercules’ 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te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lcm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. What did Hercules do to get the respect of herds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trangled a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Killed a serp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Killed his music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efeated the Hy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. What did Hera trick Hercules into d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ill his wife and two 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efeat the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ollow Virt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ttack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 Where did the most important Greek gods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t. Oly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Ita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Greek gods lived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o eventually conquered the Greeks and took their my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he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M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Troj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Ro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 Who is the king of the go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H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Cr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Who is the god of the s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Posei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Who is the god of w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Z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p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e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Who is the goddess of lo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phrod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Cu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th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e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8:30:56Z</dcterms:created>
  <dc:creator>AlthofB</dc:creator>
  <dc:description/>
  <dc:language>en-US</dc:language>
  <cp:lastModifiedBy>AlthofB</cp:lastModifiedBy>
  <dcterms:modified xsi:type="dcterms:W3CDTF">2007-02-01T19:56:35Z</dcterms:modified>
  <cp:revision>6</cp:revision>
  <dc:subject/>
  <dc:title>Slide 1</dc:title>
</cp:coreProperties>
</file>