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A24-124D-496B-9BC6-40E0FA40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E84-4D83-4A70-8B42-461FAE96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3D9-0994-43A0-B20B-3A72BB69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987-4467-4C1F-A549-84B133D7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111-C281-4BC6-9294-C97B7E0D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A61-7136-49A7-AEBC-D699FD98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1A7-7357-4388-8E3C-2D35DA48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BFB-B972-486E-BD58-39E2D6AD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8FA-581A-4B7C-9066-91238BE9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EA9-1396-4C3D-A4F9-2F472F5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4D4-3B3A-43CB-9434-B2CC8C19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635-E204-4A9A-A211-3FF6B51F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32BC-BCD2-44F6-BDDF-D579AB89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What continent is Greec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ho was kidnapped by Hades and taken to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ow did Cronos attempt to remain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defeated his r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ate hi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asked his brot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killed all of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ho is responsible for giving fire to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Who did not want man to receive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o created wom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Who opened the box which brought evil into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What did Persephone eat in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ried 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omegranate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mbro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 Who is Apollo’s si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at did King Midas wish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ability to turn whatever he touched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oo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at made him change his mind about what he wish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is food turned into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fell in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turned his daughter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is son’s wings me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is the purpose of a my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o give the people something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explain the marvel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To give people stories 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To teach children about their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Who was the greatest architect and inv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ng 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c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aed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What did Minos have Daedalus build the labyrinth to h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s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ino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en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did the inventor Daedalus build for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lyin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Who was Hercules’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c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 What did Hercules do to get the respect of herd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rangled 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illed a ser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illed his music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feated the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. What did Hera trick Hercules into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ll his wife and two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feat the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llow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ttack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Where did the most important Greek gods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t.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t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Greek gods liv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o eventually conquered the Greeks and took their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M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o is the king of the g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r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o is the god of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Who is the god of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Who is the goddess of l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phrod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30:56Z</dcterms:created>
  <dc:creator>AlthofB</dc:creator>
  <dc:description/>
  <dc:language>en-US</dc:language>
  <cp:lastModifiedBy>AlthofB</cp:lastModifiedBy>
  <dcterms:modified xsi:type="dcterms:W3CDTF">2007-02-01T19:56:35Z</dcterms:modified>
  <cp:revision>6</cp:revision>
  <dc:subject/>
  <dc:title>Slide 1</dc:title>
</cp:coreProperties>
</file>