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DEC-CDE4-4F9B-9B1C-89A183FA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4BD-2DB5-45A6-9A70-5487DC72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A91-D7BE-4680-A743-BBA70CBE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FE4-466C-4E8F-8E16-43C72D81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FF5-71C7-4C9E-9390-DC5B0D4B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187-CDB3-4B03-8E0C-3C5830E4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560-493D-4147-9648-B65CC5D1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1A9-BF4F-4726-B656-DC463FB3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24B-0ABE-47D2-AF48-6EECA207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D3A-6B47-4E70-9E40-51D56D69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860-3CC6-4F45-AE00-DAD2BE7B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5A1-3FD6-4210-96E7-A60BD635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549B-DF93-437E-96AB-728EBC68B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What continent is Greece 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Who was kidnapped by Hades and taken to the under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s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ers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 How did Cronos attempt to remain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 defeated his r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ate his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 asked his brother fo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 killed all of the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. Who is responsible for giving fire to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rometh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phae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. Who did not want man to receive f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rometh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 Who created wom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phae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 Who opened the box which brought evil into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ers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osei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 What did Persephone eat in the under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Fried Chick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omegranate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Nec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mbro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. Who is Apollo’s sis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te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. What did King Midas wish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ability to turn whatever he touched into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Goo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. What made him change his mind about what he wish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is food turned into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fell into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 turned his daughter into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is son’s wings me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hat is the purpose of a my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To give the people something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To explain the marvels of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To give people stories to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To teach children about their anc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. Who was the greatest architect and inven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ing M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ca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aed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. What did Minos have Daedalus build the labyrinth to h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Thes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Minota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Centa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2. What did the inventor Daedalus build for his 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Flying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 m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. Who was Hercules’ 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te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lcm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. What did Hercules do to get the respect of herds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trangled a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Killed a serp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Killed his music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efeated the Hy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. What did Hera trick Hercules into d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ill his wife and two 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feat the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ollow Virt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ttack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 Where did the most important Greek gods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t. Oly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Ita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Greek gods lived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o eventually conquered the Greeks and took their my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he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M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Troj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Ro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 Who is the king of the go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H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Cr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Who is the god of the s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osei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Who is the god of w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Who is the goddess of lo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phrod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Cu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8:30:56Z</dcterms:created>
  <dc:creator>AlthofB</dc:creator>
  <dc:description/>
  <dc:language>en-US</dc:language>
  <cp:lastModifiedBy>AlthofB</cp:lastModifiedBy>
  <dcterms:modified xsi:type="dcterms:W3CDTF">2007-02-01T19:56:35Z</dcterms:modified>
  <cp:revision>6</cp:revision>
  <dc:subject/>
  <dc:title>Slide 1</dc:title>
</cp:coreProperties>
</file>