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FA8F-7342-4A70-8500-B1E5AF34E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CC3F-5572-4373-8A20-79C464202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7D17-A256-4333-AC54-4EEB7A4D2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E4D1-0A35-45F4-BCB3-3E140A003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558C-773A-4820-A088-241B5A83B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1BB2-E53A-412C-BBC6-00A73B064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C456-8E9E-45D3-A3DA-FA3717EF7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C3F0-1F3D-4D56-9ABA-484154683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FAD7-9971-4884-B484-C23320E64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5EDB-8134-4317-B15A-BFB66D0DC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B3F8-C592-435A-8638-5FE72E78E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2413-9ACB-483A-9F54-2885E7CE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6DE4F-CBFC-43FD-BB79-8486D6E6E1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What continent is Greece 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a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h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. Who was kidnapped by Hades and taken to the under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Hest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De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Ath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Perseph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1. How did Cronos attempt to remain k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He defeated his riv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He ate his child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He asked his brother for he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He killed all of the go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2. Who is responsible for giving fire to m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 Z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Prometh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Pand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Hephaes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3. Who did not want man to receive fi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Z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Pand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Prometh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H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4. Who created wom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 Ze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Pand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Her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Hephaes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. Who opened the box which brought evil into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Pand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Perseph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De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Poseid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6. What did Persephone eat in the under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Fried Chick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Pomegranate s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Nec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Ambro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7. Who is Apollo’s sist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Ath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Artem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De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Pand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8. What did King Midas wish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g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the ability to turn whatever he touched into g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Good 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A daugh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9. What made him change his mind about what he wishe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His food turned into g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He fell into the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He turned his daughter into g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His son’s wings mel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What is the purpose of a my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 To give the people something to worsh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 To explain the marvels of na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 To give people stories to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 To teach children about their ances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. Who was the greatest architect and invent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King Mi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Ica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Apol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Daeda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1. What did Minos have Daedalus build the labyrinth to hol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 Thes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 Minota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 Centa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 P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2. What did the inventor Daedalus build for his 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W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Flying Sh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A ma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A cas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3. Who was Hercules’ mo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H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Ath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Artem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Alcm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4. What did Hercules do to get the respect of herdsm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Strangled a l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Killed a serp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Killed his music teac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Defeated the Hyd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5. What did Hera trick Hercules into do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Kill his wife and two s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Defeat the l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Follow Virt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Attack Z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 Where did the most important Greek gods li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Mt. Olym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Ath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R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Ita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-762120" algn="ctr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many Greek gods lived the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 Who eventually conquered the Greeks and took their myth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The Fren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The M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The Troj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The Rom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.  Who is the king of the god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 Z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 H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 Cro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 Apol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. Who is the god of the se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Her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Poseid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Z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. Who is the god of wa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Z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Apol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Her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9. Who is the goddess of lo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Aphrod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Cup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Ath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De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8:30:56Z</dcterms:created>
  <dc:creator>AlthofB</dc:creator>
  <dc:description/>
  <dc:language>en-US</dc:language>
  <cp:lastModifiedBy>AlthofB</cp:lastModifiedBy>
  <dcterms:modified xsi:type="dcterms:W3CDTF">2007-02-01T19:56:35Z</dcterms:modified>
  <cp:revision>6</cp:revision>
  <dc:subject/>
  <dc:title>Slide 1</dc:title>
</cp:coreProperties>
</file>